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027-9FC4-4262-BF26-D63B3A98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A77-6D5A-49CC-9B13-1A12AB1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5CE-B69D-4BD0-8D12-395B3261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08A-6462-4A02-A593-15EEC737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320-B0DE-47BC-8B55-047555F9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35A5-BE04-471D-8111-91C97E56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CF6-F4A5-44EA-A898-54D3D128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102E-2B12-41CF-9C1A-4FB9E656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4BBC-E080-4496-865D-855ED4A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D2CF-0A6B-4839-95FE-E95BA8F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BFB-3FFD-475F-ADBC-36CA122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F5E-78C4-45D0-B552-962470C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5E2D-A3F6-4C78-8B43-12D5778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E4AA-AB25-4225-8E1C-AE35C7A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665D-7787-45CA-8FE7-5D6C20B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A232-F2D1-4A86-80F1-8F7A2F9E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4E94-0276-4757-B951-93AC30A0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C01-806E-44A0-ABD3-63C6CE66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F97-1566-461C-8B0A-48E7DCAA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3F8-D2FF-433A-94FB-D7CF109C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F16-4228-491F-82A2-5DFFFFA3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10E-25A4-4EAA-9DDC-C7339305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C9C-E525-49E2-8893-B0C2AF0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3D6-85B6-4A94-9458-3E61724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7C72-8FA6-4EB7-BFA7-52A447EC5F89}" type="datetime">
              <a:rPr b="0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166-CF72-4486-AF45-4ADB91AB6A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3618-1774-4E8D-8B84-BD47870CCDD9}" type="datetime">
              <a:rPr b="0" sz="1200" spc="-1" strike="noStrike">
                <a:solidFill>
                  <a:srgbClr val="898989"/>
                </a:solidFill>
                <a:latin typeface="Calibri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4E94-B0D4-4C3F-9FEE-75CA316097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mmonhealth.com.tw/content/093/image/093262.jpg&amp;imgrefurl=http://www.commonhealth.com.tw/content/093/093262.asp&amp;h=221&amp;w=250&amp;sz=27&amp;hl=zh-CN&amp;start=2&amp;tbnid=9-VxULo_5snZQM:&amp;tbnh=98&amp;tbnw=111&amp;prev=/images%3Fq%3D%25E7%2597%2585%25E4%25BA%25BA%26gbv%3D2%26ndsp%3D18%26svnum%3D10%26hl%3Dzh-CN%26newwindow%3D1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8"/>
          <p:cNvSpPr/>
          <p:nvPr/>
        </p:nvSpPr>
        <p:spPr>
          <a:xfrm>
            <a:off x="257040" y="0"/>
            <a:ext cx="4572000" cy="68580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870840" y="2521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单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1"/>
          <p:cNvSpPr/>
          <p:nvPr/>
        </p:nvSpPr>
        <p:spPr>
          <a:xfrm>
            <a:off x="388296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5"/>
          <p:cNvSpPr/>
          <p:nvPr/>
        </p:nvSpPr>
        <p:spPr>
          <a:xfrm>
            <a:off x="388296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4791240" y="19018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4776840" y="4508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护理程序的步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F28-8D52-4AF5-A714-B5A49C0461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2"/>
          <p:cNvGrpSpPr/>
          <p:nvPr/>
        </p:nvGrpSpPr>
        <p:grpSpPr>
          <a:xfrm>
            <a:off x="890640" y="1670040"/>
            <a:ext cx="10426680" cy="3897360"/>
            <a:chOff x="890640" y="1670040"/>
            <a:chExt cx="10426680" cy="3897360"/>
          </a:xfrm>
        </p:grpSpPr>
        <p:sp>
          <p:nvSpPr>
            <p:cNvPr id="197" name="矩形 16"/>
            <p:cNvSpPr/>
            <p:nvPr/>
          </p:nvSpPr>
          <p:spPr>
            <a:xfrm>
              <a:off x="890640" y="167004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9"/>
            <p:cNvSpPr/>
            <p:nvPr/>
          </p:nvSpPr>
          <p:spPr>
            <a:xfrm>
              <a:off x="1014120" y="180324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步骤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2"/>
          <p:cNvGrpSpPr/>
          <p:nvPr/>
        </p:nvGrpSpPr>
        <p:grpSpPr>
          <a:xfrm>
            <a:off x="890640" y="1670040"/>
            <a:ext cx="10426680" cy="3897360"/>
            <a:chOff x="890640" y="1670040"/>
            <a:chExt cx="10426680" cy="3897360"/>
          </a:xfrm>
        </p:grpSpPr>
        <p:sp>
          <p:nvSpPr>
            <p:cNvPr id="207" name="矩形 16"/>
            <p:cNvSpPr/>
            <p:nvPr/>
          </p:nvSpPr>
          <p:spPr>
            <a:xfrm>
              <a:off x="890640" y="167004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9"/>
            <p:cNvSpPr/>
            <p:nvPr/>
          </p:nvSpPr>
          <p:spPr>
            <a:xfrm>
              <a:off x="1014120" y="180324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Oval 4"/>
          <p:cNvSpPr/>
          <p:nvPr/>
        </p:nvSpPr>
        <p:spPr>
          <a:xfrm>
            <a:off x="3087720" y="2166840"/>
            <a:ext cx="2097000" cy="374760"/>
          </a:xfrm>
          <a:prstGeom prst="ellipse">
            <a:avLst/>
          </a:prstGeom>
          <a:solidFill>
            <a:srgbClr val="5b9bd5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诊 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6967440" y="2184480"/>
            <a:ext cx="2143080" cy="374400"/>
          </a:xfrm>
          <a:prstGeom prst="ellipse">
            <a:avLst/>
          </a:prstGeom>
          <a:solidFill>
            <a:srgbClr val="5b9bd5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实 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5018040" y="2166840"/>
            <a:ext cx="2097000" cy="374760"/>
          </a:xfrm>
          <a:prstGeom prst="ellipse">
            <a:avLst/>
          </a:prstGeom>
          <a:solidFill>
            <a:srgbClr val="5b9bd5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计 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2496960" y="3059280"/>
            <a:ext cx="676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9"/>
          <p:cNvSpPr/>
          <p:nvPr/>
        </p:nvSpPr>
        <p:spPr>
          <a:xfrm flipV="1">
            <a:off x="2496960" y="268416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0"/>
          <p:cNvSpPr/>
          <p:nvPr/>
        </p:nvSpPr>
        <p:spPr>
          <a:xfrm flipV="1">
            <a:off x="4292640" y="267444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11"/>
          <p:cNvSpPr/>
          <p:nvPr/>
        </p:nvSpPr>
        <p:spPr>
          <a:xfrm flipV="1">
            <a:off x="6203880" y="266184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8153280" y="271620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1512720" y="3273480"/>
            <a:ext cx="20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收集资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整理分析资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记录资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3459240" y="337356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确定护理诊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规范陈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416560" y="3371760"/>
            <a:ext cx="185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排列护理        诊断顺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确定护理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制定护理措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构成护理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7361280" y="3330720"/>
            <a:ext cx="212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实施前准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执行护理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完成护理记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9512280" y="3330720"/>
            <a:ext cx="1509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收集资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判断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分析原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修订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163520" y="2158920"/>
            <a:ext cx="2089440" cy="374760"/>
          </a:xfrm>
          <a:prstGeom prst="ellipse">
            <a:avLst/>
          </a:prstGeom>
          <a:solidFill>
            <a:srgbClr val="5b9bd5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评 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8928000" y="2201760"/>
            <a:ext cx="2143080" cy="357120"/>
          </a:xfrm>
          <a:prstGeom prst="ellipse">
            <a:avLst/>
          </a:prstGeom>
          <a:solidFill>
            <a:srgbClr val="5b9bd5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评 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接连接符 9307"/>
          <p:cNvSpPr/>
          <p:nvPr/>
        </p:nvSpPr>
        <p:spPr>
          <a:xfrm>
            <a:off x="9282240" y="3049560"/>
            <a:ext cx="177480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10171080" y="26812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28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25"/>
          <p:cNvSpPr/>
          <p:nvPr/>
        </p:nvSpPr>
        <p:spPr>
          <a:xfrm>
            <a:off x="1355760" y="2228760"/>
            <a:ext cx="950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收集资料的目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为做出正确的护理诊断提供依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为制定护理计划提供依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为评价护理效果提供依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为护理科研积累资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41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25"/>
          <p:cNvSpPr/>
          <p:nvPr/>
        </p:nvSpPr>
        <p:spPr>
          <a:xfrm>
            <a:off x="1079640" y="2228760"/>
            <a:ext cx="101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资料的来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直接来源　患者是资料的主要来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间接来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与患者有关的人员，如亲属、朋友、同事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其他健康保健人员，如医师、营养师、心理医师或其他护理人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患者个人的医疗文件，如病案记录、实验室检查报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医疗和护理的有关文献资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54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25"/>
          <p:cNvSpPr/>
          <p:nvPr/>
        </p:nvSpPr>
        <p:spPr>
          <a:xfrm>
            <a:off x="1079640" y="2228760"/>
            <a:ext cx="101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资料的分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主观资料：是护理对象对其健康状况感受的描述，即护理对象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主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客观资料：是护理人员通过观察、体格检查或借助医疗仪器和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验室检查所获得的资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"/>
          <p:cNvGrpSpPr/>
          <p:nvPr/>
        </p:nvGrpSpPr>
        <p:grpSpPr>
          <a:xfrm>
            <a:off x="812880" y="1747800"/>
            <a:ext cx="10426680" cy="3897360"/>
            <a:chOff x="812880" y="1747800"/>
            <a:chExt cx="10426680" cy="3897360"/>
          </a:xfrm>
        </p:grpSpPr>
        <p:sp>
          <p:nvSpPr>
            <p:cNvPr id="267" name="矩形 16"/>
            <p:cNvSpPr/>
            <p:nvPr/>
          </p:nvSpPr>
          <p:spPr>
            <a:xfrm>
              <a:off x="812880" y="174780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9"/>
            <p:cNvSpPr/>
            <p:nvPr/>
          </p:nvSpPr>
          <p:spPr>
            <a:xfrm>
              <a:off x="936360" y="188100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25"/>
          <p:cNvSpPr/>
          <p:nvPr/>
        </p:nvSpPr>
        <p:spPr>
          <a:xfrm>
            <a:off x="1079640" y="2228760"/>
            <a:ext cx="101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资料的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 患者的一般资料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 现在健康状况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 既往健康状况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 家族史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 护理体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1246320" y="140652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30062"/>
          <p:cNvSpPr/>
          <p:nvPr/>
        </p:nvSpPr>
        <p:spPr>
          <a:xfrm>
            <a:off x="5173560" y="2617920"/>
            <a:ext cx="555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6 )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最近的实验室及其他检查的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7 )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目前治疗和用药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8 )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心理方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9 )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社会方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81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25"/>
          <p:cNvSpPr/>
          <p:nvPr/>
        </p:nvSpPr>
        <p:spPr>
          <a:xfrm>
            <a:off x="1004760" y="2097000"/>
            <a:ext cx="1031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. 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收集资料的方法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1)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视觉观察</a:t>
            </a: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是通过视觉观察病情、了解护理对象一般情况的一种检查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触觉观察：</a:t>
            </a: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是通过手的感觉来判断病人某些器官或组织的物理特征的一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</a:t>
            </a: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检查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听觉观察：</a:t>
            </a: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通过听觉辨别护理对象的各种声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嗅觉观察：</a:t>
            </a: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是通过嗅觉辨别发自护理对象体表、呼吸道、胃肠道或呕吐物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</a:t>
            </a: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排泄物等的异常气味，以判断疾病的性质和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94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25"/>
          <p:cNvSpPr/>
          <p:nvPr/>
        </p:nvSpPr>
        <p:spPr>
          <a:xfrm>
            <a:off x="1079640" y="2228760"/>
            <a:ext cx="101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收集资料的方法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交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交谈方式：正式交谈和非正式交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问方式：开放式和封闭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07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25"/>
          <p:cNvSpPr/>
          <p:nvPr/>
        </p:nvSpPr>
        <p:spPr>
          <a:xfrm>
            <a:off x="1079640" y="2068560"/>
            <a:ext cx="101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交谈注意事项：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1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选择安静、舒适、不受干扰、有利于谈话的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2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说明交谈的目的及需要的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3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引导护理对象抓住交谈的主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4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不要随意打断对方的话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5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注意倾听，适当使用非语言沟通技巧，如点头、会意的微笑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6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避免使用护理对象难以理解的医学术语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避免暗示性和刺激性的提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7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对象在极度痛苦或不舒适时，不宜交谈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8)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交谈结束时，做一次小结，并征求患者意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20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25"/>
          <p:cNvSpPr/>
          <p:nvPr/>
        </p:nvSpPr>
        <p:spPr>
          <a:xfrm>
            <a:off x="1033560" y="2238480"/>
            <a:ext cx="10287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收集资料的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护理体检：是收集客观资料的方法之一。是护士运用视、触、叩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听等方法，对护理对象生命体征及身体各系统进行的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查阅资料：查阅患者的病历、各种医疗与护理记录及有关文献资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收集资料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33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25"/>
          <p:cNvSpPr/>
          <p:nvPr/>
        </p:nvSpPr>
        <p:spPr>
          <a:xfrm>
            <a:off x="1079640" y="2228760"/>
            <a:ext cx="102409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资料分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按马斯洛的需要层次论分类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个层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按戈登的健康型态分类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个功能性健康形态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按北美护理诊断协会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NANDA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的人类反应型态分类：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1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个范畴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17"/>
          <p:cNvSpPr/>
          <p:nvPr/>
        </p:nvSpPr>
        <p:spPr>
          <a:xfrm>
            <a:off x="1149480" y="143820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整理分析资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9"/>
          <p:cNvSpPr/>
          <p:nvPr/>
        </p:nvSpPr>
        <p:spPr>
          <a:xfrm>
            <a:off x="3219480" y="1832040"/>
            <a:ext cx="5587920" cy="3068640"/>
          </a:xfrm>
          <a:custGeom>
            <a:avLst/>
            <a:gdLst>
              <a:gd name="textAreaLeft" fmla="*/ 0 w 5587920"/>
              <a:gd name="textAreaRight" fmla="*/ 5588280 w 5587920"/>
              <a:gd name="textAreaTop" fmla="*/ 0 h 3068640"/>
              <a:gd name="textAreaBottom" fmla="*/ 3069000 h 3068640"/>
            </a:gdLst>
            <a:ahLst/>
            <a:rect l="textAreaLeft" t="textAreaTop" r="textAreaRight" b="textAreaBottom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juxing1"/>
          <p:cNvSpPr/>
          <p:nvPr/>
        </p:nvSpPr>
        <p:spPr>
          <a:xfrm>
            <a:off x="3227400" y="1805040"/>
            <a:ext cx="5597640" cy="125244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juxing2"/>
          <p:cNvSpPr/>
          <p:nvPr/>
        </p:nvSpPr>
        <p:spPr>
          <a:xfrm>
            <a:off x="3173400" y="3594240"/>
            <a:ext cx="5597640" cy="125388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3567240" y="213048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了解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理论基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3576600" y="3967200"/>
            <a:ext cx="52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7A35-DF5C-4C40-933E-D80CCD440E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46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25"/>
          <p:cNvSpPr/>
          <p:nvPr/>
        </p:nvSpPr>
        <p:spPr>
          <a:xfrm>
            <a:off x="2049480" y="2193840"/>
            <a:ext cx="675324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马斯洛的需要层次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生理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安全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爱与归属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尊重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自我实现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17"/>
          <p:cNvSpPr/>
          <p:nvPr/>
        </p:nvSpPr>
        <p:spPr>
          <a:xfrm>
            <a:off x="1149480" y="143820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整理分析资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2"/>
          <p:cNvGrpSpPr/>
          <p:nvPr/>
        </p:nvGrpSpPr>
        <p:grpSpPr>
          <a:xfrm>
            <a:off x="892080" y="1677960"/>
            <a:ext cx="10426680" cy="3897360"/>
            <a:chOff x="892080" y="1677960"/>
            <a:chExt cx="10426680" cy="3897360"/>
          </a:xfrm>
        </p:grpSpPr>
        <p:sp>
          <p:nvSpPr>
            <p:cNvPr id="359" name="矩形 16"/>
            <p:cNvSpPr/>
            <p:nvPr/>
          </p:nvSpPr>
          <p:spPr>
            <a:xfrm>
              <a:off x="89208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9"/>
            <p:cNvSpPr/>
            <p:nvPr/>
          </p:nvSpPr>
          <p:spPr>
            <a:xfrm>
              <a:off x="101556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角三角形 20"/>
          <p:cNvSpPr/>
          <p:nvPr/>
        </p:nvSpPr>
        <p:spPr>
          <a:xfrm flipH="1" flipV="1" rot="10800000">
            <a:off x="861696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25"/>
          <p:cNvSpPr/>
          <p:nvPr/>
        </p:nvSpPr>
        <p:spPr>
          <a:xfrm>
            <a:off x="1371600" y="2238480"/>
            <a:ext cx="35211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戈登的健康型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健康感知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健康管理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营养代谢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排泄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活动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运动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睡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休息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认知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感知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7"/>
          <p:cNvSpPr/>
          <p:nvPr/>
        </p:nvSpPr>
        <p:spPr>
          <a:xfrm>
            <a:off x="1190520" y="135576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整理分析资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140302"/>
          <p:cNvSpPr/>
          <p:nvPr/>
        </p:nvSpPr>
        <p:spPr>
          <a:xfrm>
            <a:off x="5764320" y="2646360"/>
            <a:ext cx="50562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自我感知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自我概念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角色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关系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应对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应激耐受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性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生殖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价值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信念型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73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25"/>
          <p:cNvSpPr/>
          <p:nvPr/>
        </p:nvSpPr>
        <p:spPr>
          <a:xfrm>
            <a:off x="1220760" y="2408400"/>
            <a:ext cx="826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北美护理诊断协会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NANDA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的人类反应形态分类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促进健康、营养、排泄、活动</a:t>
            </a: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休息、感知</a:t>
            </a: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认知、自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感知、角色关系、性</a:t>
            </a: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生殖、应对</a:t>
            </a: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应激耐受性、生活准则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安全</a:t>
            </a: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防御、舒适、成长</a:t>
            </a: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7"/>
          <p:cNvSpPr/>
          <p:nvPr/>
        </p:nvSpPr>
        <p:spPr>
          <a:xfrm>
            <a:off x="1149480" y="143820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整理分析资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86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25"/>
          <p:cNvSpPr/>
          <p:nvPr/>
        </p:nvSpPr>
        <p:spPr>
          <a:xfrm>
            <a:off x="1079640" y="2228760"/>
            <a:ext cx="102409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复查核实资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 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筛选资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剔除对健康无意义或无关的部分，以利于集中注意要解决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 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分析资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发现异常，找出相关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整理分析资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399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5"/>
          <p:cNvSpPr/>
          <p:nvPr/>
        </p:nvSpPr>
        <p:spPr>
          <a:xfrm>
            <a:off x="1079640" y="2228760"/>
            <a:ext cx="102409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记录资料要注意的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记录应做到及时、客观、真实、准确、完整，避免错别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主观资料尽量用病人的原话，并加上引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客观资料要求使用医学术语，描述应具体、确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记录时避免使用“好、坏、佳、尚可、正常、增加、严重”等无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衡量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记录资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412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25"/>
          <p:cNvSpPr/>
          <p:nvPr/>
        </p:nvSpPr>
        <p:spPr>
          <a:xfrm>
            <a:off x="1089000" y="2577960"/>
            <a:ext cx="9561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北美护理诊断协会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NANDA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在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990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年提出并通过的定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护理诊断是关于个人、家庭、社区对现存的或潜在的健康问题及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命过程中问题的反应的一种临床判断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定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425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文本框 25"/>
          <p:cNvSpPr/>
          <p:nvPr/>
        </p:nvSpPr>
        <p:spPr>
          <a:xfrm>
            <a:off x="1041480" y="2652840"/>
            <a:ext cx="9410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目前经常使用的分类方法是按北美护理诊断协会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NANDA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人类反应形态分类法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Ⅱ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诊断性分类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类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7"/>
          <p:cNvSpPr/>
          <p:nvPr/>
        </p:nvSpPr>
        <p:spPr>
          <a:xfrm>
            <a:off x="125568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分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438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25"/>
          <p:cNvSpPr/>
          <p:nvPr/>
        </p:nvSpPr>
        <p:spPr>
          <a:xfrm>
            <a:off x="1068480" y="2122560"/>
            <a:ext cx="1024092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名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名称是针对护理对象健康问题或生命过程中反应的概括性的描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现存的：目前已存在的健康问题。如“体温过高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危险的（潜在的）：现在没有发生，但有危险因素存在，若不采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措施，就会在将来发生。如“有受伤的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险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健康的：个人、家庭或社区从特定的健康水平向更高的健康水平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展的护理诊断，如“执行治疗发案有效”。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451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25"/>
          <p:cNvSpPr/>
          <p:nvPr/>
        </p:nvSpPr>
        <p:spPr>
          <a:xfrm>
            <a:off x="1079640" y="2228760"/>
            <a:ext cx="1024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定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定义是对护理诊断名称的一种清晰、正确的描述和解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如：“清理呼吸道无效”定义为：个体不能清除呼吸道分泌物或堵塞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使呼吸道保持通畅的状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464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25"/>
          <p:cNvSpPr/>
          <p:nvPr/>
        </p:nvSpPr>
        <p:spPr>
          <a:xfrm>
            <a:off x="1079640" y="2228760"/>
            <a:ext cx="102409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诊断依据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　诊断依据是做出护理诊断的临床判断标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主要依据：为护理诊断成立的必要条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次要依据：对护理诊断的形成起支持作用，是护理诊断成立的辅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条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0" y="2376360"/>
            <a:ext cx="1866960" cy="101628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6"/>
          <p:cNvSpPr/>
          <p:nvPr/>
        </p:nvSpPr>
        <p:spPr>
          <a:xfrm>
            <a:off x="0" y="3392640"/>
            <a:ext cx="1866960" cy="101592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7"/>
          <p:cNvSpPr/>
          <p:nvPr/>
        </p:nvSpPr>
        <p:spPr>
          <a:xfrm>
            <a:off x="1866960" y="1982880"/>
            <a:ext cx="2031840" cy="1409760"/>
          </a:xfrm>
          <a:custGeom>
            <a:avLst/>
            <a:gdLst/>
            <a:ahLst/>
            <a:rect l="l" t="t" r="r" b="b"/>
            <a:pathLst>
              <a:path w="2146300" h="1409700">
                <a:moveTo>
                  <a:pt x="0" y="393700"/>
                </a:moveTo>
                <a:lnTo>
                  <a:pt x="2146300" y="0"/>
                </a:lnTo>
                <a:lnTo>
                  <a:pt x="2146300" y="1409700"/>
                </a:lnTo>
                <a:lnTo>
                  <a:pt x="0" y="1409700"/>
                </a:lnTo>
                <a:lnTo>
                  <a:pt x="0" y="393700"/>
                </a:lnTo>
                <a:close/>
              </a:path>
            </a:pathLst>
          </a:custGeom>
          <a:solidFill>
            <a:srgbClr val="307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8"/>
          <p:cNvSpPr/>
          <p:nvPr/>
        </p:nvSpPr>
        <p:spPr>
          <a:xfrm>
            <a:off x="1866960" y="3392640"/>
            <a:ext cx="2036880" cy="1527120"/>
          </a:xfrm>
          <a:custGeom>
            <a:avLst/>
            <a:gdLst/>
            <a:ahLst/>
            <a:rect l="l" t="t" r="r" b="b"/>
            <a:pathLst>
              <a:path w="2152006" h="1527175">
                <a:moveTo>
                  <a:pt x="0" y="0"/>
                </a:moveTo>
                <a:lnTo>
                  <a:pt x="2146300" y="0"/>
                </a:lnTo>
                <a:lnTo>
                  <a:pt x="2152006" y="1527175"/>
                </a:lnTo>
                <a:lnTo>
                  <a:pt x="0" y="1016000"/>
                </a:lnTo>
                <a:lnTo>
                  <a:pt x="0" y="0"/>
                </a:lnTo>
                <a:close/>
              </a:path>
            </a:pathLst>
          </a:custGeom>
          <a:solidFill>
            <a:srgbClr val="20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9"/>
          <p:cNvSpPr/>
          <p:nvPr/>
        </p:nvSpPr>
        <p:spPr>
          <a:xfrm>
            <a:off x="3898800" y="1982880"/>
            <a:ext cx="7291440" cy="140976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0"/>
          <p:cNvSpPr/>
          <p:nvPr/>
        </p:nvSpPr>
        <p:spPr>
          <a:xfrm>
            <a:off x="3898800" y="3392640"/>
            <a:ext cx="7291440" cy="152388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381560" y="34988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护理程序的理论基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4381560" y="20257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护理程序的概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"/>
          <p:cNvSpPr/>
          <p:nvPr/>
        </p:nvSpPr>
        <p:spPr>
          <a:xfrm>
            <a:off x="2025720" y="249876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2025720" y="363852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477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5"/>
          <p:cNvSpPr/>
          <p:nvPr/>
        </p:nvSpPr>
        <p:spPr>
          <a:xfrm>
            <a:off x="1079640" y="2228760"/>
            <a:ext cx="1026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相关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相关因素是导致护理对象出现健康问题的直接因素、促发因素或危险因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常见的相关因素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病理生理方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治疗方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情境方面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年龄方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490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25"/>
          <p:cNvSpPr/>
          <p:nvPr/>
        </p:nvSpPr>
        <p:spPr>
          <a:xfrm>
            <a:off x="1079640" y="2228760"/>
            <a:ext cx="1026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诊断组成举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名称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腹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定义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个体排便次数增多，大便不成形或排出松散、水样便的状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诊断依据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主要依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便次增多（＞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次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日）；松散、水样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次要依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腹痛、肠鸣音亢进；大便量增多及颜色变化；有里急后重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503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25"/>
          <p:cNvSpPr/>
          <p:nvPr/>
        </p:nvSpPr>
        <p:spPr>
          <a:xfrm>
            <a:off x="1079640" y="2228760"/>
            <a:ext cx="1026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诊断组成举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相关因素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病理生理因素  胃肠道疾病；内分泌代谢性疾病；营养性疾病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治疗因素  药物副反应；管喂饮食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情境因素  饮食改变；环境改变；焦虑及应激状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年龄因素  婴幼儿生理性腹泻；辅食添加不当；老年人胃肠及括约肌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减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516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25"/>
          <p:cNvSpPr/>
          <p:nvPr/>
        </p:nvSpPr>
        <p:spPr>
          <a:xfrm>
            <a:off x="1079640" y="2228760"/>
            <a:ext cx="89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简称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SE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公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 (problem)—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诊断的名称即健康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S (signs and symptoms)—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症状和体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E (etiology)—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相关因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四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陈述方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529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25"/>
          <p:cNvSpPr/>
          <p:nvPr/>
        </p:nvSpPr>
        <p:spPr>
          <a:xfrm>
            <a:off x="1079640" y="2228760"/>
            <a:ext cx="1026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三部分陈述（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多用于现存的护理诊断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例如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焦虑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烦躁不安、失眠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与身体健康受到威胁有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                S                           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二部分陈述（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多用于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危险的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护理诊断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例如： 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有皮肤完整性受损的危险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与长期卧床有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                               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一部分陈述（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用于健康的护理诊断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例如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母乳喂养有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　　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四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的陈述方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542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25"/>
          <p:cNvSpPr/>
          <p:nvPr/>
        </p:nvSpPr>
        <p:spPr>
          <a:xfrm>
            <a:off x="1079640" y="2228760"/>
            <a:ext cx="1026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应使用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NANDA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认可的护理诊断名称，书写准确、规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一项护理诊断针对一个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避免与护理目标、护理措施、医疗诊断相混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以收集资料作为诊断依据，有利于制定护理计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确定的问题是护理措施能够解决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6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应贯彻整体护理的原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7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知识缺乏应描述为“知识缺乏：缺乏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……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面的知识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8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护理诊断不应有易引起法律纠纷的描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五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书写护理诊断的注意事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"/>
          <p:cNvGrpSpPr/>
          <p:nvPr/>
        </p:nvGrpSpPr>
        <p:grpSpPr>
          <a:xfrm>
            <a:off x="882720" y="1690560"/>
            <a:ext cx="10426680" cy="4262400"/>
            <a:chOff x="882720" y="1690560"/>
            <a:chExt cx="10426680" cy="4262400"/>
          </a:xfrm>
        </p:grpSpPr>
        <p:sp>
          <p:nvSpPr>
            <p:cNvPr id="555" name="矩形 16"/>
            <p:cNvSpPr/>
            <p:nvPr/>
          </p:nvSpPr>
          <p:spPr>
            <a:xfrm>
              <a:off x="882720" y="1690560"/>
              <a:ext cx="10426680" cy="426240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19"/>
            <p:cNvSpPr/>
            <p:nvPr/>
          </p:nvSpPr>
          <p:spPr>
            <a:xfrm>
              <a:off x="1006200" y="1836360"/>
              <a:ext cx="10101240" cy="397080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5"/>
          <p:cNvSpPr/>
          <p:nvPr/>
        </p:nvSpPr>
        <p:spPr>
          <a:xfrm>
            <a:off x="1079640" y="2228760"/>
            <a:ext cx="1026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六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与医疗诊断的区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92400" y="2057400"/>
          <a:ext cx="9531000" cy="3292560"/>
        </p:xfrm>
        <a:graphic>
          <a:graphicData uri="http://schemas.openxmlformats.org/drawingml/2006/table">
            <a:tbl>
              <a:tblPr/>
              <a:tblGrid>
                <a:gridCol w="1314360"/>
                <a:gridCol w="4709880"/>
                <a:gridCol w="3506760"/>
              </a:tblGrid>
              <a:tr h="33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区别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诊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医疗诊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研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对个人、家庭、社区现存的或潜在的健康问题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生命过程问题的反应的一种临床判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对个体病理生理变化的一种临床判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问题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现存的或潜在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多是现存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数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可同时有多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一个疾病一种诊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稳定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随患者反应的变化而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在疾病过程中保持不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决策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人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医疗人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解决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干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药物、手术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陈述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PSE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公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特点的疾病名称或专有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举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胸痛：与心肌缺氧、缺血有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冠心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569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5"/>
          <p:cNvSpPr/>
          <p:nvPr/>
        </p:nvSpPr>
        <p:spPr>
          <a:xfrm>
            <a:off x="1079640" y="2228760"/>
            <a:ext cx="1002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合作性问题的概念 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医护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合作性问题是指护士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与其他医务人员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共同合作才能解决的问题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多指由于各种原因造成的或可能造成的生理上的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潜在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并发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合作性问题的陈述方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即“潜在并发症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otential complication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：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××××”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或简写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“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××××”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合作性问题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工作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重点在于监测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问题的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发生和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发展，并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与其他医务人员合作共同处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1"/>
          <p:cNvSpPr/>
          <p:nvPr/>
        </p:nvSpPr>
        <p:spPr>
          <a:xfrm>
            <a:off x="1525680" y="1409760"/>
            <a:ext cx="699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七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医护合作性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582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25"/>
          <p:cNvSpPr/>
          <p:nvPr/>
        </p:nvSpPr>
        <p:spPr>
          <a:xfrm>
            <a:off x="1079640" y="2228760"/>
            <a:ext cx="1026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21"/>
          <p:cNvSpPr/>
          <p:nvPr/>
        </p:nvSpPr>
        <p:spPr>
          <a:xfrm>
            <a:off x="1525680" y="1409760"/>
            <a:ext cx="699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八）</a:t>
            </a:r>
            <a:r>
              <a:rPr b="1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诊断与医护合作性问题的区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079640" y="2144880"/>
          <a:ext cx="9847080" cy="3189240"/>
        </p:xfrm>
        <a:graphic>
          <a:graphicData uri="http://schemas.openxmlformats.org/drawingml/2006/table">
            <a:tbl>
              <a:tblPr/>
              <a:tblGrid>
                <a:gridCol w="1488960"/>
                <a:gridCol w="3757680"/>
                <a:gridCol w="46004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医护合作性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人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医生于护士合作处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措施   的原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减轻、消除、预防、排除、促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重点在于监测并发症的发生和病情的变化，为诊断、治疗提供依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陈述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冠心病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胸痛：与心肌缺氧、缺血有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潜在并发症：心律失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预期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需要为患者确定预期结果，作为评价护理效果的标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不需要确定预期结果，</a:t>
                      </a: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因其不是护理职责范围内能单独解决的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557280" y="790560"/>
            <a:ext cx="58428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066680" y="790560"/>
            <a:ext cx="438120" cy="4748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22160" y="1212840"/>
            <a:ext cx="56196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1214280" y="1212840"/>
            <a:ext cx="492120" cy="47484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69920" y="1139760"/>
            <a:ext cx="7459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1015920" y="682560"/>
            <a:ext cx="4284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590400" y="1473120"/>
            <a:ext cx="1096812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1535040" y="790560"/>
            <a:ext cx="2637000" cy="61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4546a"/>
                </a:solidFill>
                <a:latin typeface="Tahoma"/>
                <a:ea typeface="ˎ̥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举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811080" y="1573200"/>
            <a:ext cx="1068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一位中年妇女乳腺肿块来医院检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诊断为乳腺癌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乳腺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医疗诊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疗关注的是乳腺癌的治疗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护理诊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注的是病人患乳腺癌后的反应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病人作出可能出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恐惧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识缺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我形象紊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护理诊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11" descr="j0186348"/>
          <p:cNvPicPr/>
          <p:nvPr/>
        </p:nvPicPr>
        <p:blipFill>
          <a:blip r:embed="rId1"/>
          <a:stretch/>
        </p:blipFill>
        <p:spPr>
          <a:xfrm>
            <a:off x="10472760" y="4740120"/>
            <a:ext cx="1719360" cy="18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17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程序的概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21"/>
          <p:cNvSpPr/>
          <p:nvPr/>
        </p:nvSpPr>
        <p:spPr>
          <a:xfrm>
            <a:off x="1179360" y="1450800"/>
            <a:ext cx="45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程序的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25"/>
          <p:cNvSpPr/>
          <p:nvPr/>
        </p:nvSpPr>
        <p:spPr>
          <a:xfrm>
            <a:off x="1341360" y="2289240"/>
            <a:ext cx="9509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护理程序是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促进和恢复护理对象的健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为目标所进行的一系列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目的、有计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护理活动，是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综合的、动态的、具有决策和反馈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过程，是对护理对象进行主动的、全面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整体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，使其达到最佳健康状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471600" y="790560"/>
            <a:ext cx="5839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982800" y="790560"/>
            <a:ext cx="438120" cy="4748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636480" y="1212840"/>
            <a:ext cx="56376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1130400" y="1212840"/>
            <a:ext cx="490320" cy="47484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84240" y="1139760"/>
            <a:ext cx="7477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932040" y="682560"/>
            <a:ext cx="4104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506520" y="1473120"/>
            <a:ext cx="109677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1449360" y="309600"/>
            <a:ext cx="1039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10"/>
          <p:cNvSpPr/>
          <p:nvPr/>
        </p:nvSpPr>
        <p:spPr>
          <a:xfrm>
            <a:off x="1130400" y="1735200"/>
            <a:ext cx="8931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有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女病人主述头晕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疗注重找引起头晕的原因，作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医疗诊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理诊断注重病人可能会因头晕导致受伤，故作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受伤的危险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11" descr="j0186348"/>
          <p:cNvPicPr/>
          <p:nvPr/>
        </p:nvPicPr>
        <p:blipFill>
          <a:blip r:embed="rId1"/>
          <a:stretch/>
        </p:blipFill>
        <p:spPr>
          <a:xfrm>
            <a:off x="10388520" y="4740120"/>
            <a:ext cx="1719360" cy="18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71600" y="603360"/>
            <a:ext cx="5839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82800" y="603360"/>
            <a:ext cx="4381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636480" y="1025640"/>
            <a:ext cx="56376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1130400" y="1025640"/>
            <a:ext cx="49032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84240" y="952560"/>
            <a:ext cx="7477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932040" y="495360"/>
            <a:ext cx="4104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506520" y="1285920"/>
            <a:ext cx="109677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525600" y="1522440"/>
            <a:ext cx="894240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一病人血糖、尿糖高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疗方面主要是确立病人是哪型糖尿病，以及治疗的方案等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理诊断会注重了解病人现状及饮食生活习惯，而作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感染的危险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知识缺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护理诊断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10" descr="093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55280" y="4805280"/>
            <a:ext cx="235260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组合 2"/>
          <p:cNvGrpSpPr/>
          <p:nvPr/>
        </p:nvGrpSpPr>
        <p:grpSpPr>
          <a:xfrm>
            <a:off x="873000" y="1671480"/>
            <a:ext cx="10426680" cy="3897360"/>
            <a:chOff x="873000" y="1671480"/>
            <a:chExt cx="10426680" cy="3897360"/>
          </a:xfrm>
        </p:grpSpPr>
        <p:sp>
          <p:nvSpPr>
            <p:cNvPr id="625" name="矩形 16"/>
            <p:cNvSpPr/>
            <p:nvPr/>
          </p:nvSpPr>
          <p:spPr>
            <a:xfrm>
              <a:off x="873000" y="167148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矩形 19"/>
            <p:cNvSpPr/>
            <p:nvPr/>
          </p:nvSpPr>
          <p:spPr>
            <a:xfrm>
              <a:off x="996480" y="180468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25"/>
          <p:cNvSpPr/>
          <p:nvPr/>
        </p:nvSpPr>
        <p:spPr>
          <a:xfrm>
            <a:off x="1400040" y="2031840"/>
            <a:ext cx="1026792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Arial"/>
                <a:ea typeface="微软雅黑"/>
              </a:rPr>
              <a:t>计划按四个步骤进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Arial"/>
                <a:ea typeface="微软雅黑"/>
              </a:rPr>
              <a:t>（一）排列护理诊断顺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Arial"/>
                <a:ea typeface="微软雅黑"/>
              </a:rPr>
              <a:t>（二）设定预期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Arial"/>
                <a:ea typeface="微软雅黑"/>
              </a:rPr>
              <a:t>（三）制定护理措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Arial"/>
                <a:ea typeface="微软雅黑"/>
              </a:rPr>
              <a:t>（四）护理计划成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21"/>
          <p:cNvSpPr/>
          <p:nvPr/>
        </p:nvSpPr>
        <p:spPr>
          <a:xfrm>
            <a:off x="1487520" y="1417680"/>
            <a:ext cx="69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638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0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25"/>
          <p:cNvSpPr/>
          <p:nvPr/>
        </p:nvSpPr>
        <p:spPr>
          <a:xfrm>
            <a:off x="1079640" y="2228760"/>
            <a:ext cx="1026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排序原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优先解决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直接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危及生命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需立即解决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按马斯洛的需要层次论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先解决低层次问题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再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解决高层次问题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在不违反治疗、护理原则的基础上，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可优先解决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患者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主观上迫切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要解决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优先解决现存问题，但不要忽视潜在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排列护理诊断顺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651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25"/>
          <p:cNvSpPr/>
          <p:nvPr/>
        </p:nvSpPr>
        <p:spPr>
          <a:xfrm>
            <a:off x="1079640" y="2228760"/>
            <a:ext cx="1026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排列顺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首优问题：又称威胁生命的问题。指直接威胁患者生命，需要护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立即解决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中优问题：又称威胁健康的问题。指虽然不直接威胁患者生命，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可带来生理上或精神上的痛苦，严重影响健康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次优问题：指人们在应对发展和生活变化时所产生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排列护理诊断顺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055520" y="549360"/>
            <a:ext cx="11136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1679400" y="2554200"/>
            <a:ext cx="108493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首优问题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患者生命直接构成威胁的问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600cf8"/>
                </a:solidFill>
                <a:latin typeface="黑体"/>
                <a:ea typeface="黑体"/>
              </a:rPr>
              <a:t>心输出量减少、气体交换障碍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中优问题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患者身体健康构成损害的问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400" spc="-1" strike="noStrike">
                <a:solidFill>
                  <a:srgbClr val="600cf8"/>
                </a:solidFill>
                <a:latin typeface="黑体"/>
                <a:ea typeface="黑体"/>
              </a:rPr>
              <a:t>疼痛、感染的危险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cf8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次优问题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那些个人在应对发展和生活变化时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遇到的问题。对患者目前的健康无影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影响甚微但仍需得到解决，而避免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展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400" spc="-1" strike="noStrike">
                <a:solidFill>
                  <a:srgbClr val="600cf8"/>
                </a:solidFill>
                <a:latin typeface="黑体"/>
                <a:ea typeface="黑体"/>
              </a:rPr>
              <a:t>肥胖、知识缺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4" descr="j0293238"/>
          <p:cNvPicPr/>
          <p:nvPr/>
        </p:nvPicPr>
        <p:blipFill>
          <a:blip r:embed="rId1"/>
          <a:stretch/>
        </p:blipFill>
        <p:spPr>
          <a:xfrm>
            <a:off x="9609120" y="-36360"/>
            <a:ext cx="2333520" cy="129204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5"/>
          <p:cNvSpPr/>
          <p:nvPr/>
        </p:nvSpPr>
        <p:spPr>
          <a:xfrm>
            <a:off x="1417680" y="1139760"/>
            <a:ext cx="99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例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患者由于交通事故入院 。心输出量减少、气体交换障碍、疼   痛、感染的危险、肥胖、知识缺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6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6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6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6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0160" y="1236240"/>
            <a:ext cx="4308480" cy="10494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</a:rPr>
              <a:t>排序时的注意事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12880" y="26809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80808"/>
              </a:buClr>
              <a:buFont typeface="Arial"/>
              <a:buChar char="•"/>
            </a:pPr>
            <a:r>
              <a:rPr b="1" lang="zh-CN" sz="3200" spc="-1" strike="noStrike">
                <a:solidFill>
                  <a:srgbClr val="080808"/>
                </a:solidFill>
                <a:latin typeface="Calibri"/>
              </a:rPr>
              <a:t>目前未出现的问题并非不重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990033"/>
                </a:solidFill>
                <a:latin typeface="Calibri"/>
              </a:rPr>
              <a:t>潜在并发症：出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990033"/>
                </a:solidFill>
                <a:latin typeface="Calibri"/>
              </a:rPr>
              <a:t>有感染的危险：与化疗后白细胞被大量破坏有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80808"/>
              </a:buClr>
              <a:buFont typeface="Arial"/>
              <a:buChar char="•"/>
            </a:pPr>
            <a:r>
              <a:rPr b="1" lang="zh-CN" sz="3200" spc="-1" strike="noStrike">
                <a:solidFill>
                  <a:srgbClr val="080808"/>
                </a:solidFill>
                <a:latin typeface="Calibri"/>
              </a:rPr>
              <a:t>可同时解决几个问题，主要精力放在首优问题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4">
            <a:hlinkClick r:id="rId1" action="ppaction://hlinksldjump"/>
          </p:cNvPr>
          <p:cNvSpPr/>
          <p:nvPr/>
        </p:nvSpPr>
        <p:spPr>
          <a:xfrm>
            <a:off x="10537920" y="5952960"/>
            <a:ext cx="961920" cy="719280"/>
          </a:xfrm>
          <a:custGeom>
            <a:avLst/>
            <a:gdLst>
              <a:gd name="textAreaLeft" fmla="*/ 46440 w 961920"/>
              <a:gd name="textAreaRight" fmla="*/ 915480 w 961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883" h="21600">
                <a:moveTo>
                  <a:pt x="0" y="0"/>
                </a:moveTo>
                <a:lnTo>
                  <a:pt x="28883" y="0"/>
                </a:lnTo>
                <a:lnTo>
                  <a:pt x="28883" y="21600"/>
                </a:lnTo>
                <a:lnTo>
                  <a:pt x="0" y="21600"/>
                </a:lnTo>
                <a:close/>
              </a:path>
              <a:path fill="lightenLess" w="28883" h="21600">
                <a:moveTo>
                  <a:pt x="0" y="0"/>
                </a:moveTo>
                <a:lnTo>
                  <a:pt x="28883" y="0"/>
                </a:lnTo>
                <a:lnTo>
                  <a:pt x="27483" y="1400"/>
                </a:lnTo>
                <a:lnTo>
                  <a:pt x="1400" y="1400"/>
                </a:lnTo>
                <a:close/>
              </a:path>
              <a:path fill="darken" w="28883" h="21600">
                <a:moveTo>
                  <a:pt x="28883" y="0"/>
                </a:moveTo>
                <a:lnTo>
                  <a:pt x="28883" y="21600"/>
                </a:lnTo>
                <a:lnTo>
                  <a:pt x="27483" y="20200"/>
                </a:lnTo>
                <a:lnTo>
                  <a:pt x="27483" y="1400"/>
                </a:lnTo>
                <a:close/>
              </a:path>
              <a:path fill="darkenLess" w="28883" h="21600">
                <a:moveTo>
                  <a:pt x="2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83" y="20200"/>
                </a:lnTo>
                <a:close/>
              </a:path>
              <a:path fill="lighten" w="2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83" h="21600">
                <a:moveTo>
                  <a:pt x="7435" y="10800"/>
                </a:moveTo>
                <a:lnTo>
                  <a:pt x="21448" y="3794"/>
                </a:lnTo>
                <a:lnTo>
                  <a:pt x="21448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912960" y="1154160"/>
            <a:ext cx="10261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</a:rPr>
              <a:t>（二）确定预期目标</a:t>
            </a:r>
            <a:r>
              <a:rPr b="0" lang="zh-CN" sz="2800" spc="-1" strike="noStrike">
                <a:solidFill>
                  <a:srgbClr val="0000cc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预期目标，即最理想的护理效果，是指期望病人在接受护理后能够达到的健康状态或行为的改变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203864"/>
                </a:solidFill>
                <a:latin typeface="Calibri"/>
              </a:rPr>
              <a:t>制定预期目标的意义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可以明确护理工作的方向，指导护士为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期望的结果而设计护理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②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护理评价时，作为评价标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2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7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2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7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2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7" dur="500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2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674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25"/>
          <p:cNvSpPr/>
          <p:nvPr/>
        </p:nvSpPr>
        <p:spPr>
          <a:xfrm>
            <a:off x="1079640" y="2228760"/>
            <a:ext cx="1026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 目标的种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短期目标： 在相对较短的时间内可达到的目标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一般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周以内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长期目标：需要相对较长时间内才能实现的目标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一般需要几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甚至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几个月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21"/>
          <p:cNvSpPr/>
          <p:nvPr/>
        </p:nvSpPr>
        <p:spPr>
          <a:xfrm>
            <a:off x="1477800" y="1419120"/>
            <a:ext cx="69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设定预期的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687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25"/>
          <p:cNvSpPr/>
          <p:nvPr/>
        </p:nvSpPr>
        <p:spPr>
          <a:xfrm>
            <a:off x="982800" y="2228760"/>
            <a:ext cx="1051704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目标的陈述</a:t>
            </a:r>
            <a:r>
              <a:rPr b="0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主语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指患者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有时可省略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“患者”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二字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谓语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指患者能够完成的行为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该行为必须是可观察到的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行为标准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即行动后所要达到的程度。包括时间、速度、距离、次数等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条件状语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指主语完成某行动时所处的条件状况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5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时间状语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时间状语是限定患者应在何时达到目标中陈述的结果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例：  </a:t>
            </a:r>
            <a:r>
              <a:rPr b="1" lang="en-US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3</a:t>
            </a:r>
            <a:r>
              <a:rPr b="1" lang="zh-CN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日内 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r>
              <a:rPr b="1" lang="zh-CN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病人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r>
              <a:rPr b="1" lang="zh-CN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拄拐杖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r>
              <a:rPr b="1" lang="zh-CN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行走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</a:t>
            </a:r>
            <a:r>
              <a:rPr b="1" lang="en-US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50</a:t>
            </a:r>
            <a:r>
              <a:rPr b="1" lang="zh-CN" sz="2300" spc="-1" strike="noStrike" u="sng">
                <a:solidFill>
                  <a:srgbClr val="0066ff"/>
                </a:solidFill>
                <a:uFillTx/>
                <a:latin typeface="微软雅黑"/>
                <a:ea typeface="微软雅黑"/>
              </a:rPr>
              <a:t>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时间状语   主语   条件状语   谓语   行为标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设定预期的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30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程序的理论基础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21"/>
          <p:cNvSpPr/>
          <p:nvPr/>
        </p:nvSpPr>
        <p:spPr>
          <a:xfrm>
            <a:off x="1193760" y="1436760"/>
            <a:ext cx="50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护理程序的理论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1697040" y="2641680"/>
            <a:ext cx="85233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护理程序是在吸收多学科理论成果的基础上构建而成。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系统论、需要理论、压力与适应理论、沟通理论、成长发展理论、应激与适应理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等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1098360" y="1119240"/>
            <a:ext cx="11450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目标的陈述方式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评价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一周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病人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借助拐杖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能行走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评价时间   主语     条件状语        谓语       行为标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9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4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9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4" dur="5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500"/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4" dur="500"/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组合 2"/>
          <p:cNvGrpSpPr/>
          <p:nvPr/>
        </p:nvGrpSpPr>
        <p:grpSpPr>
          <a:xfrm>
            <a:off x="882720" y="1690560"/>
            <a:ext cx="10426680" cy="4097520"/>
            <a:chOff x="882720" y="1690560"/>
            <a:chExt cx="10426680" cy="4097520"/>
          </a:xfrm>
        </p:grpSpPr>
        <p:sp>
          <p:nvSpPr>
            <p:cNvPr id="701" name="矩形 16"/>
            <p:cNvSpPr/>
            <p:nvPr/>
          </p:nvSpPr>
          <p:spPr>
            <a:xfrm>
              <a:off x="882720" y="1690560"/>
              <a:ext cx="10426680" cy="409752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矩形 19"/>
            <p:cNvSpPr/>
            <p:nvPr/>
          </p:nvSpPr>
          <p:spPr>
            <a:xfrm>
              <a:off x="1006200" y="1830600"/>
              <a:ext cx="10101240" cy="381744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5"/>
          <p:cNvSpPr/>
          <p:nvPr/>
        </p:nvSpPr>
        <p:spPr>
          <a:xfrm>
            <a:off x="954000" y="2035080"/>
            <a:ext cx="1026000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GB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3 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目标陈述的注意事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目标陈述的主语是患者，而不是护士。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目标是护理活动的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结果，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而非护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士的行为或护理活动本身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目标陈述应简单明了，切实可行，属于护理工作范畴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陈述要有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针对性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每个目标针对一个护理诊断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而一个护理诊断可有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个护理目标。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目标陈述的行为标准应具体，可观察和测量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5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鼓励患者参与护理目标的制定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6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护理目标应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与其他专业人员的治疗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保持</a:t>
            </a:r>
            <a:r>
              <a:rPr b="1" lang="zh-TW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一致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US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7</a:t>
            </a:r>
            <a:r>
              <a:rPr b="1" lang="zh-CN" sz="23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目标陈述应包括具体的日期，甚至具体到时间，为何时评价提供依据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设定预期的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890280" y="1112760"/>
            <a:ext cx="10363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下列哪些是错误的目标陈述方式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3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测量血压一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3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后能说出人工肛门的重要性及学会自我护理人工肛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3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周后病人自理能力增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3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住院期间无褥疮发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出院前教病人注射胰岛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3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8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3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8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3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8" dur="500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3"/>
          <p:cNvSpPr/>
          <p:nvPr/>
        </p:nvSpPr>
        <p:spPr>
          <a:xfrm>
            <a:off x="671400" y="1903320"/>
            <a:ext cx="108489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护士帮助患者实现护理目标的具体工作方案。也称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护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诊断：皮肤完整性受损的危险：与不能自行翻身有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标：住院期间患者的皮肤保持完整无褥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f27db"/>
                </a:solidFill>
                <a:latin typeface="楷体_GB2312"/>
                <a:ea typeface="楷体_GB2312"/>
              </a:rPr>
              <a:t>措施：</a:t>
            </a:r>
            <a:r>
              <a:rPr b="1" lang="zh-CN" sz="2400" spc="-1" strike="noStrike">
                <a:solidFill>
                  <a:srgbClr val="0f27db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定时翻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皮肤清洁，床面干燥无皱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局部按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加强营养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17"/>
          <p:cNvSpPr/>
          <p:nvPr/>
        </p:nvSpPr>
        <p:spPr>
          <a:xfrm>
            <a:off x="671400" y="44928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21"/>
          <p:cNvSpPr/>
          <p:nvPr/>
        </p:nvSpPr>
        <p:spPr>
          <a:xfrm>
            <a:off x="950760" y="461880"/>
            <a:ext cx="69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制定护理措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718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0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25"/>
          <p:cNvSpPr/>
          <p:nvPr/>
        </p:nvSpPr>
        <p:spPr>
          <a:xfrm>
            <a:off x="954000" y="2035080"/>
            <a:ext cx="1051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护理措施的类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1)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依赖性护理措施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指护士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执行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医嘱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的护理活动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2)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独立性护理措施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指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职责范围内，经独立思考、判断所决定的护理措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合作性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措施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TW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指护士与其他医务人员合作完成的护理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护理措施的内容</a:t>
            </a: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包括病情观察、基础护理、检查及手术前后护理、心理护理、功能锻炼、健康教育、执行医嘱、症状护理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制定护理措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731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25"/>
          <p:cNvSpPr/>
          <p:nvPr/>
        </p:nvSpPr>
        <p:spPr>
          <a:xfrm>
            <a:off x="1246320" y="2100240"/>
            <a:ext cx="91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制定护理措施的要求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应与医疗工作协调一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针对护理目标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护理措施切实可行、因人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护理措施的内容应明确、具体、全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应保证患者的安全，使患者乐于接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应以科学的理论为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）鼓励患者及家属参与制定护理措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三）制定护理措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744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25"/>
          <p:cNvSpPr/>
          <p:nvPr/>
        </p:nvSpPr>
        <p:spPr>
          <a:xfrm>
            <a:off x="1057320" y="1969920"/>
            <a:ext cx="999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63c1"/>
                </a:solidFill>
                <a:latin typeface="Arial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计划成文即书写护理计划，是指将护理诊断、护理目标、护理措施等以表格的形式记录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计划具有个体差异性和动态发展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四）护理计划成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组合 2"/>
          <p:cNvGrpSpPr/>
          <p:nvPr/>
        </p:nvGrpSpPr>
        <p:grpSpPr>
          <a:xfrm>
            <a:off x="896760" y="1690560"/>
            <a:ext cx="10427040" cy="3897360"/>
            <a:chOff x="896760" y="1690560"/>
            <a:chExt cx="10427040" cy="3897360"/>
          </a:xfrm>
        </p:grpSpPr>
        <p:sp>
          <p:nvSpPr>
            <p:cNvPr id="757" name="矩形 16"/>
            <p:cNvSpPr/>
            <p:nvPr/>
          </p:nvSpPr>
          <p:spPr>
            <a:xfrm>
              <a:off x="896760" y="1690560"/>
              <a:ext cx="1042704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19"/>
            <p:cNvSpPr/>
            <p:nvPr/>
          </p:nvSpPr>
          <p:spPr>
            <a:xfrm>
              <a:off x="1020240" y="1823760"/>
              <a:ext cx="1010160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25"/>
          <p:cNvSpPr/>
          <p:nvPr/>
        </p:nvSpPr>
        <p:spPr>
          <a:xfrm>
            <a:off x="954000" y="2035080"/>
            <a:ext cx="10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微软雅黑"/>
              </a:rPr>
              <a:t>护理计划单</a:t>
            </a:r>
            <a:r>
              <a:rPr b="0" lang="zh-CN" sz="1800" spc="-1" strike="noStrike">
                <a:solidFill>
                  <a:srgbClr val="0563c1"/>
                </a:solidFill>
                <a:latin typeface="Arial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四）护理计划成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1577880" y="2709720"/>
          <a:ext cx="8896320" cy="2517840"/>
        </p:xfrm>
        <a:graphic>
          <a:graphicData uri="http://schemas.openxmlformats.org/drawingml/2006/table">
            <a:tbl>
              <a:tblPr/>
              <a:tblGrid>
                <a:gridCol w="1239840"/>
                <a:gridCol w="1349640"/>
                <a:gridCol w="1320480"/>
                <a:gridCol w="1519560"/>
                <a:gridCol w="1204560"/>
                <a:gridCol w="1197000"/>
                <a:gridCol w="1065240"/>
              </a:tblGrid>
              <a:tr h="85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开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诊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护理措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停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微软雅黑"/>
                          <a:ea typeface="微软雅黑"/>
                        </a:rPr>
                        <a:t>签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771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25"/>
          <p:cNvSpPr/>
          <p:nvPr/>
        </p:nvSpPr>
        <p:spPr>
          <a:xfrm>
            <a:off x="1341360" y="2401920"/>
            <a:ext cx="846144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护士直接为患者提供护理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与其他医护人员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．教育并指导患者及其家属共同参与护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实施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1236600" y="140652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实施的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784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25"/>
          <p:cNvSpPr/>
          <p:nvPr/>
        </p:nvSpPr>
        <p:spPr>
          <a:xfrm>
            <a:off x="1509840" y="2251080"/>
            <a:ext cx="8761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准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执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、记录  常采用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IO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记录格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：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roblem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I  : intervention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措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O : outcome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实施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21"/>
          <p:cNvSpPr/>
          <p:nvPr/>
        </p:nvSpPr>
        <p:spPr>
          <a:xfrm>
            <a:off x="1525680" y="14097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实施的步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任意多边形 8"/>
          <p:cNvSpPr/>
          <p:nvPr/>
        </p:nvSpPr>
        <p:spPr>
          <a:xfrm>
            <a:off x="257040" y="0"/>
            <a:ext cx="4572000" cy="68580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862920" y="2521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1"/>
          <p:cNvSpPr/>
          <p:nvPr/>
        </p:nvSpPr>
        <p:spPr>
          <a:xfrm>
            <a:off x="388296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5"/>
          <p:cNvSpPr/>
          <p:nvPr/>
        </p:nvSpPr>
        <p:spPr>
          <a:xfrm>
            <a:off x="388296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4791240" y="19018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4776840" y="4508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护理程序的步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7097-9E7B-4EDA-BAC9-8E4D134E48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797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5"/>
          <p:cNvSpPr/>
          <p:nvPr/>
        </p:nvSpPr>
        <p:spPr>
          <a:xfrm>
            <a:off x="1674720" y="2128680"/>
            <a:ext cx="831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士自我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查房进行同行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士长与护理专家、护理教师的检查评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医院质量控制委员会检查评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评价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17"/>
          <p:cNvSpPr/>
          <p:nvPr/>
        </p:nvSpPr>
        <p:spPr>
          <a:xfrm>
            <a:off x="1190520" y="143676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评价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810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1674720" y="2327400"/>
            <a:ext cx="857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过程的评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效果的评价 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目标完全实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目标部分实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目标未实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评价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17"/>
          <p:cNvSpPr/>
          <p:nvPr/>
        </p:nvSpPr>
        <p:spPr>
          <a:xfrm>
            <a:off x="1228680" y="134928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评价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823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25"/>
          <p:cNvSpPr/>
          <p:nvPr/>
        </p:nvSpPr>
        <p:spPr>
          <a:xfrm>
            <a:off x="1698480" y="2166840"/>
            <a:ext cx="4721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收集资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判断效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分析原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修订计划</a:t>
            </a:r>
            <a:r>
              <a:rPr b="1" lang="en-GB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—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停止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取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修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评价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矩形 17"/>
          <p:cNvSpPr/>
          <p:nvPr/>
        </p:nvSpPr>
        <p:spPr>
          <a:xfrm>
            <a:off x="1217520" y="137808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评价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14" descr="201202270122291328"/>
          <p:cNvPicPr/>
          <p:nvPr/>
        </p:nvPicPr>
        <p:blipFill>
          <a:blip r:embed="rId1"/>
          <a:stretch/>
        </p:blipFill>
        <p:spPr>
          <a:xfrm>
            <a:off x="7283520" y="2273400"/>
            <a:ext cx="25002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练习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图片 14" descr=""/>
          <p:cNvPicPr/>
          <p:nvPr/>
        </p:nvPicPr>
        <p:blipFill>
          <a:blip r:embed="rId1"/>
          <a:stretch/>
        </p:blipFill>
        <p:spPr>
          <a:xfrm>
            <a:off x="4146480" y="1692360"/>
            <a:ext cx="3897360" cy="3897360"/>
          </a:xfrm>
          <a:prstGeom prst="rect">
            <a:avLst/>
          </a:prstGeom>
          <a:ln w="0">
            <a:noFill/>
          </a:ln>
        </p:spPr>
      </p:pic>
      <p:sp>
        <p:nvSpPr>
          <p:cNvPr id="840" name="矩形 15"/>
          <p:cNvSpPr/>
          <p:nvPr/>
        </p:nvSpPr>
        <p:spPr>
          <a:xfrm>
            <a:off x="8045280" y="1692360"/>
            <a:ext cx="338472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16"/>
          <p:cNvSpPr/>
          <p:nvPr/>
        </p:nvSpPr>
        <p:spPr>
          <a:xfrm>
            <a:off x="762120" y="1692360"/>
            <a:ext cx="338436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17"/>
          <p:cNvSpPr/>
          <p:nvPr/>
        </p:nvSpPr>
        <p:spPr>
          <a:xfrm>
            <a:off x="404640" y="1692360"/>
            <a:ext cx="374364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18"/>
          <p:cNvSpPr/>
          <p:nvPr/>
        </p:nvSpPr>
        <p:spPr>
          <a:xfrm>
            <a:off x="8045280" y="4927680"/>
            <a:ext cx="374040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直角三角形 19"/>
          <p:cNvSpPr/>
          <p:nvPr/>
        </p:nvSpPr>
        <p:spPr>
          <a:xfrm>
            <a:off x="11430000" y="4646520"/>
            <a:ext cx="35568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角三角形 20"/>
          <p:cNvSpPr/>
          <p:nvPr/>
        </p:nvSpPr>
        <p:spPr>
          <a:xfrm rot="10800000">
            <a:off x="404280" y="235440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文本框 21"/>
          <p:cNvSpPr/>
          <p:nvPr/>
        </p:nvSpPr>
        <p:spPr>
          <a:xfrm>
            <a:off x="1512720" y="173052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案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22"/>
          <p:cNvSpPr/>
          <p:nvPr/>
        </p:nvSpPr>
        <p:spPr>
          <a:xfrm>
            <a:off x="9099720" y="496584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角三角形 23"/>
          <p:cNvSpPr/>
          <p:nvPr/>
        </p:nvSpPr>
        <p:spPr>
          <a:xfrm rot="16200000">
            <a:off x="7377120" y="4922640"/>
            <a:ext cx="662040" cy="6714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角三角形 24"/>
          <p:cNvSpPr/>
          <p:nvPr/>
        </p:nvSpPr>
        <p:spPr>
          <a:xfrm rot="5400000">
            <a:off x="4150440" y="1684800"/>
            <a:ext cx="662040" cy="6732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25"/>
          <p:cNvSpPr/>
          <p:nvPr/>
        </p:nvSpPr>
        <p:spPr>
          <a:xfrm>
            <a:off x="1035000" y="2384280"/>
            <a:ext cx="2838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者李某，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患肺源性心脏病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此次应受凉引发肺炎而住院治疗。护理体检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6℃,P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，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，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P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8/102mmHg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患者面色潮红，触摸发热，神志清楚，主诉疲乏、无力、头痛、头晕，患者极度烦躁，痰液粘稠不易咳出，口腔内有一处约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5cm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小溃疡，生活不能自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26"/>
          <p:cNvSpPr/>
          <p:nvPr/>
        </p:nvSpPr>
        <p:spPr>
          <a:xfrm>
            <a:off x="8318520" y="1881360"/>
            <a:ext cx="28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针对患者存在的健康问题列出护理诊断，并排列优先顺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就其中一项护理诊断制定护理措施，并以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IO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格式记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584-8529-4ECC-A4B1-5B049A9606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856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5"/>
          <p:cNvSpPr/>
          <p:nvPr/>
        </p:nvSpPr>
        <p:spPr>
          <a:xfrm>
            <a:off x="996840" y="1967040"/>
            <a:ext cx="1021248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563c1"/>
                </a:solidFill>
                <a:latin typeface="Arial"/>
                <a:ea typeface="微软雅黑"/>
              </a:rPr>
              <a:t>◆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程序是一种系统地解决问题的方法。它包括五个步骤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: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评估、诊断、计划、实施和评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◆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理评估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: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资料的内容、来源、种类及收集资料的方法；护理诊断的概念、组成及陈述方式；排列护理诊断的顺序、制定护理目标及制定护理措施；护理实施后的记录（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IO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格式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步骤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矩形 17"/>
          <p:cNvSpPr/>
          <p:nvPr/>
        </p:nvSpPr>
        <p:spPr>
          <a:xfrm>
            <a:off x="1219320" y="131292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869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25"/>
          <p:cNvSpPr/>
          <p:nvPr/>
        </p:nvSpPr>
        <p:spPr>
          <a:xfrm>
            <a:off x="996840" y="1967040"/>
            <a:ext cx="10212480" cy="40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A3/A4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型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（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～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题共用题干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王大爷，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76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岁，因“大叶性肺炎”入院治疗。入院时体温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9.5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，痰液粘稠，不易咳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1. 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存在的健康问题中，需优先解决的是（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A.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便秘            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B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活动无耐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C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语言沟通障碍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D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清理呼吸道无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17"/>
          <p:cNvSpPr/>
          <p:nvPr/>
        </p:nvSpPr>
        <p:spPr>
          <a:xfrm>
            <a:off x="1219320" y="131292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课堂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79214"/>
          <p:cNvSpPr/>
          <p:nvPr/>
        </p:nvSpPr>
        <p:spPr>
          <a:xfrm>
            <a:off x="6562440" y="4175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步骤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8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8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8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组合 2"/>
          <p:cNvGrpSpPr/>
          <p:nvPr/>
        </p:nvGrpSpPr>
        <p:grpSpPr>
          <a:xfrm>
            <a:off x="873000" y="1681200"/>
            <a:ext cx="10426680" cy="3897360"/>
            <a:chOff x="873000" y="1681200"/>
            <a:chExt cx="10426680" cy="3897360"/>
          </a:xfrm>
        </p:grpSpPr>
        <p:sp>
          <p:nvSpPr>
            <p:cNvPr id="883" name="矩形 16"/>
            <p:cNvSpPr/>
            <p:nvPr/>
          </p:nvSpPr>
          <p:spPr>
            <a:xfrm>
              <a:off x="873000" y="168120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矩形 19"/>
            <p:cNvSpPr/>
            <p:nvPr/>
          </p:nvSpPr>
          <p:spPr>
            <a:xfrm>
              <a:off x="996480" y="181440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25"/>
          <p:cNvSpPr/>
          <p:nvPr/>
        </p:nvSpPr>
        <p:spPr>
          <a:xfrm>
            <a:off x="996840" y="1967040"/>
            <a:ext cx="1021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. 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体温过高这一护理诊断的主要诊断依据是（   ）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8ca18"/>
                </a:solidFill>
                <a:latin typeface="微软雅黑"/>
                <a:ea typeface="微软雅黑"/>
              </a:rPr>
              <a:t>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A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皮肤发红  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B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呼吸频率增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C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心动过速    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D.</a:t>
            </a:r>
            <a:r>
              <a:rPr b="1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体温升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17"/>
          <p:cNvSpPr/>
          <p:nvPr/>
        </p:nvSpPr>
        <p:spPr>
          <a:xfrm>
            <a:off x="1219320" y="131292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课堂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7234200" y="1846440"/>
            <a:ext cx="376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1036800" y="3084480"/>
            <a:ext cx="959148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护士为其进行护理评估收集到下列资料，其中属于客观资料的是（   ）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ca18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头痛头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咽部充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没有食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乏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1395360" y="3273480"/>
            <a:ext cx="43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步骤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组合 2"/>
          <p:cNvGrpSpPr/>
          <p:nvPr/>
        </p:nvGrpSpPr>
        <p:grpSpPr>
          <a:xfrm>
            <a:off x="892080" y="1690560"/>
            <a:ext cx="10426680" cy="3897360"/>
            <a:chOff x="892080" y="1690560"/>
            <a:chExt cx="10426680" cy="3897360"/>
          </a:xfrm>
        </p:grpSpPr>
        <p:sp>
          <p:nvSpPr>
            <p:cNvPr id="899" name="矩形 16"/>
            <p:cNvSpPr/>
            <p:nvPr/>
          </p:nvSpPr>
          <p:spPr>
            <a:xfrm>
              <a:off x="89208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矩形 19"/>
            <p:cNvSpPr/>
            <p:nvPr/>
          </p:nvSpPr>
          <p:spPr>
            <a:xfrm>
              <a:off x="101556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25"/>
          <p:cNvSpPr/>
          <p:nvPr/>
        </p:nvSpPr>
        <p:spPr>
          <a:xfrm>
            <a:off x="996840" y="1967040"/>
            <a:ext cx="963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模拟对新入院患者进行护理评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刘某，女性，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36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岁，以“急性胆囊炎”收住院。责任护士王小莉第一时间收集患者的有关资料，对患者进行护理评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学生分组进行角色扮演，每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2</a:t>
            </a:r>
            <a:r>
              <a:rPr b="1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人为一组，分别轮流扮演护士和患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17"/>
          <p:cNvSpPr/>
          <p:nvPr/>
        </p:nvSpPr>
        <p:spPr>
          <a:xfrm>
            <a:off x="1219320" y="131292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角色扮演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步骤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等腰三角形 24">
            <a:hlinkClick r:id="rId1" action="ppaction://hlinksldjump"/>
          </p:cNvPr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"/>
          <p:cNvSpPr/>
          <p:nvPr/>
        </p:nvSpPr>
        <p:spPr>
          <a:xfrm>
            <a:off x="3987000" y="2552760"/>
            <a:ext cx="421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等腰三角形 17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练习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14" descr=""/>
          <p:cNvPicPr/>
          <p:nvPr/>
        </p:nvPicPr>
        <p:blipFill>
          <a:blip r:embed="rId1"/>
          <a:stretch/>
        </p:blipFill>
        <p:spPr>
          <a:xfrm>
            <a:off x="4146480" y="1692360"/>
            <a:ext cx="3897360" cy="3897360"/>
          </a:xfrm>
          <a:prstGeom prst="rect">
            <a:avLst/>
          </a:prstGeom>
          <a:ln w="0">
            <a:noFill/>
          </a:ln>
        </p:spPr>
      </p:pic>
      <p:sp>
        <p:nvSpPr>
          <p:cNvPr id="154" name="矩形 15"/>
          <p:cNvSpPr/>
          <p:nvPr/>
        </p:nvSpPr>
        <p:spPr>
          <a:xfrm>
            <a:off x="8045280" y="1692360"/>
            <a:ext cx="338472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6"/>
          <p:cNvSpPr/>
          <p:nvPr/>
        </p:nvSpPr>
        <p:spPr>
          <a:xfrm>
            <a:off x="762120" y="1692360"/>
            <a:ext cx="338436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7"/>
          <p:cNvSpPr/>
          <p:nvPr/>
        </p:nvSpPr>
        <p:spPr>
          <a:xfrm>
            <a:off x="404640" y="1692360"/>
            <a:ext cx="374364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8"/>
          <p:cNvSpPr/>
          <p:nvPr/>
        </p:nvSpPr>
        <p:spPr>
          <a:xfrm>
            <a:off x="8045280" y="4927680"/>
            <a:ext cx="374040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角三角形 19"/>
          <p:cNvSpPr/>
          <p:nvPr/>
        </p:nvSpPr>
        <p:spPr>
          <a:xfrm>
            <a:off x="11430000" y="4646520"/>
            <a:ext cx="35568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角三角形 20"/>
          <p:cNvSpPr/>
          <p:nvPr/>
        </p:nvSpPr>
        <p:spPr>
          <a:xfrm rot="10800000">
            <a:off x="404280" y="235440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21"/>
          <p:cNvSpPr/>
          <p:nvPr/>
        </p:nvSpPr>
        <p:spPr>
          <a:xfrm>
            <a:off x="1512720" y="173052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案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22"/>
          <p:cNvSpPr/>
          <p:nvPr/>
        </p:nvSpPr>
        <p:spPr>
          <a:xfrm>
            <a:off x="9099720" y="496584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角三角形 23"/>
          <p:cNvSpPr/>
          <p:nvPr/>
        </p:nvSpPr>
        <p:spPr>
          <a:xfrm rot="16200000">
            <a:off x="7377120" y="4922640"/>
            <a:ext cx="662040" cy="6714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角三角形 24"/>
          <p:cNvSpPr/>
          <p:nvPr/>
        </p:nvSpPr>
        <p:spPr>
          <a:xfrm rot="5400000">
            <a:off x="4150440" y="1684800"/>
            <a:ext cx="662040" cy="6732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5"/>
          <p:cNvSpPr/>
          <p:nvPr/>
        </p:nvSpPr>
        <p:spPr>
          <a:xfrm>
            <a:off x="1035000" y="2384280"/>
            <a:ext cx="2838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者李某，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患肺源性心脏病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此次应受凉引发肺炎而住院治疗。护理体检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6℃,P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，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，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P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8/102mmHg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患者面色潮红，触摸发热，神志清楚，主诉疲乏、无力、头痛、头晕，患者极度烦躁，痰液粘稠不易咳出，口腔内有一处约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5cm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小溃疡，生活不能自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8318520" y="1881360"/>
            <a:ext cx="28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针对患者存在的健康问题列出护理诊断，并排列优先顺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就其中一项护理诊断制定护理措施，并以</a:t>
            </a:r>
            <a:r>
              <a:rPr b="1" lang="en-US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PIO</a:t>
            </a:r>
            <a:r>
              <a:rPr b="1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格式记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6293-F15B-4B36-AC7C-BEDAC48013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3292560" y="3083040"/>
            <a:ext cx="5587920" cy="3004920"/>
          </a:xfrm>
          <a:custGeom>
            <a:avLst/>
            <a:gdLst>
              <a:gd name="textAreaLeft" fmla="*/ 0 w 5587920"/>
              <a:gd name="textAreaRight" fmla="*/ 5588280 w 5587920"/>
              <a:gd name="textAreaTop" fmla="*/ 0 h 3004920"/>
              <a:gd name="textAreaBottom" fmla="*/ 3005280 h 3004920"/>
            </a:gdLst>
            <a:ahLst/>
            <a:rect l="textAreaLeft" t="textAreaTop" r="textAreaRight" b="textAreaBottom"/>
            <a:pathLst>
              <a:path w="5589349" h="3006046">
                <a:moveTo>
                  <a:pt x="0" y="1765300"/>
                </a:moveTo>
                <a:lnTo>
                  <a:pt x="5567124" y="0"/>
                </a:lnTo>
                <a:lnTo>
                  <a:pt x="5589349" y="1247096"/>
                </a:lnTo>
                <a:lnTo>
                  <a:pt x="0" y="3006046"/>
                </a:lnTo>
                <a:lnTo>
                  <a:pt x="0" y="176530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9"/>
          <p:cNvSpPr/>
          <p:nvPr/>
        </p:nvSpPr>
        <p:spPr>
          <a:xfrm>
            <a:off x="3301920" y="1251000"/>
            <a:ext cx="5587920" cy="3083040"/>
          </a:xfrm>
          <a:custGeom>
            <a:avLst/>
            <a:gdLst>
              <a:gd name="textAreaLeft" fmla="*/ 0 w 5587920"/>
              <a:gd name="textAreaRight" fmla="*/ 5588280 w 5587920"/>
              <a:gd name="textAreaTop" fmla="*/ 0 h 3083040"/>
              <a:gd name="textAreaBottom" fmla="*/ 3083400 h 3083040"/>
            </a:gdLst>
            <a:ahLst/>
            <a:rect l="textAreaLeft" t="textAreaTop" r="textAreaRight" b="textAreaBottom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juxing1"/>
          <p:cNvSpPr/>
          <p:nvPr/>
        </p:nvSpPr>
        <p:spPr>
          <a:xfrm>
            <a:off x="3200400" y="1222200"/>
            <a:ext cx="5597640" cy="125280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juxing2"/>
          <p:cNvSpPr/>
          <p:nvPr/>
        </p:nvSpPr>
        <p:spPr>
          <a:xfrm>
            <a:off x="3200400" y="3106800"/>
            <a:ext cx="5597640" cy="125424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juxing3"/>
          <p:cNvSpPr/>
          <p:nvPr/>
        </p:nvSpPr>
        <p:spPr>
          <a:xfrm>
            <a:off x="3297240" y="4848120"/>
            <a:ext cx="5597640" cy="125280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37"/>
          <p:cNvSpPr/>
          <p:nvPr/>
        </p:nvSpPr>
        <p:spPr>
          <a:xfrm>
            <a:off x="3567240" y="143820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和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38"/>
          <p:cNvSpPr/>
          <p:nvPr/>
        </p:nvSpPr>
        <p:spPr>
          <a:xfrm>
            <a:off x="3537000" y="3289320"/>
            <a:ext cx="52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评估和护理诊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3524400" y="5060880"/>
            <a:ext cx="52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7AD-4DFF-45E2-90A7-468FEF1C1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程序的步骤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4924440" y="2413080"/>
            <a:ext cx="1171440" cy="979560"/>
          </a:xfrm>
          <a:prstGeom prst="rect">
            <a:avLst/>
          </a:prstGeom>
          <a:solidFill>
            <a:srgbClr val="f7caac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095880" y="1903320"/>
            <a:ext cx="1503360" cy="1489320"/>
          </a:xfrm>
          <a:prstGeom prst="rect">
            <a:avLst/>
          </a:prstGeom>
          <a:solidFill>
            <a:srgbClr val="ffe599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6"/>
          <p:cNvSpPr/>
          <p:nvPr/>
        </p:nvSpPr>
        <p:spPr>
          <a:xfrm>
            <a:off x="4592520" y="3392640"/>
            <a:ext cx="1503360" cy="1406520"/>
          </a:xfrm>
          <a:prstGeom prst="rect">
            <a:avLst/>
          </a:prstGeom>
          <a:solidFill>
            <a:srgbClr val="c4e0b2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9"/>
          <p:cNvSpPr/>
          <p:nvPr/>
        </p:nvSpPr>
        <p:spPr>
          <a:xfrm>
            <a:off x="6095880" y="3392640"/>
            <a:ext cx="1024200" cy="979200"/>
          </a:xfrm>
          <a:prstGeom prst="rect">
            <a:avLst/>
          </a:prstGeom>
          <a:solidFill>
            <a:srgbClr val="9cc2e5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"/>
          <p:cNvSpPr/>
          <p:nvPr/>
        </p:nvSpPr>
        <p:spPr>
          <a:xfrm>
            <a:off x="1276200" y="2054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护理评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7969320" y="21146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护理诊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2"/>
          <p:cNvSpPr/>
          <p:nvPr/>
        </p:nvSpPr>
        <p:spPr>
          <a:xfrm>
            <a:off x="1131840" y="38354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护理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7332840" y="367668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9bd5"/>
                </a:solidFill>
                <a:latin typeface="微软雅黑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护理实施和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02:36:00Z</dcterms:created>
  <dc:creator>nj</dc:creator>
  <dc:description/>
  <dc:language>en-US</dc:language>
  <cp:lastModifiedBy>崔 博</cp:lastModifiedBy>
  <dcterms:modified xsi:type="dcterms:W3CDTF">2019-12-31T03:01:20Z</dcterms:modified>
  <cp:revision>1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