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jpeg" ContentType="image/jpeg"/>
  <Override PartName="/ppt/media/image4.wmf" ContentType="image/x-wmf"/>
  <Override PartName="/ppt/media/image18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  <p:sldId id="299" r:id="rId69"/>
    <p:sldId id="300" r:id="rId70"/>
    <p:sldId id="301" r:id="rId71"/>
    <p:sldId id="302" r:id="rId72"/>
    <p:sldId id="303" r:id="rId73"/>
    <p:sldId id="304" r:id="rId74"/>
    <p:sldId id="305" r:id="rId75"/>
    <p:sldId id="306" r:id="rId76"/>
    <p:sldId id="307" r:id="rId77"/>
    <p:sldId id="308" r:id="rId78"/>
    <p:sldId id="309" r:id="rId79"/>
    <p:sldId id="310" r:id="rId80"/>
    <p:sldId id="311" r:id="rId81"/>
    <p:sldId id="312" r:id="rId82"/>
    <p:sldId id="313" r:id="rId83"/>
    <p:sldId id="314" r:id="rId84"/>
    <p:sldId id="315" r:id="rId85"/>
    <p:sldId id="316" r:id="rId86"/>
    <p:sldId id="317" r:id="rId87"/>
    <p:sldId id="318" r:id="rId88"/>
    <p:sldId id="319" r:id="rId89"/>
    <p:sldId id="320" r:id="rId90"/>
    <p:sldId id="321" r:id="rId91"/>
    <p:sldId id="322" r:id="rId92"/>
    <p:sldId id="323" r:id="rId93"/>
    <p:sldId id="324" r:id="rId94"/>
    <p:sldId id="325" r:id="rId95"/>
    <p:sldId id="326" r:id="rId96"/>
    <p:sldId id="327" r:id="rId97"/>
    <p:sldId id="328" r:id="rId98"/>
    <p:sldId id="329" r:id="rId99"/>
    <p:sldId id="330" r:id="rId100"/>
    <p:sldId id="331" r:id="rId101"/>
    <p:sldId id="332" r:id="rId102"/>
    <p:sldId id="333" r:id="rId103"/>
    <p:sldId id="334" r:id="rId104"/>
    <p:sldId id="335" r:id="rId105"/>
    <p:sldId id="336" r:id="rId106"/>
    <p:sldId id="337" r:id="rId107"/>
    <p:sldId id="338" r:id="rId108"/>
    <p:sldId id="339" r:id="rId109"/>
    <p:sldId id="340" r:id="rId110"/>
    <p:sldId id="341" r:id="rId1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slide" Target="slides/slide44.xml"/><Relationship Id="rId70" Type="http://schemas.openxmlformats.org/officeDocument/2006/relationships/slide" Target="slides/slide45.xml"/><Relationship Id="rId71" Type="http://schemas.openxmlformats.org/officeDocument/2006/relationships/slide" Target="slides/slide46.xml"/><Relationship Id="rId72" Type="http://schemas.openxmlformats.org/officeDocument/2006/relationships/slide" Target="slides/slide47.xml"/><Relationship Id="rId73" Type="http://schemas.openxmlformats.org/officeDocument/2006/relationships/slide" Target="slides/slide48.xml"/><Relationship Id="rId74" Type="http://schemas.openxmlformats.org/officeDocument/2006/relationships/slide" Target="slides/slide49.xml"/><Relationship Id="rId75" Type="http://schemas.openxmlformats.org/officeDocument/2006/relationships/slide" Target="slides/slide50.xml"/><Relationship Id="rId76" Type="http://schemas.openxmlformats.org/officeDocument/2006/relationships/slide" Target="slides/slide51.xml"/><Relationship Id="rId77" Type="http://schemas.openxmlformats.org/officeDocument/2006/relationships/slide" Target="slides/slide52.xml"/><Relationship Id="rId78" Type="http://schemas.openxmlformats.org/officeDocument/2006/relationships/slide" Target="slides/slide53.xml"/><Relationship Id="rId79" Type="http://schemas.openxmlformats.org/officeDocument/2006/relationships/slide" Target="slides/slide54.xml"/><Relationship Id="rId80" Type="http://schemas.openxmlformats.org/officeDocument/2006/relationships/slide" Target="slides/slide55.xml"/><Relationship Id="rId81" Type="http://schemas.openxmlformats.org/officeDocument/2006/relationships/slide" Target="slides/slide56.xml"/><Relationship Id="rId82" Type="http://schemas.openxmlformats.org/officeDocument/2006/relationships/slide" Target="slides/slide57.xml"/><Relationship Id="rId83" Type="http://schemas.openxmlformats.org/officeDocument/2006/relationships/slide" Target="slides/slide58.xml"/><Relationship Id="rId84" Type="http://schemas.openxmlformats.org/officeDocument/2006/relationships/slide" Target="slides/slide59.xml"/><Relationship Id="rId85" Type="http://schemas.openxmlformats.org/officeDocument/2006/relationships/slide" Target="slides/slide60.xml"/><Relationship Id="rId86" Type="http://schemas.openxmlformats.org/officeDocument/2006/relationships/slide" Target="slides/slide61.xml"/><Relationship Id="rId87" Type="http://schemas.openxmlformats.org/officeDocument/2006/relationships/slide" Target="slides/slide62.xml"/><Relationship Id="rId88" Type="http://schemas.openxmlformats.org/officeDocument/2006/relationships/slide" Target="slides/slide63.xml"/><Relationship Id="rId89" Type="http://schemas.openxmlformats.org/officeDocument/2006/relationships/slide" Target="slides/slide64.xml"/><Relationship Id="rId90" Type="http://schemas.openxmlformats.org/officeDocument/2006/relationships/slide" Target="slides/slide65.xml"/><Relationship Id="rId91" Type="http://schemas.openxmlformats.org/officeDocument/2006/relationships/slide" Target="slides/slide66.xml"/><Relationship Id="rId92" Type="http://schemas.openxmlformats.org/officeDocument/2006/relationships/slide" Target="slides/slide67.xml"/><Relationship Id="rId93" Type="http://schemas.openxmlformats.org/officeDocument/2006/relationships/slide" Target="slides/slide68.xml"/><Relationship Id="rId94" Type="http://schemas.openxmlformats.org/officeDocument/2006/relationships/slide" Target="slides/slide69.xml"/><Relationship Id="rId95" Type="http://schemas.openxmlformats.org/officeDocument/2006/relationships/slide" Target="slides/slide70.xml"/><Relationship Id="rId96" Type="http://schemas.openxmlformats.org/officeDocument/2006/relationships/slide" Target="slides/slide71.xml"/><Relationship Id="rId97" Type="http://schemas.openxmlformats.org/officeDocument/2006/relationships/slide" Target="slides/slide72.xml"/><Relationship Id="rId98" Type="http://schemas.openxmlformats.org/officeDocument/2006/relationships/slide" Target="slides/slide73.xml"/><Relationship Id="rId99" Type="http://schemas.openxmlformats.org/officeDocument/2006/relationships/slide" Target="slides/slide74.xml"/><Relationship Id="rId100" Type="http://schemas.openxmlformats.org/officeDocument/2006/relationships/slide" Target="slides/slide75.xml"/><Relationship Id="rId101" Type="http://schemas.openxmlformats.org/officeDocument/2006/relationships/slide" Target="slides/slide76.xml"/><Relationship Id="rId102" Type="http://schemas.openxmlformats.org/officeDocument/2006/relationships/slide" Target="slides/slide77.xml"/><Relationship Id="rId103" Type="http://schemas.openxmlformats.org/officeDocument/2006/relationships/slide" Target="slides/slide78.xml"/><Relationship Id="rId104" Type="http://schemas.openxmlformats.org/officeDocument/2006/relationships/slide" Target="slides/slide79.xml"/><Relationship Id="rId105" Type="http://schemas.openxmlformats.org/officeDocument/2006/relationships/slide" Target="slides/slide80.xml"/><Relationship Id="rId106" Type="http://schemas.openxmlformats.org/officeDocument/2006/relationships/slide" Target="slides/slide81.xml"/><Relationship Id="rId107" Type="http://schemas.openxmlformats.org/officeDocument/2006/relationships/slide" Target="slides/slide82.xml"/><Relationship Id="rId108" Type="http://schemas.openxmlformats.org/officeDocument/2006/relationships/slide" Target="slides/slide83.xml"/><Relationship Id="rId109" Type="http://schemas.openxmlformats.org/officeDocument/2006/relationships/slide" Target="slides/slide84.xml"/><Relationship Id="rId110" Type="http://schemas.openxmlformats.org/officeDocument/2006/relationships/slide" Target="slides/slide85.xml"/><Relationship Id="rId111" Type="http://schemas.openxmlformats.org/officeDocument/2006/relationships/slide" Target="slides/slide86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099-7FCE-4ED6-A2F9-92DED3A0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899-2AB3-40F5-A4D3-A3F1C10B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BD000-4B4B-4E4B-A805-768E8BC1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96CB2-1EDA-4796-B19B-5F70C83E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53568-D899-4DFF-86EE-84457D1A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F1BF9-4838-4440-8411-75F85FF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77A21-3DE1-44F5-A46B-5A084FF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76512-4486-4EC6-9497-F211E86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3F31B-31A7-4062-9D4E-6E71799B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BFCAF-F8DA-4A7D-AD08-78FCEB08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4BF13-6FD7-4B21-9CD0-EF1828A1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2EC3E-71B3-4181-9914-E1A1A0D3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BEA-213A-4C09-B6C2-51604DB5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82503-34A3-42A5-8767-77BE68E8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5FB90-CF80-4164-A5B7-3315614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58A87-5279-433A-B6A8-06B94AE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8E5FF-A1CF-4C34-8F3D-00E5EB68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17486-2B16-4755-BC9C-23942054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65B99-45F5-4339-8152-A20D2BF8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FBB79-E64E-4ECD-9418-935905A6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650D1-EE0B-4241-8853-BED3E2A6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06E8E-6623-4E2F-96B9-CAEAB554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1AE1F-B525-4EAF-B919-EF3F0495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78B-16B5-4B0F-AC3C-09A56397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EA91D-D235-4ED9-A99D-198A13DB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47E14-9250-4419-B395-DA794252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F39DF-145E-450B-90CA-FF79ECB0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43063-93ED-4F5D-96B2-5C357B29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4AEF0-4A2A-4219-8F8F-DAF02D22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5662D-4A66-45B8-AB1C-5C4CE3D3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5D98F-05CF-4DBF-94BB-6484F6A0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C41CC-3D53-4DF8-A9B1-0EAA71DF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13882-1F96-42C4-AF72-330C16B4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48801-4538-4B0B-9D08-36B7A263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9F08-9547-476B-A7F4-717CEBC1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67F4D-AFE3-4F84-A14D-8F1F5C7A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B0830-D435-418D-B545-0A0FB4D2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F8439-AF84-4299-99B5-23CDB9D4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80427-8E09-44A8-971D-4266D181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4EEAD-5DEF-4F9F-A86C-5C71B804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1F4FF-E77B-4AAB-A322-6D3226A8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49D4E-302B-4345-B436-DDF57B67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97954-5A22-4330-9A68-CDA69F90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F7079-504A-422A-9812-94C7E70E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470FA-CB20-4BA4-ABD7-CC197C60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021E-1A76-4EF9-A768-1F96466E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BD3B1-EB63-4E79-9D2B-1757CFB9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25828-44C2-44C1-AC6C-6CCCB6E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C2AE5-DBBD-4335-A532-E98E6206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F1493-6386-4F3D-8DD2-A58A3685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15824-3A2F-45AF-8247-95172AFF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02A08-E20C-459F-9E7F-13984038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E8DB7-041D-45C4-BB0C-C177F41B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EF65A-E6A6-420F-A434-9E856CB8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423D9-3A70-4829-B56B-BAA0463F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60128-5D51-4C9E-BC8D-D23319EC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C461-94EF-4BA1-9BEC-2C37AF67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9F7A9-77A8-409C-9AB8-6FF980A5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FE0D5-F452-4D18-AF5C-25B3CD85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D532F-F8FF-4E87-BEC2-FE08F27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BCF09-B324-4BF6-8111-1F2728FD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46BB3-D74F-4247-9EF7-4C97718C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95BB3-7F2F-41E2-B687-3408382D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43434-8374-42CE-8BE7-21964F0B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93031-4B12-41F1-8D44-53E3904D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3A20E-1FFD-45A1-922D-B0B2095A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033FD-5936-4545-8056-7A78B4DF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E022-2579-489C-88EC-B02311EF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CBB9D-E894-4563-8FF0-BC7D3C96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66920-439D-41A1-A5A4-875620C2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7A99F-BC72-4F18-9F39-B2EC9AB3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C5AA4-66AB-43BD-9983-E0C6C5E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22F9B-046A-4AEA-8E2F-FDF0C43D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449EF-A3C7-49E4-A78A-B8406CB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4EED9-3DAF-44D5-BEC7-CC27DDDE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45315-28B6-4200-9EA7-A9ECF0AE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6EC5D-9AB6-4567-BFBB-9A6B8DFA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6331C-846D-4E40-B8B7-62D8363A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E17D-EE9D-4AC3-8AB3-34E24FFE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A4014-8065-4102-804D-857CA19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0B375-E66A-4C9C-9A5C-D9FED8DB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8CF10-0054-4290-B57B-CDD8C33E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084F1-4DE1-4CF9-AFD4-94E07C39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6E93B-0012-4CDE-8FA3-E8CF4DEF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5F431-21A1-43CD-81C5-86EAE39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5042C0-7B5E-4378-A41D-6D149FBC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DB05B-AE53-470C-9968-63DDA92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A26DC-6EAE-4950-9A37-80BE89DC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78939-4DA9-44EA-8C95-89A2A795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D595-1E26-4613-A5A0-877E93BE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0B826-1985-4D7D-A12E-F8DE530A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D05A8-4A1E-4D26-85CB-36688F6B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E391E-2ED5-41F6-A71C-3A9E7DAA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9C597-1DE1-48D5-A586-25B5635A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29661-67B6-4BD7-BE31-CFBB38D5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B4B9D-B6BB-4F2A-B861-125A7877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1B130-182E-4E54-BCED-62CD69AF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1C714-C5C0-4B36-BF84-2A53AD7E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32F4C-B3A3-432F-97AF-4C759C8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A3673-EE17-4F11-B888-4BC57DB4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F060-4B86-444B-884B-8B33BB57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0E886-1DA2-4CBE-9157-68E78436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BA07C-6988-47EB-8A2D-4115D1A0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19ACD-AFD9-4F49-B5F8-AB791B10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5E5C2-B577-407B-A660-8F1A965B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22D7B-0A21-4C42-8AC4-59560057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1AB5E-D860-4A91-97BD-2214221D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AD9C2-1F3B-4A06-BFF8-2A23E948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0F3C7-CEEB-41B8-AD03-E96C6BD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F9D5F-820E-48BE-816D-983CBDED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EB856-28E2-455A-B560-8B17D360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48F-C0A4-446D-A6D9-E15E3913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4481-9543-42C6-8A14-7AAD2CC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0B859-35F0-43A9-AB4D-1A4C7AB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A472D-4032-4078-8C95-E8917725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20777-38C8-4154-8731-1451BACC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E4426-D94B-4680-9827-CC871AC1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2F3A5-BD1D-4295-9945-D12D7BBA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22952-9238-40B7-903F-71866555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15BD3-E5CE-418E-8C5D-A2EE94E4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AAB422-532F-413F-BD2F-3DC4958C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FFABC-1B88-485A-8D24-2E123A27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0CE3C1-B60F-424B-83FE-AE1E4506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B218-AA5D-4318-8760-C8731F7F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9F5A6-2600-4738-9D23-E72EC0A2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B625E-FC28-4482-B16C-BC578CB4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E71A0-AFDC-413D-B426-4946F885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D48A9-2707-49D3-95D4-8A866CC8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A2DB1-D2C4-4837-B908-82905E8B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11CE69-26AD-4AC9-A533-AC781D3C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DC369-906F-45D3-A030-ED4994C7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53F0B5-3457-4182-92C2-03EB9E48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530D2E-B9CA-4DDD-B730-C196A56D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1BBCB6-C315-4BE2-ABEC-DAF7155D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1C36-E6C6-47D4-92B3-8AA8E7C3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E3ED0-1FFD-4BFD-B36B-46216F7A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A3B55-AA80-4D64-8FB4-0BC62AD4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FF4EA-7A44-4750-BBEC-CD04AB1B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35BCB6-B484-4C7A-AAEB-8193F3FB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BCB951-B2CA-4AA5-80F6-C038D21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14E7B2-73F1-4432-AA7D-F50773D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8A3F1-E81E-4288-A7C4-C4D383DF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C00B2-8386-460C-B307-1DED97C7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DC1F7-3856-4DAB-BCAA-C5EE6051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A0C9F-A55C-4402-A2D4-C57AA76B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94BA-2A3D-4A4C-96EB-3DFEF42C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5DC0E9-CE10-4BA0-88B4-52847BEB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38068-F9B6-48A7-97AA-8BA54805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F2382-6A0A-426A-B195-1AA02F42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348583-7233-4975-91A4-0ABE1AB0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7F6869-D7EC-4B55-BEB7-3D128B2D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E281F-E27E-4F50-929D-8811B69F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4CC0B-0CD0-4033-ACF5-4DAB7520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5E8E38-2B36-4839-979C-09B46527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29078-164E-4E78-A296-69F76EA9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A5A657-930D-48CA-BCB9-7D5E0B3E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8552-8D20-4511-BBAF-5A9901B5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D49E37-FF20-4718-8FBD-7A85BF90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1C3D33-5A6E-495A-A484-A62D2535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6453A0-D3E7-48DE-816D-DDD1F98B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FF8519-6DDF-47D0-A423-FA8BC468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4B456C-C53B-43F4-A3DA-7E3B09FA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3D2E7-06FA-4FAB-9270-B8AF0577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141644-67FD-4EC0-B84D-98BF1575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87B35-1E81-442F-9401-3C4A508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46907E-8251-46E3-B5DD-495D0E42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54728-4155-4F00-89B1-7D3DA3B1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B97C-C746-4545-BA21-2EABFA07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B8BFD-2EA4-4BBD-A7BA-FEA9433C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7F4601-5E58-4D15-AD8F-B95EF23E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E79110-0B3E-4BB8-A03D-FFA537E9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93C28A-59AC-47C4-8B1E-D1234BA3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6E7EFA-9C0F-4DE8-91AA-040D1CD8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F74AE0-7DD8-4A6B-A144-517D358C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EEB5B7-846E-49DE-B62F-487D76C6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BF3CE2-611F-4C97-AF94-61B12EF7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97941-DB9E-4558-9734-1F43C944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A9BB9B-CDD0-4183-A27C-27E1E6E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420A-A90D-4265-B6D6-4D8D321F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C9F8E1-ACB3-4501-AE77-FF9707C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131B97-E8F3-4A85-9BD6-FBEE72C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20B893-447D-4590-914A-077C2B1F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3A6171-4333-4801-AE7C-9C181AD1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20134F-1584-47A3-9F4A-DA099076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57751A-AB50-48B8-BC96-0FD70C25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B7B3D9-4951-4314-B016-32A62667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8E5802-672D-481E-9349-988F9DFD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96875D-3A9A-4417-97F6-65C263CC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E1B9E9-67CD-4B6C-9C27-4EF0CB5A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3F8B-7368-4216-98E8-49C00DCE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332F31-2165-4B69-96E6-8184EE37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AA748E-F6B7-4DA7-856F-4870381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19B20B-53DF-4650-B208-F49C8067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31E2EE-790C-41E4-AB31-3F1A4E8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0CF6C4-745E-44B2-AEC6-321D3A1A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DF0F2A-16EA-4F20-A368-23318AB7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827787-6D09-476F-95BC-31BE06E9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E20881-8C25-40D3-89EA-CD8EF309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BA1D71-C1AF-4015-B77C-9EF1B885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3E6381-F20A-4589-ABB5-17AA7A0A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2334-76B4-4C30-816E-FD0D8968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B0C578-0E9E-420D-8BD1-DF885CAB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4B1CCA-E848-4856-A5F2-F40A9FB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CA0936-FA84-4472-AAE1-067F3266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A288CD-7E2D-4679-9135-C3D952C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C28D01-2127-4371-8D69-8EBB50D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A9BAC6-1908-405D-BF33-D29814A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F73FE9-BFE0-4967-864D-33F592B5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600758-DB8C-4E7F-BBBD-7138F9BC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E45EB3-98A4-4D2C-BB45-4259EDA8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A774-9D13-46C9-BA2F-C51CF1B2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F50-7B6B-437D-8FDF-E90058AF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2975-CD94-48C5-B609-F0D64063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CF0D-19AF-44CD-80E0-D8E25E68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4814-DA1E-4CAF-99DF-6C657AFD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3661-03CE-40F8-834C-3C2AB9DD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B038-D9C0-49E4-A58D-DCDCA93B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68FA-0DD8-4AB7-A9B5-392C038A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CF0A-2497-4580-8D45-20BA0FDA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273C7-5550-4E79-A381-10FDAAD2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2B2E9-DCA0-4061-ADBD-F0252242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96E5-CE28-4412-9477-3CDEBAB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8A9-20F6-4D65-B861-31ACC31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BB743-FB2A-405B-94F5-04D28C21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FA29-525B-4E43-A4FA-977E0423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F9FB-6275-45D6-B6AF-22459048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B120-2B67-4E41-86A4-9EC0AA6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290E8-F866-488B-A49F-8995DBAD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097C5-A919-4BAE-BFAF-D205D98C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9414A-6460-49AC-BD93-8562DA6B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0C3F-BD9F-4DE6-AEB2-784DF8E2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7973C-F860-4505-980E-52166B8A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37D9A-64A3-4E66-8929-98DFEA02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862-547B-4C03-85B1-6274665D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CE00D-3F8D-4CED-B613-8AB7F33A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24FFB-B999-4827-8C91-240371F1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10599-224E-4AC8-865B-49032E3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2B985-2006-44FD-97F3-0B10363D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2D26F-8F2F-411B-B2AA-4B832C6A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EC742-A645-4BE3-AE10-82D0CAA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CF864-7264-4FFD-B422-9442255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F15E9-78DC-4DEB-985D-38046207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C8CAE-A297-4F1C-95A6-460343E9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029E9-D534-47D4-95B3-D29AC7C1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21B-689F-452E-A93D-2F5CE551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EA3A6-144B-4BE0-B5C8-33A750F9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6FA8B-54FB-4018-A398-D8BA89CD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F7D54-D3F3-4901-8233-4517F052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7CF66-CB41-4799-AF3C-AE67883F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67248-C09A-41F5-A5BB-B88EE394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34C8A-0D2A-4AD1-8BA1-F288967F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8EFDF-633D-4ECC-898F-B85F5807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DA78-C6C2-46DC-89F7-B814FF1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962ED-BD9A-40E8-A3AB-A215A1EC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930CC-F8F2-4913-9B5E-9F99A704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68A-89F5-49E0-A838-63FA5E42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6B74-ABD6-4F04-A8F5-3F9C8DF1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AAFA1-13BD-430C-9E08-F9FF84D2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79C01-900A-437B-BA75-E0491E97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69F73-27DB-41D2-9574-5A3BDA43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19CD3-33AD-48E4-8940-FFD9892C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1D1E7-F50A-447F-A877-84B9A328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CF3F0-ED66-44C4-95C6-1CF59F56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7DA96-549A-43B3-B756-55451CB8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465F8-2CF0-48FF-80D6-7586E3C8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527DC-6B23-4164-949D-96D1BD1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C15-442B-44B1-BB73-3F957DB4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B92DB-D20B-4529-AE89-EEB19360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F3804-370B-4C02-BAC2-ED852C8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732D-011C-4134-B6E2-05B8F14F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FB222-224C-4BC3-9C4A-E8FB8DAE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842A1-E000-420C-BD16-A4754377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AF4FB-AFFA-4CED-8269-6A5ED0E4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9C924-3B6D-40D1-A8A4-EC58B763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4421F-955F-45D6-B007-A6FEE412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8E8E4-4D6A-40DD-9FE9-9CE2B337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423FA-326A-411B-AAF5-F076CA1A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66B-7C2A-4C86-A17F-F0233305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2FB93-C1EE-4CE3-BF78-F73C93E3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0DE02-4E93-4A14-97FB-F379C6F0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27903-8E42-4818-9A03-451E8797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FD305-8636-41F1-A074-EC66C4CF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D0C93-A9D7-4D5E-A2CE-75711067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399DB-4F17-4E9D-8163-097781AA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B8B4D-36D3-41EC-870D-30D0594D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52369-1008-46F3-97F5-CC8140EB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D54E0-8464-46E0-948A-C5F55E5C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80B63-72B6-4866-AC3F-E93F5150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B848-2CA3-45E8-93B6-907E90AC72DF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A559-9DE1-4ED9-84CC-1C84613DFA87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84C7-1089-4F75-9978-AEF9356D72C2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2EAE-1C6C-4C7F-A124-80A3EECE4AB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2233-F0E4-4186-AAB6-06AADBAFA89A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231-2547-49DF-B741-FA30B488C957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8E34-9503-42DD-99FF-1300714A2ABC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7D0A-848F-4828-BD19-FF8C245E598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28B0-37C8-4878-895B-A64DD0B781FB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1704-A735-4411-AC03-F3AF9A8B6F5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F482-1BF3-46E9-8505-090359F47DE6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9B32-9A08-4838-9914-39F8105A588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3F24-9B46-4310-BB21-E6B66C3ABEB0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2F7F-8B3B-42D2-8E3E-15444F7B0671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A4E0-54CD-4529-B1B8-71AFC0B34CB8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4A01-C9E0-4A91-AF88-C560E661130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42EF-6426-4806-BC0C-DD5A09E1BC24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52FA-EC7E-4CB8-A4A4-4DAB33F1996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10F-BB52-490D-B2FA-53E295314884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9430-0FCF-4967-B274-3E80B714642C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40C3-C9B0-4792-910D-3F029731AB5C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127-9FA0-4A8E-9A24-7C61713D777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69ED-DC69-4E51-B1F0-5CD6493EA22A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C72-E2F8-4A4D-8062-C34B2961D9F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E6E6-9298-4E14-8AA7-11482175467D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FA41-2E05-4315-8C08-A9628937A4B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DD57-296D-443D-BC97-F507C4505E90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B5DE-B78E-4F3F-9413-DAB1446A5BB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88BF-1EF6-4561-8BAE-239976FD1624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449E-BE12-4624-8A21-AD4E2580BC3C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E61B-143F-49B6-85D8-EFF539CDB145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BEF5-6B04-4DF0-A7D2-983FE9CD50D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CC09-C0D7-46B4-9517-7682208A9237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B6F1-9AC4-4818-8248-0BF96D51A83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CCC5-A9EB-4F65-BC66-5FFA8BB71B99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6658-FBAA-4004-ACE2-52A284D900A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44F6-D82D-4F64-B36F-B04D3373DE09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7F8C-25F7-4BC9-8B5C-2C6D6E16774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B7E5-D832-45B0-874E-F5425E9A9EB2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87E5-8EEA-4A8C-B6C5-BE9208CF0D5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0653-1998-46ED-9EA5-450EA2FE2B28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FFAB-0DC7-4D73-998A-783C8485A6F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49A4-F6FD-4D59-B9EA-5168143C3AAD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6B58-0D3B-4262-8DE1-7DE040BDE6E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3590-08DF-438E-9F1D-2A4F782173F5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0CC1-9550-440E-B9DF-82C3F136659C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32C0-E871-43A4-BB66-BBCBD8D094BF}" type="datetime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E481-8F44-47F8-AC3E-B91A1D8736C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任意多边形 15"/>
          <p:cNvSpPr/>
          <p:nvPr/>
        </p:nvSpPr>
        <p:spPr>
          <a:xfrm>
            <a:off x="257040" y="0"/>
            <a:ext cx="4572000" cy="6858000"/>
          </a:xfrm>
          <a:custGeom>
            <a:avLst/>
            <a:gdLst/>
            <a:ahLst/>
            <a:rect l="l" t="t" r="r" b="b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9"/>
          <p:cNvSpPr/>
          <p:nvPr/>
        </p:nvSpPr>
        <p:spPr>
          <a:xfrm>
            <a:off x="0" y="0"/>
            <a:ext cx="4572000" cy="6858000"/>
          </a:xfrm>
          <a:custGeom>
            <a:avLst/>
            <a:gdLst/>
            <a:ahLst/>
            <a:rect l="l" t="t" r="r" b="b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文本框 2"/>
          <p:cNvSpPr/>
          <p:nvPr/>
        </p:nvSpPr>
        <p:spPr>
          <a:xfrm>
            <a:off x="1235520" y="25210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二单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护理学相关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椭圆 1"/>
          <p:cNvSpPr/>
          <p:nvPr/>
        </p:nvSpPr>
        <p:spPr>
          <a:xfrm>
            <a:off x="3270240" y="53640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椭圆 5"/>
          <p:cNvSpPr/>
          <p:nvPr/>
        </p:nvSpPr>
        <p:spPr>
          <a:xfrm>
            <a:off x="3994200" y="17971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椭圆 6"/>
          <p:cNvSpPr/>
          <p:nvPr/>
        </p:nvSpPr>
        <p:spPr>
          <a:xfrm>
            <a:off x="4137120" y="305748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7"/>
          <p:cNvSpPr/>
          <p:nvPr/>
        </p:nvSpPr>
        <p:spPr>
          <a:xfrm>
            <a:off x="4164120" y="62064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系统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8"/>
          <p:cNvSpPr/>
          <p:nvPr/>
        </p:nvSpPr>
        <p:spPr>
          <a:xfrm>
            <a:off x="4834080" y="19242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需要层次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10"/>
          <p:cNvSpPr/>
          <p:nvPr/>
        </p:nvSpPr>
        <p:spPr>
          <a:xfrm>
            <a:off x="5003640" y="3129120"/>
            <a:ext cx="54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力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椭圆 11"/>
          <p:cNvSpPr/>
          <p:nvPr/>
        </p:nvSpPr>
        <p:spPr>
          <a:xfrm>
            <a:off x="3992400" y="43369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椭圆 12"/>
          <p:cNvSpPr/>
          <p:nvPr/>
        </p:nvSpPr>
        <p:spPr>
          <a:xfrm>
            <a:off x="3268800" y="5597640"/>
            <a:ext cx="72360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13"/>
          <p:cNvSpPr/>
          <p:nvPr/>
        </p:nvSpPr>
        <p:spPr>
          <a:xfrm>
            <a:off x="4764240" y="44766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与发展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14"/>
          <p:cNvSpPr/>
          <p:nvPr/>
        </p:nvSpPr>
        <p:spPr>
          <a:xfrm>
            <a:off x="4110120" y="5778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B75A-C1DD-4138-9ECC-3C2B0290AD46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组合 2"/>
          <p:cNvGrpSpPr/>
          <p:nvPr/>
        </p:nvGrpSpPr>
        <p:grpSpPr>
          <a:xfrm>
            <a:off x="907920" y="1665360"/>
            <a:ext cx="10426680" cy="3897360"/>
            <a:chOff x="907920" y="1665360"/>
            <a:chExt cx="10426680" cy="3897360"/>
          </a:xfrm>
        </p:grpSpPr>
        <p:sp>
          <p:nvSpPr>
            <p:cNvPr id="1113" name="矩形 16"/>
            <p:cNvSpPr/>
            <p:nvPr/>
          </p:nvSpPr>
          <p:spPr>
            <a:xfrm>
              <a:off x="9079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矩形 19"/>
            <p:cNvSpPr/>
            <p:nvPr/>
          </p:nvSpPr>
          <p:spPr>
            <a:xfrm>
              <a:off x="10314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5" name="直角三角形 20"/>
          <p:cNvSpPr/>
          <p:nvPr/>
        </p:nvSpPr>
        <p:spPr>
          <a:xfrm flipH="1" flipV="1" rot="10800000">
            <a:off x="602136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文本框 25"/>
          <p:cNvSpPr/>
          <p:nvPr/>
        </p:nvSpPr>
        <p:spPr>
          <a:xfrm>
            <a:off x="1130400" y="2170080"/>
            <a:ext cx="950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理程序是临床护理中一种科学的工作方法，一般系统论是其重要的理论基础之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Arial"/>
                <a:ea typeface="微软雅黑"/>
              </a:rPr>
              <a:t>护理程序是一个开放系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17"/>
          <p:cNvSpPr/>
          <p:nvPr/>
        </p:nvSpPr>
        <p:spPr>
          <a:xfrm>
            <a:off x="1246320" y="1397160"/>
            <a:ext cx="478476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3" name="Group 9"/>
          <p:cNvGrpSpPr/>
          <p:nvPr/>
        </p:nvGrpSpPr>
        <p:grpSpPr>
          <a:xfrm>
            <a:off x="4750200" y="2789280"/>
            <a:ext cx="6153480" cy="2279520"/>
            <a:chOff x="4750200" y="2789280"/>
            <a:chExt cx="6153480" cy="2279520"/>
          </a:xfrm>
        </p:grpSpPr>
        <p:sp>
          <p:nvSpPr>
            <p:cNvPr id="1124" name="AutoShape 5"/>
            <p:cNvSpPr/>
            <p:nvPr/>
          </p:nvSpPr>
          <p:spPr>
            <a:xfrm>
              <a:off x="6865560" y="2791440"/>
              <a:ext cx="593280" cy="415080"/>
            </a:xfrm>
            <a:prstGeom prst="flowChartAlternateProcess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66"/>
                  </a:solidFill>
                  <a:latin typeface="微软雅黑"/>
                  <a:ea typeface="微软雅黑"/>
                </a:rPr>
                <a:t>转 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Line 6"/>
            <p:cNvSpPr/>
            <p:nvPr/>
          </p:nvSpPr>
          <p:spPr>
            <a:xfrm>
              <a:off x="5628960" y="2935440"/>
              <a:ext cx="1236600" cy="0"/>
            </a:xfrm>
            <a:prstGeom prst="line">
              <a:avLst/>
            </a:prstGeom>
            <a:ln w="64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Text Box 7"/>
            <p:cNvSpPr/>
            <p:nvPr/>
          </p:nvSpPr>
          <p:spPr>
            <a:xfrm>
              <a:off x="5141160" y="2789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  入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Line 8"/>
            <p:cNvSpPr/>
            <p:nvPr/>
          </p:nvSpPr>
          <p:spPr>
            <a:xfrm>
              <a:off x="7540560" y="2935440"/>
              <a:ext cx="1181880" cy="0"/>
            </a:xfrm>
            <a:prstGeom prst="line">
              <a:avLst/>
            </a:prstGeom>
            <a:ln w="64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Text Box 9"/>
            <p:cNvSpPr/>
            <p:nvPr/>
          </p:nvSpPr>
          <p:spPr>
            <a:xfrm>
              <a:off x="7043040" y="322884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70c0"/>
                  </a:solidFill>
                  <a:latin typeface="楷体"/>
                  <a:ea typeface="楷体"/>
                </a:rPr>
                <a:t>（</a:t>
              </a: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估计、诊断、计划、实施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Box 10"/>
            <p:cNvSpPr/>
            <p:nvPr/>
          </p:nvSpPr>
          <p:spPr>
            <a:xfrm>
              <a:off x="8815320" y="2791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护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Line 13"/>
            <p:cNvSpPr/>
            <p:nvPr/>
          </p:nvSpPr>
          <p:spPr>
            <a:xfrm flipH="1">
              <a:off x="7819920" y="4418640"/>
              <a:ext cx="934560" cy="0"/>
            </a:xfrm>
            <a:prstGeom prst="line">
              <a:avLst/>
            </a:prstGeom>
            <a:ln w="64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Line 14"/>
            <p:cNvSpPr/>
            <p:nvPr/>
          </p:nvSpPr>
          <p:spPr>
            <a:xfrm flipH="1" flipV="1">
              <a:off x="5410800" y="4359960"/>
              <a:ext cx="736920" cy="24840"/>
            </a:xfrm>
            <a:prstGeom prst="line">
              <a:avLst/>
            </a:prstGeom>
            <a:ln w="64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Text Box 15"/>
            <p:cNvSpPr/>
            <p:nvPr/>
          </p:nvSpPr>
          <p:spPr>
            <a:xfrm>
              <a:off x="6435720" y="3937320"/>
              <a:ext cx="124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护理对象健康状况未达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预期结果、需修订程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Line 16"/>
            <p:cNvSpPr/>
            <p:nvPr/>
          </p:nvSpPr>
          <p:spPr>
            <a:xfrm flipH="1" flipV="1">
              <a:off x="5407920" y="3361680"/>
              <a:ext cx="2520" cy="1023480"/>
            </a:xfrm>
            <a:prstGeom prst="line">
              <a:avLst/>
            </a:prstGeom>
            <a:ln w="64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Line 19"/>
            <p:cNvSpPr/>
            <p:nvPr/>
          </p:nvSpPr>
          <p:spPr>
            <a:xfrm>
              <a:off x="9054000" y="3516480"/>
              <a:ext cx="0" cy="777960"/>
            </a:xfrm>
            <a:prstGeom prst="line">
              <a:avLst/>
            </a:prstGeom>
            <a:ln w="6480">
              <a:solidFill>
                <a:srgbClr val="ff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Text Box 20"/>
            <p:cNvSpPr/>
            <p:nvPr/>
          </p:nvSpPr>
          <p:spPr>
            <a:xfrm>
              <a:off x="8126640" y="3234600"/>
              <a:ext cx="277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经护理后护理对象的健康状况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Text Box 21"/>
            <p:cNvSpPr/>
            <p:nvPr/>
          </p:nvSpPr>
          <p:spPr>
            <a:xfrm>
              <a:off x="8901720" y="4294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评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AutoShape 22"/>
            <p:cNvSpPr/>
            <p:nvPr/>
          </p:nvSpPr>
          <p:spPr>
            <a:xfrm>
              <a:off x="7538040" y="4059360"/>
              <a:ext cx="274680" cy="777240"/>
            </a:xfrm>
            <a:custGeom>
              <a:avLst/>
              <a:gdLst>
                <a:gd name="textAreaLeft" fmla="*/ 0 w 274680"/>
                <a:gd name="textAreaRight" fmla="*/ 192600 w 274680"/>
                <a:gd name="textAreaTop" fmla="*/ 32040 h 777240"/>
                <a:gd name="textAreaBottom" fmla="*/ 745200 h 77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799"/>
                  </a:cubicBezTo>
                  <a:lnTo>
                    <a:pt x="21600" y="19801"/>
                  </a:lnTo>
                  <a:cubicBezTo>
                    <a:pt x="21600" y="20701"/>
                    <a:pt x="108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Text Box 24"/>
            <p:cNvSpPr/>
            <p:nvPr/>
          </p:nvSpPr>
          <p:spPr>
            <a:xfrm>
              <a:off x="4750200" y="3038400"/>
              <a:ext cx="136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护理对象原来的健康状况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Text Box 25"/>
            <p:cNvSpPr/>
            <p:nvPr/>
          </p:nvSpPr>
          <p:spPr>
            <a:xfrm>
              <a:off x="6435720" y="4548600"/>
              <a:ext cx="124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护理对象健康状况已达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预期结果、程序终止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0" name="文本框 15"/>
          <p:cNvSpPr/>
          <p:nvPr/>
        </p:nvSpPr>
        <p:spPr>
          <a:xfrm>
            <a:off x="1378080" y="144468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系统理论与护理程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任意多边形 15"/>
          <p:cNvSpPr/>
          <p:nvPr/>
        </p:nvSpPr>
        <p:spPr>
          <a:xfrm>
            <a:off x="257040" y="0"/>
            <a:ext cx="4572000" cy="6858000"/>
          </a:xfrm>
          <a:custGeom>
            <a:avLst/>
            <a:gdLst/>
            <a:ahLst/>
            <a:rect l="l" t="t" r="r" b="b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任意多边形 9"/>
          <p:cNvSpPr/>
          <p:nvPr/>
        </p:nvSpPr>
        <p:spPr>
          <a:xfrm>
            <a:off x="0" y="0"/>
            <a:ext cx="4572000" cy="6858000"/>
          </a:xfrm>
          <a:custGeom>
            <a:avLst/>
            <a:gdLst/>
            <a:ahLst/>
            <a:rect l="l" t="t" r="r" b="b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文本框 2"/>
          <p:cNvSpPr/>
          <p:nvPr/>
        </p:nvSpPr>
        <p:spPr>
          <a:xfrm>
            <a:off x="1235520" y="25210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护理学相关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椭圆 1"/>
          <p:cNvSpPr/>
          <p:nvPr/>
        </p:nvSpPr>
        <p:spPr>
          <a:xfrm>
            <a:off x="3270240" y="53640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椭圆 5"/>
          <p:cNvSpPr/>
          <p:nvPr/>
        </p:nvSpPr>
        <p:spPr>
          <a:xfrm>
            <a:off x="3994200" y="17971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椭圆 6"/>
          <p:cNvSpPr/>
          <p:nvPr/>
        </p:nvSpPr>
        <p:spPr>
          <a:xfrm>
            <a:off x="4137120" y="305748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文本框 7"/>
          <p:cNvSpPr/>
          <p:nvPr/>
        </p:nvSpPr>
        <p:spPr>
          <a:xfrm>
            <a:off x="4164120" y="62064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文本框 8"/>
          <p:cNvSpPr/>
          <p:nvPr/>
        </p:nvSpPr>
        <p:spPr>
          <a:xfrm>
            <a:off x="4834080" y="19242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基本需要层次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文本框 10"/>
          <p:cNvSpPr/>
          <p:nvPr/>
        </p:nvSpPr>
        <p:spPr>
          <a:xfrm>
            <a:off x="5003640" y="3129120"/>
            <a:ext cx="54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力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椭圆 11"/>
          <p:cNvSpPr/>
          <p:nvPr/>
        </p:nvSpPr>
        <p:spPr>
          <a:xfrm>
            <a:off x="3992400" y="43369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椭圆 12"/>
          <p:cNvSpPr/>
          <p:nvPr/>
        </p:nvSpPr>
        <p:spPr>
          <a:xfrm>
            <a:off x="3268800" y="5597640"/>
            <a:ext cx="72360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文本框 13"/>
          <p:cNvSpPr/>
          <p:nvPr/>
        </p:nvSpPr>
        <p:spPr>
          <a:xfrm>
            <a:off x="4764240" y="44766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与发展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14"/>
          <p:cNvSpPr/>
          <p:nvPr/>
        </p:nvSpPr>
        <p:spPr>
          <a:xfrm>
            <a:off x="4110120" y="5778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6E7D-1AAA-4212-BF0B-0EB9D9A50CFF}" type="slidenum">
              <a:rPr b="0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目标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矩形 19"/>
          <p:cNvSpPr/>
          <p:nvPr/>
        </p:nvSpPr>
        <p:spPr>
          <a:xfrm>
            <a:off x="3292560" y="3083040"/>
            <a:ext cx="5587920" cy="3004920"/>
          </a:xfrm>
          <a:custGeom>
            <a:avLst/>
            <a:gdLst/>
            <a:ahLst/>
            <a:rect l="l" t="t" r="r" b="b"/>
            <a:pathLst>
              <a:path w="5589349" h="3006046">
                <a:moveTo>
                  <a:pt x="0" y="1765300"/>
                </a:moveTo>
                <a:lnTo>
                  <a:pt x="5567124" y="0"/>
                </a:lnTo>
                <a:lnTo>
                  <a:pt x="5589349" y="1247096"/>
                </a:lnTo>
                <a:lnTo>
                  <a:pt x="0" y="3006046"/>
                </a:lnTo>
                <a:lnTo>
                  <a:pt x="0" y="176530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矩形 19"/>
          <p:cNvSpPr/>
          <p:nvPr/>
        </p:nvSpPr>
        <p:spPr>
          <a:xfrm>
            <a:off x="3301920" y="1251000"/>
            <a:ext cx="5587920" cy="3083040"/>
          </a:xfrm>
          <a:custGeom>
            <a:avLst/>
            <a:gdLst/>
            <a:ahLst/>
            <a:rect l="l" t="t" r="r" b="b"/>
            <a:pathLst>
              <a:path w="5589349" h="3082246">
                <a:moveTo>
                  <a:pt x="0" y="1828800"/>
                </a:moveTo>
                <a:lnTo>
                  <a:pt x="5579824" y="0"/>
                </a:lnTo>
                <a:lnTo>
                  <a:pt x="5589349" y="1234396"/>
                </a:lnTo>
                <a:lnTo>
                  <a:pt x="0" y="3082246"/>
                </a:lnTo>
                <a:lnTo>
                  <a:pt x="0" y="1828800"/>
                </a:lnTo>
                <a:close/>
              </a:path>
            </a:pathLst>
          </a:custGeom>
          <a:solidFill>
            <a:srgbClr val="2a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juxing1"/>
          <p:cNvSpPr/>
          <p:nvPr/>
        </p:nvSpPr>
        <p:spPr>
          <a:xfrm>
            <a:off x="3200400" y="1222200"/>
            <a:ext cx="5597640" cy="1252800"/>
          </a:xfrm>
          <a:prstGeom prst="rect">
            <a:avLst/>
          </a:prstGeom>
          <a:solidFill>
            <a:srgbClr val="7eb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juxing2"/>
          <p:cNvSpPr/>
          <p:nvPr/>
        </p:nvSpPr>
        <p:spPr>
          <a:xfrm>
            <a:off x="3200400" y="3106800"/>
            <a:ext cx="5597640" cy="125424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juxing3"/>
          <p:cNvSpPr/>
          <p:nvPr/>
        </p:nvSpPr>
        <p:spPr>
          <a:xfrm>
            <a:off x="3297240" y="4848120"/>
            <a:ext cx="5597640" cy="1252800"/>
          </a:xfrm>
          <a:prstGeom prst="rect">
            <a:avLst/>
          </a:prstGeom>
          <a:solidFill>
            <a:srgbClr val="28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文本框 37"/>
          <p:cNvSpPr/>
          <p:nvPr/>
        </p:nvSpPr>
        <p:spPr>
          <a:xfrm>
            <a:off x="3567240" y="1438200"/>
            <a:ext cx="52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微软雅黑"/>
                <a:ea typeface="微软雅黑"/>
              </a:rPr>
              <a:t>了解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的基本概念及影响需要满足的因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文本框 38"/>
          <p:cNvSpPr/>
          <p:nvPr/>
        </p:nvSpPr>
        <p:spPr>
          <a:xfrm>
            <a:off x="3481560" y="3511440"/>
            <a:ext cx="52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斯洛基本需要层次理论的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文本框 39"/>
          <p:cNvSpPr/>
          <p:nvPr/>
        </p:nvSpPr>
        <p:spPr>
          <a:xfrm>
            <a:off x="3524400" y="5060880"/>
            <a:ext cx="52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掌握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需要层次理论在护理中的应用计划和评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等腰三角形 41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等腰三角形 42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EAD3-E42F-4D92-8439-22E3AE2D59A6}" type="slidenum">
              <a:rPr b="0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文本框 12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基本需要层次理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等腰三角形 15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等腰三角形 24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5"/>
          <p:cNvSpPr/>
          <p:nvPr/>
        </p:nvSpPr>
        <p:spPr>
          <a:xfrm>
            <a:off x="6105600" y="2011320"/>
            <a:ext cx="1552680" cy="2038320"/>
          </a:xfrm>
          <a:custGeom>
            <a:avLst/>
            <a:gdLst/>
            <a:ahLst/>
            <a:rect l="l" t="t" r="r" b="b"/>
            <a:pathLst>
              <a:path w="6568" h="8625">
                <a:moveTo>
                  <a:pt x="0" y="5750"/>
                </a:moveTo>
                <a:lnTo>
                  <a:pt x="4980" y="8625"/>
                </a:lnTo>
                <a:cubicBezTo>
                  <a:pt x="6568" y="5875"/>
                  <a:pt x="5626" y="2358"/>
                  <a:pt x="2875" y="770"/>
                </a:cubicBezTo>
                <a:cubicBezTo>
                  <a:pt x="2001" y="266"/>
                  <a:pt x="1010" y="0"/>
                  <a:pt x="0" y="0"/>
                </a:cubicBezTo>
                <a:lnTo>
                  <a:pt x="0" y="5750"/>
                </a:lnTo>
                <a:close/>
              </a:path>
            </a:pathLst>
          </a:custGeom>
          <a:solidFill>
            <a:srgbClr val="ffe599"/>
          </a:solidFill>
          <a:ln w="0">
            <a:solidFill>
              <a:srgbClr val="42719b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7"/>
          <p:cNvSpPr/>
          <p:nvPr/>
        </p:nvSpPr>
        <p:spPr>
          <a:xfrm>
            <a:off x="4929120" y="3371760"/>
            <a:ext cx="2354400" cy="1551240"/>
          </a:xfrm>
          <a:custGeom>
            <a:avLst/>
            <a:gdLst/>
            <a:ahLst/>
            <a:rect l="l" t="t" r="r" b="b"/>
            <a:pathLst>
              <a:path w="19919" h="13135">
                <a:moveTo>
                  <a:pt x="9959" y="0"/>
                </a:moveTo>
                <a:lnTo>
                  <a:pt x="0" y="5750"/>
                </a:lnTo>
                <a:cubicBezTo>
                  <a:pt x="3176" y="11250"/>
                  <a:pt x="10209" y="13135"/>
                  <a:pt x="15709" y="9959"/>
                </a:cubicBezTo>
                <a:cubicBezTo>
                  <a:pt x="17458" y="8950"/>
                  <a:pt x="18909" y="7498"/>
                  <a:pt x="19919" y="5750"/>
                </a:cubicBezTo>
                <a:lnTo>
                  <a:pt x="9959" y="0"/>
                </a:lnTo>
                <a:close/>
              </a:path>
            </a:pathLst>
          </a:custGeom>
          <a:solidFill>
            <a:srgbClr val="c4e0b2"/>
          </a:solidFill>
          <a:ln w="0">
            <a:solidFill>
              <a:srgbClr val="42719b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9"/>
          <p:cNvSpPr/>
          <p:nvPr/>
        </p:nvSpPr>
        <p:spPr>
          <a:xfrm>
            <a:off x="4746600" y="2011320"/>
            <a:ext cx="1359000" cy="2038320"/>
          </a:xfrm>
          <a:custGeom>
            <a:avLst/>
            <a:gdLst/>
            <a:ahLst/>
            <a:rect l="l" t="t" r="r" b="b"/>
            <a:pathLst>
              <a:path w="11499" h="17249">
                <a:moveTo>
                  <a:pt x="11499" y="11499"/>
                </a:moveTo>
                <a:lnTo>
                  <a:pt x="11499" y="0"/>
                </a:lnTo>
                <a:cubicBezTo>
                  <a:pt x="5148" y="0"/>
                  <a:pt x="0" y="5148"/>
                  <a:pt x="0" y="11499"/>
                </a:cubicBezTo>
                <a:cubicBezTo>
                  <a:pt x="0" y="13518"/>
                  <a:pt x="531" y="15501"/>
                  <a:pt x="1540" y="17249"/>
                </a:cubicBezTo>
                <a:lnTo>
                  <a:pt x="11499" y="11499"/>
                </a:lnTo>
                <a:close/>
              </a:path>
            </a:pathLst>
          </a:custGeom>
          <a:solidFill>
            <a:srgbClr val="f4b081"/>
          </a:solidFill>
          <a:ln w="0">
            <a:solidFill>
              <a:srgbClr val="42719b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文本框 49"/>
          <p:cNvSpPr/>
          <p:nvPr/>
        </p:nvSpPr>
        <p:spPr>
          <a:xfrm>
            <a:off x="1836720" y="204804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Arial"/>
                <a:ea typeface="微软雅黑"/>
              </a:rPr>
              <a:t>一、需要概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文本框 50"/>
          <p:cNvSpPr/>
          <p:nvPr/>
        </p:nvSpPr>
        <p:spPr>
          <a:xfrm>
            <a:off x="8075520" y="2048040"/>
            <a:ext cx="39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Arial"/>
                <a:ea typeface="微软雅黑"/>
              </a:rPr>
              <a:t>二、马斯洛基本需要层次理论的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文本框 51"/>
          <p:cNvSpPr/>
          <p:nvPr/>
        </p:nvSpPr>
        <p:spPr>
          <a:xfrm>
            <a:off x="3433680" y="499104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Arial"/>
                <a:ea typeface="微软雅黑"/>
              </a:rPr>
              <a:t>三、需要层次理论在护理中的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组合 2"/>
          <p:cNvGrpSpPr/>
          <p:nvPr/>
        </p:nvGrpSpPr>
        <p:grpSpPr>
          <a:xfrm>
            <a:off x="853920" y="1650960"/>
            <a:ext cx="10426680" cy="3897360"/>
            <a:chOff x="853920" y="1650960"/>
            <a:chExt cx="10426680" cy="3897360"/>
          </a:xfrm>
        </p:grpSpPr>
        <p:sp>
          <p:nvSpPr>
            <p:cNvPr id="1182" name="矩形 16"/>
            <p:cNvSpPr/>
            <p:nvPr/>
          </p:nvSpPr>
          <p:spPr>
            <a:xfrm>
              <a:off x="853920" y="1650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矩形 19"/>
            <p:cNvSpPr/>
            <p:nvPr/>
          </p:nvSpPr>
          <p:spPr>
            <a:xfrm>
              <a:off x="977400" y="1784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文本框 25"/>
          <p:cNvSpPr/>
          <p:nvPr/>
        </p:nvSpPr>
        <p:spPr>
          <a:xfrm>
            <a:off x="1011240" y="2297160"/>
            <a:ext cx="1026936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需要：在汉语词典里的定义为“个体对事物的欲望或要求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南丁格尔是这样定义需要的：新鲜的空气、阳光、温暖、环境及个体的清洁、排泄以及各种防止疾病发生的需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罗伊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Roy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认为“需要是个体的一种内在要求，它可激励个体产生一系列的行为反应，从而维持人的完整性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心理学理论认为，需要是个体的一种内部状态，或者是一种倾向，表现出个体对一定的生活和发展条件的要求。</a:t>
            </a:r>
            <a:r>
              <a:rPr b="1" lang="zh-CN" sz="18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文本框 15"/>
          <p:cNvSpPr/>
          <p:nvPr/>
        </p:nvSpPr>
        <p:spPr>
          <a:xfrm>
            <a:off x="192240" y="257040"/>
            <a:ext cx="6919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需要概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需要的概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195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文本框 25"/>
          <p:cNvSpPr/>
          <p:nvPr/>
        </p:nvSpPr>
        <p:spPr>
          <a:xfrm>
            <a:off x="2909880" y="2092320"/>
            <a:ext cx="31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生理因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心理因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认知因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其他因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文本框 15"/>
          <p:cNvSpPr/>
          <p:nvPr/>
        </p:nvSpPr>
        <p:spPr>
          <a:xfrm>
            <a:off x="192240" y="257040"/>
            <a:ext cx="6919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需要的概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影响需要满足的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7" name="图片 192526" descr="uho_news_028985[1]"/>
          <p:cNvPicPr/>
          <p:nvPr/>
        </p:nvPicPr>
        <p:blipFill>
          <a:blip r:embed="rId1"/>
          <a:stretch/>
        </p:blipFill>
        <p:spPr>
          <a:xfrm>
            <a:off x="1006560" y="2225520"/>
            <a:ext cx="1990800" cy="1990800"/>
          </a:xfrm>
          <a:prstGeom prst="rect">
            <a:avLst/>
          </a:prstGeom>
          <a:ln w="0">
            <a:noFill/>
          </a:ln>
        </p:spPr>
      </p:pic>
      <p:sp>
        <p:nvSpPr>
          <p:cNvPr id="1208" name="TextBox 19"/>
          <p:cNvSpPr/>
          <p:nvPr/>
        </p:nvSpPr>
        <p:spPr>
          <a:xfrm>
            <a:off x="5598000" y="2195640"/>
            <a:ext cx="3594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疾病影响或限制需要的满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上消化道疾病影响对营养需求的满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肺部疾病影响对氧气需要的满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Box 20"/>
          <p:cNvSpPr/>
          <p:nvPr/>
        </p:nvSpPr>
        <p:spPr>
          <a:xfrm>
            <a:off x="6168240" y="290844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焦虑引起失眠、食欲不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愤怒影响判断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Box 21"/>
          <p:cNvSpPr/>
          <p:nvPr/>
        </p:nvSpPr>
        <p:spPr>
          <a:xfrm>
            <a:off x="5691600" y="371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对金钱的认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1" name="组合 2"/>
          <p:cNvGrpSpPr/>
          <p:nvPr/>
        </p:nvGrpSpPr>
        <p:grpSpPr>
          <a:xfrm>
            <a:off x="855720" y="1677960"/>
            <a:ext cx="10426680" cy="3897360"/>
            <a:chOff x="855720" y="1677960"/>
            <a:chExt cx="10426680" cy="3897360"/>
          </a:xfrm>
        </p:grpSpPr>
        <p:sp>
          <p:nvSpPr>
            <p:cNvPr id="1212" name="矩形 16"/>
            <p:cNvSpPr/>
            <p:nvPr/>
          </p:nvSpPr>
          <p:spPr>
            <a:xfrm>
              <a:off x="855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矩形 19"/>
            <p:cNvSpPr/>
            <p:nvPr/>
          </p:nvSpPr>
          <p:spPr>
            <a:xfrm>
              <a:off x="979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文本框 25"/>
          <p:cNvSpPr/>
          <p:nvPr/>
        </p:nvSpPr>
        <p:spPr>
          <a:xfrm>
            <a:off x="934920" y="2155680"/>
            <a:ext cx="10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美国著名心理学家马斯洛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A.H.Maslow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提出的人类基本需要层次论，对护理领域起到指导意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矩形 14"/>
          <p:cNvSpPr/>
          <p:nvPr/>
        </p:nvSpPr>
        <p:spPr>
          <a:xfrm>
            <a:off x="0" y="257040"/>
            <a:ext cx="691344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文本框 15"/>
          <p:cNvSpPr/>
          <p:nvPr/>
        </p:nvSpPr>
        <p:spPr>
          <a:xfrm>
            <a:off x="192240" y="257040"/>
            <a:ext cx="7229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马斯洛基本需要层次理论的内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直角三角形 18"/>
          <p:cNvSpPr/>
          <p:nvPr/>
        </p:nvSpPr>
        <p:spPr>
          <a:xfrm flipV="1">
            <a:off x="605808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3" name="Group 10"/>
          <p:cNvGrpSpPr/>
          <p:nvPr/>
        </p:nvGrpSpPr>
        <p:grpSpPr>
          <a:xfrm>
            <a:off x="3448080" y="2622600"/>
            <a:ext cx="4536720" cy="2879280"/>
            <a:chOff x="3448080" y="2622600"/>
            <a:chExt cx="4536720" cy="2879280"/>
          </a:xfrm>
        </p:grpSpPr>
        <p:pic>
          <p:nvPicPr>
            <p:cNvPr id="1224" name="Picture 11" descr=""/>
            <p:cNvPicPr/>
            <p:nvPr/>
          </p:nvPicPr>
          <p:blipFill>
            <a:blip r:embed="rId1"/>
            <a:stretch/>
          </p:blipFill>
          <p:spPr>
            <a:xfrm>
              <a:off x="3448080" y="2622600"/>
              <a:ext cx="4536720" cy="28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Picture 12" descr="马斯洛2"/>
            <p:cNvPicPr/>
            <p:nvPr/>
          </p:nvPicPr>
          <p:blipFill>
            <a:blip r:embed="rId2"/>
            <a:stretch/>
          </p:blipFill>
          <p:spPr>
            <a:xfrm>
              <a:off x="4356000" y="3075840"/>
              <a:ext cx="2716200" cy="2091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组合 2"/>
          <p:cNvGrpSpPr/>
          <p:nvPr/>
        </p:nvGrpSpPr>
        <p:grpSpPr>
          <a:xfrm>
            <a:off x="914400" y="1677960"/>
            <a:ext cx="10426680" cy="3897360"/>
            <a:chOff x="914400" y="1677960"/>
            <a:chExt cx="10426680" cy="3897360"/>
          </a:xfrm>
        </p:grpSpPr>
        <p:sp>
          <p:nvSpPr>
            <p:cNvPr id="1227" name="矩形 16"/>
            <p:cNvSpPr/>
            <p:nvPr/>
          </p:nvSpPr>
          <p:spPr>
            <a:xfrm>
              <a:off x="91440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矩形 19"/>
            <p:cNvSpPr/>
            <p:nvPr/>
          </p:nvSpPr>
          <p:spPr>
            <a:xfrm>
              <a:off x="103788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9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17"/>
          <p:cNvSpPr/>
          <p:nvPr/>
        </p:nvSpPr>
        <p:spPr>
          <a:xfrm>
            <a:off x="1271520" y="1447920"/>
            <a:ext cx="746784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文本框 21"/>
          <p:cNvSpPr/>
          <p:nvPr/>
        </p:nvSpPr>
        <p:spPr>
          <a:xfrm>
            <a:off x="1525680" y="1409760"/>
            <a:ext cx="49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人的基本需要层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矩形 14"/>
          <p:cNvSpPr/>
          <p:nvPr/>
        </p:nvSpPr>
        <p:spPr>
          <a:xfrm>
            <a:off x="25560" y="334800"/>
            <a:ext cx="6913440" cy="57024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文本框 15"/>
          <p:cNvSpPr/>
          <p:nvPr/>
        </p:nvSpPr>
        <p:spPr>
          <a:xfrm>
            <a:off x="217440" y="307800"/>
            <a:ext cx="72295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马斯洛基本需要层次理论的内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直角三角形 18"/>
          <p:cNvSpPr/>
          <p:nvPr/>
        </p:nvSpPr>
        <p:spPr>
          <a:xfrm flipV="1">
            <a:off x="605808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组合 2"/>
          <p:cNvGrpSpPr/>
          <p:nvPr/>
        </p:nvGrpSpPr>
        <p:grpSpPr>
          <a:xfrm>
            <a:off x="914400" y="1677960"/>
            <a:ext cx="10426680" cy="3897360"/>
            <a:chOff x="914400" y="1677960"/>
            <a:chExt cx="10426680" cy="3897360"/>
          </a:xfrm>
        </p:grpSpPr>
        <p:sp>
          <p:nvSpPr>
            <p:cNvPr id="1239" name="矩形 16"/>
            <p:cNvSpPr/>
            <p:nvPr/>
          </p:nvSpPr>
          <p:spPr>
            <a:xfrm>
              <a:off x="91440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矩形 19"/>
            <p:cNvSpPr/>
            <p:nvPr/>
          </p:nvSpPr>
          <p:spPr>
            <a:xfrm>
              <a:off x="103788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1" name="矩形 17"/>
          <p:cNvSpPr/>
          <p:nvPr/>
        </p:nvSpPr>
        <p:spPr>
          <a:xfrm>
            <a:off x="1001880" y="1144440"/>
            <a:ext cx="7467480" cy="66060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矩形 14"/>
          <p:cNvSpPr/>
          <p:nvPr/>
        </p:nvSpPr>
        <p:spPr>
          <a:xfrm>
            <a:off x="25560" y="334800"/>
            <a:ext cx="6913440" cy="57024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文本框 15"/>
          <p:cNvSpPr/>
          <p:nvPr/>
        </p:nvSpPr>
        <p:spPr>
          <a:xfrm>
            <a:off x="217440" y="307800"/>
            <a:ext cx="72295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马斯洛基本需要层次理论的内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290320" y="4842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5" name="组合 20482"/>
          <p:cNvGrpSpPr/>
          <p:nvPr/>
        </p:nvGrpSpPr>
        <p:grpSpPr>
          <a:xfrm>
            <a:off x="1746000" y="1779480"/>
            <a:ext cx="5220000" cy="4106880"/>
            <a:chOff x="1746000" y="1779480"/>
            <a:chExt cx="5220000" cy="4106880"/>
          </a:xfrm>
        </p:grpSpPr>
        <p:sp>
          <p:nvSpPr>
            <p:cNvPr id="1246" name="直接连接符 20483"/>
            <p:cNvSpPr/>
            <p:nvPr/>
          </p:nvSpPr>
          <p:spPr>
            <a:xfrm flipH="1">
              <a:off x="1746000" y="1779480"/>
              <a:ext cx="2300040" cy="4030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直接连接符 20484"/>
            <p:cNvSpPr/>
            <p:nvPr/>
          </p:nvSpPr>
          <p:spPr>
            <a:xfrm>
              <a:off x="4046400" y="1779480"/>
              <a:ext cx="2919240" cy="41068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直接连接符 20485"/>
            <p:cNvSpPr/>
            <p:nvPr/>
          </p:nvSpPr>
          <p:spPr>
            <a:xfrm>
              <a:off x="1746360" y="5810040"/>
              <a:ext cx="5219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直接连接符 20486"/>
            <p:cNvSpPr/>
            <p:nvPr/>
          </p:nvSpPr>
          <p:spPr>
            <a:xfrm>
              <a:off x="2188800" y="5125680"/>
              <a:ext cx="42465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直接连接符 20487"/>
            <p:cNvSpPr/>
            <p:nvPr/>
          </p:nvSpPr>
          <p:spPr>
            <a:xfrm>
              <a:off x="2543040" y="4365360"/>
              <a:ext cx="32724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直接连接符 20488"/>
            <p:cNvSpPr/>
            <p:nvPr/>
          </p:nvSpPr>
          <p:spPr>
            <a:xfrm>
              <a:off x="2890440" y="3680640"/>
              <a:ext cx="2564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直接连接符 20489"/>
            <p:cNvSpPr/>
            <p:nvPr/>
          </p:nvSpPr>
          <p:spPr>
            <a:xfrm>
              <a:off x="3319200" y="3072240"/>
              <a:ext cx="150408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3" name="矩形 20490"/>
          <p:cNvSpPr/>
          <p:nvPr/>
        </p:nvSpPr>
        <p:spPr>
          <a:xfrm>
            <a:off x="1566720" y="242712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12eb"/>
                </a:solidFill>
                <a:latin typeface="Times New Roman"/>
              </a:rPr>
              <a:t>自我实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12eb"/>
                </a:solidFill>
                <a:latin typeface="Times New Roman"/>
              </a:rPr>
              <a:t>尊   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12eb"/>
                </a:solidFill>
                <a:latin typeface="Times New Roman"/>
              </a:rPr>
              <a:t>爱与归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12eb"/>
                </a:solidFill>
                <a:latin typeface="Times New Roman"/>
              </a:rPr>
              <a:t>安全的需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12eb"/>
                </a:solidFill>
                <a:latin typeface="Times New Roman"/>
              </a:rPr>
              <a:t>生理的需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文本框 20491"/>
          <p:cNvSpPr/>
          <p:nvPr/>
        </p:nvSpPr>
        <p:spPr>
          <a:xfrm>
            <a:off x="6929280" y="4589640"/>
            <a:ext cx="32562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生理安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心理安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左大括号 20492"/>
          <p:cNvSpPr/>
          <p:nvPr/>
        </p:nvSpPr>
        <p:spPr>
          <a:xfrm>
            <a:off x="6643800" y="458964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ed7d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文本框 20493"/>
          <p:cNvSpPr/>
          <p:nvPr/>
        </p:nvSpPr>
        <p:spPr>
          <a:xfrm>
            <a:off x="7374960" y="3668760"/>
            <a:ext cx="200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Times New Roman"/>
              </a:rPr>
              <a:t>希望爱别人及被别人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Times New Roman"/>
              </a:rPr>
              <a:t>希望感到属于别人或某团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左大括号 20494"/>
          <p:cNvSpPr/>
          <p:nvPr/>
        </p:nvSpPr>
        <p:spPr>
          <a:xfrm>
            <a:off x="6519960" y="37720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ed7d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文本框 20495"/>
          <p:cNvSpPr/>
          <p:nvPr/>
        </p:nvSpPr>
        <p:spPr>
          <a:xfrm>
            <a:off x="6922440" y="2903400"/>
            <a:ext cx="14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自尊和自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他人的尊敬和尊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左大括号 20496"/>
          <p:cNvSpPr/>
          <p:nvPr/>
        </p:nvSpPr>
        <p:spPr>
          <a:xfrm>
            <a:off x="6291360" y="30099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ed7d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0" name="组合 20498"/>
          <p:cNvGrpSpPr/>
          <p:nvPr/>
        </p:nvGrpSpPr>
        <p:grpSpPr>
          <a:xfrm>
            <a:off x="6929280" y="5310360"/>
            <a:ext cx="4111200" cy="632520"/>
            <a:chOff x="6929280" y="5310360"/>
            <a:chExt cx="4111200" cy="632520"/>
          </a:xfrm>
        </p:grpSpPr>
        <p:sp>
          <p:nvSpPr>
            <p:cNvPr id="1261" name="文本框 20499"/>
            <p:cNvSpPr/>
            <p:nvPr/>
          </p:nvSpPr>
          <p:spPr>
            <a:xfrm>
              <a:off x="7093800" y="5310360"/>
              <a:ext cx="39466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9900"/>
                  </a:solidFill>
                  <a:latin typeface="Times New Roman"/>
                </a:rPr>
                <a:t>氧气、</a:t>
              </a:r>
              <a:r>
                <a:rPr b="1" lang="zh-CN" sz="1300" spc="-1" strike="noStrike">
                  <a:solidFill>
                    <a:srgbClr val="009900"/>
                  </a:solidFill>
                  <a:latin typeface="Arial"/>
                </a:rPr>
                <a:t>水、</a:t>
              </a:r>
              <a:r>
                <a:rPr b="1" lang="zh-CN" sz="1600" spc="-1" strike="noStrike">
                  <a:solidFill>
                    <a:srgbClr val="009900"/>
                  </a:solidFill>
                  <a:latin typeface="Times New Roman"/>
                </a:rPr>
                <a:t>食物、温度、排泄、住宿、活动、休息、免于疼痛与不适、性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左大括号 20500"/>
            <p:cNvSpPr/>
            <p:nvPr/>
          </p:nvSpPr>
          <p:spPr>
            <a:xfrm>
              <a:off x="6929280" y="5368680"/>
              <a:ext cx="164520" cy="574200"/>
            </a:xfrm>
            <a:custGeom>
              <a:avLst/>
              <a:gdLst>
                <a:gd name="textAreaLeft" fmla="*/ 105120 w 164520"/>
                <a:gd name="textAreaRight" fmla="*/ 164880 w 164520"/>
                <a:gd name="textAreaTop" fmla="*/ 14760 h 574200"/>
                <a:gd name="textAreaBottom" fmla="*/ 559440 h 57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ed7d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3" name="圆角矩形标注 20501"/>
          <p:cNvSpPr/>
          <p:nvPr/>
        </p:nvSpPr>
        <p:spPr>
          <a:xfrm flipH="1" flipV="1">
            <a:off x="1746360" y="2575800"/>
            <a:ext cx="1582560" cy="501480"/>
          </a:xfrm>
          <a:prstGeom prst="wedgeRoundRectCallout">
            <a:avLst>
              <a:gd name="adj1" fmla="val -50435"/>
              <a:gd name="adj2" fmla="val -77231"/>
              <a:gd name="adj3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Impact"/>
              </a:rPr>
              <a:t>认知、审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灯片编号占位符 1"/>
          <p:cNvSpPr/>
          <p:nvPr/>
        </p:nvSpPr>
        <p:spPr>
          <a:xfrm>
            <a:off x="8780400" y="575316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0CE-E7BF-4E51-A9AD-6EE4158F8C8B}" type="slidenum">
              <a:rPr b="0" sz="17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文本框 21"/>
          <p:cNvSpPr/>
          <p:nvPr/>
        </p:nvSpPr>
        <p:spPr>
          <a:xfrm>
            <a:off x="1038240" y="1209600"/>
            <a:ext cx="497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人的基本需要层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3" dur="500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3" dur="500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8" dur="500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6" name="组合 2"/>
          <p:cNvGrpSpPr/>
          <p:nvPr/>
        </p:nvGrpSpPr>
        <p:grpSpPr>
          <a:xfrm>
            <a:off x="895320" y="1677960"/>
            <a:ext cx="10426680" cy="3897360"/>
            <a:chOff x="895320" y="1677960"/>
            <a:chExt cx="10426680" cy="3897360"/>
          </a:xfrm>
        </p:grpSpPr>
        <p:sp>
          <p:nvSpPr>
            <p:cNvPr id="1267" name="矩形 16"/>
            <p:cNvSpPr/>
            <p:nvPr/>
          </p:nvSpPr>
          <p:spPr>
            <a:xfrm>
              <a:off x="8953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矩形 19"/>
            <p:cNvSpPr/>
            <p:nvPr/>
          </p:nvSpPr>
          <p:spPr>
            <a:xfrm>
              <a:off x="10188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9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文本框 21"/>
          <p:cNvSpPr/>
          <p:nvPr/>
        </p:nvSpPr>
        <p:spPr>
          <a:xfrm>
            <a:off x="1525680" y="1409760"/>
            <a:ext cx="55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需要理论的一般规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 Box 11"/>
          <p:cNvSpPr/>
          <p:nvPr/>
        </p:nvSpPr>
        <p:spPr>
          <a:xfrm>
            <a:off x="1403280" y="2301840"/>
            <a:ext cx="93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基本需要在人类中普遍存在，各层次需要相互依赖并重叠出现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先满足较低层次需要在考虑较高层次需要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各种需要满足的时间性不同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需要之间的层次顺序并非固定不变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5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需要层次越高，其满足的方式和程度差异越大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6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基本需要的满足程度与健康密切相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矩形 14"/>
          <p:cNvSpPr/>
          <p:nvPr/>
        </p:nvSpPr>
        <p:spPr>
          <a:xfrm>
            <a:off x="0" y="257040"/>
            <a:ext cx="691344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文本框 15"/>
          <p:cNvSpPr/>
          <p:nvPr/>
        </p:nvSpPr>
        <p:spPr>
          <a:xfrm>
            <a:off x="192240" y="257040"/>
            <a:ext cx="7229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马斯洛基本需要层次理论的内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直角三角形 18"/>
          <p:cNvSpPr/>
          <p:nvPr/>
        </p:nvSpPr>
        <p:spPr>
          <a:xfrm flipV="1">
            <a:off x="605808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12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护理相关理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1" name="图片 14" descr=""/>
          <p:cNvPicPr/>
          <p:nvPr/>
        </p:nvPicPr>
        <p:blipFill>
          <a:blip r:embed="rId1"/>
          <a:stretch/>
        </p:blipFill>
        <p:spPr>
          <a:xfrm>
            <a:off x="4146480" y="1692360"/>
            <a:ext cx="3897360" cy="3897360"/>
          </a:xfrm>
          <a:prstGeom prst="rect">
            <a:avLst/>
          </a:prstGeom>
          <a:ln w="0">
            <a:noFill/>
          </a:ln>
        </p:spPr>
      </p:pic>
      <p:sp>
        <p:nvSpPr>
          <p:cNvPr id="1002" name="矩形 15"/>
          <p:cNvSpPr/>
          <p:nvPr/>
        </p:nvSpPr>
        <p:spPr>
          <a:xfrm>
            <a:off x="8045280" y="1692360"/>
            <a:ext cx="3384720" cy="3897360"/>
          </a:xfrm>
          <a:prstGeom prst="rect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矩形 16"/>
          <p:cNvSpPr/>
          <p:nvPr/>
        </p:nvSpPr>
        <p:spPr>
          <a:xfrm>
            <a:off x="762120" y="1692360"/>
            <a:ext cx="3384360" cy="3897360"/>
          </a:xfrm>
          <a:prstGeom prst="rect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矩形 17"/>
          <p:cNvSpPr/>
          <p:nvPr/>
        </p:nvSpPr>
        <p:spPr>
          <a:xfrm>
            <a:off x="404640" y="1692360"/>
            <a:ext cx="3743640" cy="6620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矩形 18"/>
          <p:cNvSpPr/>
          <p:nvPr/>
        </p:nvSpPr>
        <p:spPr>
          <a:xfrm>
            <a:off x="8045280" y="4927680"/>
            <a:ext cx="3740400" cy="6620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直角三角形 19"/>
          <p:cNvSpPr/>
          <p:nvPr/>
        </p:nvSpPr>
        <p:spPr>
          <a:xfrm>
            <a:off x="11430000" y="4646520"/>
            <a:ext cx="35568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直角三角形 20"/>
          <p:cNvSpPr/>
          <p:nvPr/>
        </p:nvSpPr>
        <p:spPr>
          <a:xfrm rot="10800000">
            <a:off x="404280" y="235440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21"/>
          <p:cNvSpPr/>
          <p:nvPr/>
        </p:nvSpPr>
        <p:spPr>
          <a:xfrm>
            <a:off x="1512720" y="173052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22"/>
          <p:cNvSpPr/>
          <p:nvPr/>
        </p:nvSpPr>
        <p:spPr>
          <a:xfrm>
            <a:off x="9099720" y="4965840"/>
            <a:ext cx="16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直角三角形 23"/>
          <p:cNvSpPr/>
          <p:nvPr/>
        </p:nvSpPr>
        <p:spPr>
          <a:xfrm rot="16200000">
            <a:off x="7377120" y="4922640"/>
            <a:ext cx="662040" cy="671400"/>
          </a:xfrm>
          <a:prstGeom prst="rtTriangle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直角三角形 24"/>
          <p:cNvSpPr/>
          <p:nvPr/>
        </p:nvSpPr>
        <p:spPr>
          <a:xfrm rot="5400000">
            <a:off x="4150440" y="1684800"/>
            <a:ext cx="662040" cy="673200"/>
          </a:xfrm>
          <a:prstGeom prst="rtTriangle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25"/>
          <p:cNvSpPr/>
          <p:nvPr/>
        </p:nvSpPr>
        <p:spPr>
          <a:xfrm>
            <a:off x="1077840" y="2719440"/>
            <a:ext cx="27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王某，男性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，因输尿管结石急诊入院，入院时腰部、腹部剧烈疼痛，展转不安，焦虑、烦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26"/>
          <p:cNvSpPr/>
          <p:nvPr/>
        </p:nvSpPr>
        <p:spPr>
          <a:xfrm>
            <a:off x="8318520" y="1881360"/>
            <a:ext cx="2838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士小张应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首先给予病人哪方面的需要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了解此时威胁病人的压力源有哪些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怎样帮助病人应对此时的压力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A79F-AE16-4CEE-ADFA-C01E5D2E5C8F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组合 2"/>
          <p:cNvGrpSpPr/>
          <p:nvPr/>
        </p:nvGrpSpPr>
        <p:grpSpPr>
          <a:xfrm>
            <a:off x="895320" y="1677960"/>
            <a:ext cx="10426680" cy="3897360"/>
            <a:chOff x="895320" y="1677960"/>
            <a:chExt cx="10426680" cy="3897360"/>
          </a:xfrm>
        </p:grpSpPr>
        <p:sp>
          <p:nvSpPr>
            <p:cNvPr id="1280" name="矩形 16"/>
            <p:cNvSpPr/>
            <p:nvPr/>
          </p:nvSpPr>
          <p:spPr>
            <a:xfrm>
              <a:off x="8953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矩形 19"/>
            <p:cNvSpPr/>
            <p:nvPr/>
          </p:nvSpPr>
          <p:spPr>
            <a:xfrm>
              <a:off x="10188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2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一）对护理工作的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11"/>
          <p:cNvSpPr/>
          <p:nvPr/>
        </p:nvSpPr>
        <p:spPr>
          <a:xfrm>
            <a:off x="1403280" y="2301840"/>
            <a:ext cx="935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更好的识别患者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预测服务对象尚未表达的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系统地评估服务对象的基本资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识别患者需要的轻重缓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矩形 14"/>
          <p:cNvSpPr/>
          <p:nvPr/>
        </p:nvSpPr>
        <p:spPr>
          <a:xfrm>
            <a:off x="0" y="257040"/>
            <a:ext cx="691344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15"/>
          <p:cNvSpPr/>
          <p:nvPr/>
        </p:nvSpPr>
        <p:spPr>
          <a:xfrm>
            <a:off x="192240" y="257040"/>
            <a:ext cx="7229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需要层次理论在护理中的应用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直角三角形 18"/>
          <p:cNvSpPr/>
          <p:nvPr/>
        </p:nvSpPr>
        <p:spPr>
          <a:xfrm flipV="1">
            <a:off x="605808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组合 2"/>
          <p:cNvGrpSpPr/>
          <p:nvPr/>
        </p:nvGrpSpPr>
        <p:grpSpPr>
          <a:xfrm>
            <a:off x="992160" y="1733400"/>
            <a:ext cx="10426680" cy="3897360"/>
            <a:chOff x="992160" y="1733400"/>
            <a:chExt cx="10426680" cy="3897360"/>
          </a:xfrm>
        </p:grpSpPr>
        <p:sp>
          <p:nvSpPr>
            <p:cNvPr id="1292" name="矩形 16"/>
            <p:cNvSpPr/>
            <p:nvPr/>
          </p:nvSpPr>
          <p:spPr>
            <a:xfrm>
              <a:off x="992160" y="173340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矩形 19"/>
            <p:cNvSpPr/>
            <p:nvPr/>
          </p:nvSpPr>
          <p:spPr>
            <a:xfrm>
              <a:off x="1115640" y="186660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患者的基本需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11"/>
          <p:cNvSpPr/>
          <p:nvPr/>
        </p:nvSpPr>
        <p:spPr>
          <a:xfrm>
            <a:off x="1362240" y="2079720"/>
            <a:ext cx="93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生理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安全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爱与归属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尊重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5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自我实现的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0" name="图片 196623" descr="IMG_0560"/>
          <p:cNvPicPr/>
          <p:nvPr/>
        </p:nvPicPr>
        <p:blipFill>
          <a:blip r:embed="rId1"/>
          <a:stretch/>
        </p:blipFill>
        <p:spPr>
          <a:xfrm>
            <a:off x="5946840" y="2178000"/>
            <a:ext cx="3770280" cy="3249720"/>
          </a:xfrm>
          <a:prstGeom prst="rect">
            <a:avLst/>
          </a:prstGeom>
          <a:ln w="0">
            <a:noFill/>
          </a:ln>
        </p:spPr>
      </p:pic>
      <p:sp>
        <p:nvSpPr>
          <p:cNvPr id="1301" name="矩形 14"/>
          <p:cNvSpPr/>
          <p:nvPr/>
        </p:nvSpPr>
        <p:spPr>
          <a:xfrm>
            <a:off x="0" y="257040"/>
            <a:ext cx="691344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文本框 15"/>
          <p:cNvSpPr/>
          <p:nvPr/>
        </p:nvSpPr>
        <p:spPr>
          <a:xfrm>
            <a:off x="192240" y="257040"/>
            <a:ext cx="7229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需要层次理论在护理中的应用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直角三角形 18"/>
          <p:cNvSpPr/>
          <p:nvPr/>
        </p:nvSpPr>
        <p:spPr>
          <a:xfrm flipV="1">
            <a:off x="605808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4" name="组合 17411"/>
          <p:cNvGrpSpPr/>
          <p:nvPr/>
        </p:nvGrpSpPr>
        <p:grpSpPr>
          <a:xfrm>
            <a:off x="1409760" y="2270160"/>
            <a:ext cx="4537080" cy="3132000"/>
            <a:chOff x="1409760" y="2270160"/>
            <a:chExt cx="4537080" cy="3132000"/>
          </a:xfrm>
        </p:grpSpPr>
        <p:sp>
          <p:nvSpPr>
            <p:cNvPr id="1305" name="Oval 4"/>
            <p:cNvSpPr/>
            <p:nvPr/>
          </p:nvSpPr>
          <p:spPr>
            <a:xfrm>
              <a:off x="1409760" y="2270160"/>
              <a:ext cx="4537080" cy="3117240"/>
            </a:xfrm>
            <a:prstGeom prst="ellipse">
              <a:avLst/>
            </a:prstGeom>
            <a:gradFill rotWithShape="0">
              <a:gsLst>
                <a:gs pos="0">
                  <a:srgbClr val="65d7a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271956" dir="224495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PubPieSlice"/>
            <p:cNvSpPr/>
            <p:nvPr/>
          </p:nvSpPr>
          <p:spPr>
            <a:xfrm>
              <a:off x="1409760" y="2270160"/>
              <a:ext cx="4537080" cy="3132000"/>
            </a:xfrm>
            <a:custGeom>
              <a:avLst/>
              <a:gdLst>
                <a:gd name="textAreaLeft" fmla="*/ 664560 w 4537080"/>
                <a:gd name="textAreaRight" fmla="*/ 3872520 w 4537080"/>
                <a:gd name="textAreaTop" fmla="*/ 458640 h 3132000"/>
                <a:gd name="textAreaBottom" fmla="*/ 2673360 h 31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823" y="1836"/>
                  </a:moveTo>
                  <a:cubicBezTo>
                    <a:pt x="15042" y="639"/>
                    <a:pt x="12945" y="0"/>
                    <a:pt x="10800" y="0"/>
                  </a:cubicBezTo>
                  <a:cubicBezTo>
                    <a:pt x="8739" y="-1"/>
                    <a:pt x="6721" y="589"/>
                    <a:pt x="4985" y="1698"/>
                  </a:cubicBezTo>
                  <a:lnTo>
                    <a:pt x="10800" y="10800"/>
                  </a:lnTo>
                  <a:lnTo>
                    <a:pt x="16823" y="1836"/>
                  </a:lnTo>
                  <a:close/>
                </a:path>
              </a:pathLst>
            </a:custGeom>
            <a:gradFill rotWithShape="0">
              <a:gsLst>
                <a:gs pos="0">
                  <a:srgbClr val="57c9ed"/>
                </a:gs>
                <a:gs pos="100000">
                  <a:srgbClr val="bde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PubPieSlice"/>
            <p:cNvSpPr/>
            <p:nvPr/>
          </p:nvSpPr>
          <p:spPr>
            <a:xfrm>
              <a:off x="1409760" y="2270160"/>
              <a:ext cx="4537080" cy="3132000"/>
            </a:xfrm>
            <a:custGeom>
              <a:avLst/>
              <a:gdLst>
                <a:gd name="textAreaLeft" fmla="*/ 664560 w 4537080"/>
                <a:gd name="textAreaRight" fmla="*/ 3872520 w 4537080"/>
                <a:gd name="textAreaTop" fmla="*/ 458640 h 3132000"/>
                <a:gd name="textAreaBottom" fmla="*/ 2673360 h 31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9" y="10843"/>
                  </a:moveTo>
                  <a:cubicBezTo>
                    <a:pt x="21599" y="10828"/>
                    <a:pt x="21600" y="10814"/>
                    <a:pt x="21600" y="10800"/>
                  </a:cubicBezTo>
                  <a:cubicBezTo>
                    <a:pt x="21600" y="7150"/>
                    <a:pt x="19756" y="3747"/>
                    <a:pt x="16699" y="1754"/>
                  </a:cubicBezTo>
                  <a:lnTo>
                    <a:pt x="10800" y="10800"/>
                  </a:lnTo>
                  <a:lnTo>
                    <a:pt x="21599" y="1084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d5e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PubPieSlice"/>
            <p:cNvSpPr/>
            <p:nvPr/>
          </p:nvSpPr>
          <p:spPr>
            <a:xfrm>
              <a:off x="1409760" y="2270160"/>
              <a:ext cx="4537080" cy="3132000"/>
            </a:xfrm>
            <a:custGeom>
              <a:avLst/>
              <a:gdLst>
                <a:gd name="textAreaLeft" fmla="*/ 664560 w 4537080"/>
                <a:gd name="textAreaRight" fmla="*/ 3872520 w 4537080"/>
                <a:gd name="textAreaTop" fmla="*/ 458640 h 3132000"/>
                <a:gd name="textAreaBottom" fmla="*/ 2673360 h 31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845" y="19749"/>
                  </a:moveTo>
                  <a:cubicBezTo>
                    <a:pt x="19816" y="17742"/>
                    <a:pt x="21598" y="14390"/>
                    <a:pt x="21599" y="10805"/>
                  </a:cubicBezTo>
                  <a:lnTo>
                    <a:pt x="10800" y="10800"/>
                  </a:lnTo>
                  <a:lnTo>
                    <a:pt x="16845" y="19749"/>
                  </a:lnTo>
                  <a:close/>
                </a:path>
              </a:pathLst>
            </a:custGeom>
            <a:gradFill rotWithShape="0">
              <a:gsLst>
                <a:gs pos="0">
                  <a:srgbClr val="6e5691"/>
                </a:gs>
                <a:gs pos="100000">
                  <a:srgbClr val="b58de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PubPieSlice"/>
            <p:cNvSpPr/>
            <p:nvPr/>
          </p:nvSpPr>
          <p:spPr>
            <a:xfrm>
              <a:off x="1409760" y="2270160"/>
              <a:ext cx="4537080" cy="3132000"/>
            </a:xfrm>
            <a:custGeom>
              <a:avLst/>
              <a:gdLst>
                <a:gd name="textAreaLeft" fmla="*/ 664560 w 4537080"/>
                <a:gd name="textAreaRight" fmla="*/ 3872520 w 4537080"/>
                <a:gd name="textAreaTop" fmla="*/ 458640 h 3132000"/>
                <a:gd name="textAreaBottom" fmla="*/ 2673360 h 31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23" y="19517"/>
                  </a:moveTo>
                  <a:cubicBezTo>
                    <a:pt x="6274" y="20870"/>
                    <a:pt x="8507" y="21600"/>
                    <a:pt x="10800" y="21600"/>
                  </a:cubicBezTo>
                  <a:cubicBezTo>
                    <a:pt x="12957" y="21599"/>
                    <a:pt x="15065" y="20953"/>
                    <a:pt x="16852" y="19744"/>
                  </a:cubicBezTo>
                  <a:lnTo>
                    <a:pt x="10800" y="10800"/>
                  </a:lnTo>
                  <a:lnTo>
                    <a:pt x="4423" y="19517"/>
                  </a:lnTo>
                  <a:close/>
                </a:path>
              </a:pathLst>
            </a:custGeom>
            <a:gradFill rotWithShape="0">
              <a:gsLst>
                <a:gs pos="0">
                  <a:srgbClr val="a1c6fb"/>
                </a:gs>
                <a:gs pos="100000">
                  <a:srgbClr val="65a1f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PubPieSlice"/>
            <p:cNvSpPr/>
            <p:nvPr/>
          </p:nvSpPr>
          <p:spPr>
            <a:xfrm>
              <a:off x="1409760" y="2270160"/>
              <a:ext cx="4537080" cy="3132000"/>
            </a:xfrm>
            <a:custGeom>
              <a:avLst/>
              <a:gdLst>
                <a:gd name="textAreaLeft" fmla="*/ 664560 w 4537080"/>
                <a:gd name="textAreaRight" fmla="*/ 3872520 w 4537080"/>
                <a:gd name="textAreaTop" fmla="*/ 458640 h 3132000"/>
                <a:gd name="textAreaBottom" fmla="*/ 2673360 h 31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80"/>
                  </a:moveTo>
                  <a:cubicBezTo>
                    <a:pt x="26" y="14350"/>
                    <a:pt x="1717" y="17596"/>
                    <a:pt x="4547" y="19605"/>
                  </a:cubicBezTo>
                  <a:lnTo>
                    <a:pt x="10800" y="10800"/>
                  </a:lnTo>
                  <a:lnTo>
                    <a:pt x="0" y="1088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55bb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1" name="组合 17418"/>
            <p:cNvGrpSpPr/>
            <p:nvPr/>
          </p:nvGrpSpPr>
          <p:grpSpPr>
            <a:xfrm>
              <a:off x="2507400" y="3016080"/>
              <a:ext cx="2230200" cy="1514520"/>
              <a:chOff x="2507400" y="3016080"/>
              <a:chExt cx="2230200" cy="1514520"/>
            </a:xfrm>
          </p:grpSpPr>
          <p:grpSp>
            <p:nvGrpSpPr>
              <p:cNvPr id="1312" name="组合 17419"/>
              <p:cNvGrpSpPr/>
              <p:nvPr/>
            </p:nvGrpSpPr>
            <p:grpSpPr>
              <a:xfrm>
                <a:off x="2778480" y="3200040"/>
                <a:ext cx="1682640" cy="1142640"/>
                <a:chOff x="2778480" y="3200040"/>
                <a:chExt cx="1682640" cy="1142640"/>
              </a:xfrm>
            </p:grpSpPr>
            <p:sp>
              <p:nvSpPr>
                <p:cNvPr id="1313" name="Oval 12"/>
                <p:cNvSpPr/>
                <p:nvPr/>
              </p:nvSpPr>
              <p:spPr>
                <a:xfrm>
                  <a:off x="2778480" y="3200040"/>
                  <a:ext cx="1682640" cy="114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a1f9"/>
                    </a:gs>
                    <a:gs pos="100000">
                      <a:srgbClr val="19273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4" name="Freeform 13"/>
                <p:cNvSpPr/>
                <p:nvPr/>
              </p:nvSpPr>
              <p:spPr>
                <a:xfrm>
                  <a:off x="2971440" y="3218760"/>
                  <a:ext cx="1297080" cy="432000"/>
                </a:xfrm>
                <a:custGeom>
                  <a:avLst/>
                  <a:gdLst>
                    <a:gd name="textAreaLeft" fmla="*/ 0 w 1297080"/>
                    <a:gd name="textAreaRight" fmla="*/ 1297440 w 1297080"/>
                    <a:gd name="textAreaTop" fmla="*/ 0 h 432000"/>
                    <a:gd name="textAreaBottom" fmla="*/ 432360 h 4320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5a1f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15" name="AutoShape 14"/>
              <p:cNvSpPr/>
              <p:nvPr/>
            </p:nvSpPr>
            <p:spPr>
              <a:xfrm>
                <a:off x="2507400" y="3016080"/>
                <a:ext cx="2230200" cy="1514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8927" y="10010"/>
                    </a:moveTo>
                    <a:cubicBezTo>
                      <a:pt x="18521" y="5825"/>
                      <a:pt x="15003" y="2634"/>
                      <a:pt x="10800" y="2634"/>
                    </a:cubicBezTo>
                    <a:cubicBezTo>
                      <a:pt x="6290" y="2634"/>
                      <a:pt x="2634" y="6290"/>
                      <a:pt x="2634" y="10800"/>
                    </a:cubicBezTo>
                    <a:cubicBezTo>
                      <a:pt x="2634" y="15309"/>
                      <a:pt x="6290" y="18966"/>
                      <a:pt x="10800" y="18966"/>
                    </a:cubicBezTo>
                    <a:cubicBezTo>
                      <a:pt x="11743" y="18966"/>
                      <a:pt x="12678" y="18802"/>
                      <a:pt x="13566" y="18483"/>
                    </a:cubicBezTo>
                    <a:lnTo>
                      <a:pt x="14458" y="20961"/>
                    </a:lnTo>
                    <a:cubicBezTo>
                      <a:pt x="13284" y="21383"/>
                      <a:pt x="12047" y="21599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360" y="-1"/>
                      <a:pt x="21011" y="4221"/>
                      <a:pt x="21549" y="9755"/>
                    </a:cubicBezTo>
                    <a:lnTo>
                      <a:pt x="24236" y="9494"/>
                    </a:lnTo>
                    <a:lnTo>
                      <a:pt x="20627" y="13880"/>
                    </a:lnTo>
                    <a:lnTo>
                      <a:pt x="16240" y="10271"/>
                    </a:lnTo>
                    <a:lnTo>
                      <a:pt x="18927" y="100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d7755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Text Box 15"/>
              <p:cNvSpPr/>
              <p:nvPr/>
            </p:nvSpPr>
            <p:spPr>
              <a:xfrm>
                <a:off x="3316320" y="36122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需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7" name="Text Box 16"/>
            <p:cNvSpPr/>
            <p:nvPr/>
          </p:nvSpPr>
          <p:spPr>
            <a:xfrm>
              <a:off x="3114360" y="469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理需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Text Box 18"/>
            <p:cNvSpPr/>
            <p:nvPr/>
          </p:nvSpPr>
          <p:spPr>
            <a:xfrm>
              <a:off x="1667520" y="4084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安全需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Text Box 19"/>
            <p:cNvSpPr/>
            <p:nvPr/>
          </p:nvSpPr>
          <p:spPr>
            <a:xfrm>
              <a:off x="1676160" y="2941200"/>
              <a:ext cx="124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爱与归属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需要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Text Box 20"/>
            <p:cNvSpPr/>
            <p:nvPr/>
          </p:nvSpPr>
          <p:spPr>
            <a:xfrm>
              <a:off x="3190680" y="248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尊重需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Text Box 21"/>
            <p:cNvSpPr/>
            <p:nvPr/>
          </p:nvSpPr>
          <p:spPr>
            <a:xfrm>
              <a:off x="4562640" y="400860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自我实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需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4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组合 2"/>
          <p:cNvGrpSpPr/>
          <p:nvPr/>
        </p:nvGrpSpPr>
        <p:grpSpPr>
          <a:xfrm>
            <a:off x="895320" y="1677960"/>
            <a:ext cx="10426680" cy="3897360"/>
            <a:chOff x="895320" y="1677960"/>
            <a:chExt cx="10426680" cy="3897360"/>
          </a:xfrm>
        </p:grpSpPr>
        <p:sp>
          <p:nvSpPr>
            <p:cNvPr id="1323" name="矩形 16"/>
            <p:cNvSpPr/>
            <p:nvPr/>
          </p:nvSpPr>
          <p:spPr>
            <a:xfrm>
              <a:off x="8953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矩形 19"/>
            <p:cNvSpPr/>
            <p:nvPr/>
          </p:nvSpPr>
          <p:spPr>
            <a:xfrm>
              <a:off x="10188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5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三）满足患者需要的方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Text Box 11"/>
          <p:cNvSpPr/>
          <p:nvPr/>
        </p:nvSpPr>
        <p:spPr>
          <a:xfrm>
            <a:off x="1028880" y="2301840"/>
            <a:ext cx="1005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直接满足患者的需要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暂时或永久性的丧失自我满足需要能力的病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协助患者满足其需要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具有部分自我满足需要能力的患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间接满足患者的需要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有自护能力但缺乏知识的患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矩形 14"/>
          <p:cNvSpPr/>
          <p:nvPr/>
        </p:nvSpPr>
        <p:spPr>
          <a:xfrm>
            <a:off x="0" y="257040"/>
            <a:ext cx="691344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文本框 15"/>
          <p:cNvSpPr/>
          <p:nvPr/>
        </p:nvSpPr>
        <p:spPr>
          <a:xfrm>
            <a:off x="192240" y="257040"/>
            <a:ext cx="7229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需要层次理论在护理中的应用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直角三角形 18"/>
          <p:cNvSpPr/>
          <p:nvPr/>
        </p:nvSpPr>
        <p:spPr>
          <a:xfrm flipV="1">
            <a:off x="605808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组合 2"/>
          <p:cNvGrpSpPr/>
          <p:nvPr/>
        </p:nvGrpSpPr>
        <p:grpSpPr>
          <a:xfrm>
            <a:off x="895320" y="1677960"/>
            <a:ext cx="10426680" cy="3897360"/>
            <a:chOff x="895320" y="1677960"/>
            <a:chExt cx="10426680" cy="3897360"/>
          </a:xfrm>
        </p:grpSpPr>
        <p:sp>
          <p:nvSpPr>
            <p:cNvPr id="1335" name="矩形 16"/>
            <p:cNvSpPr/>
            <p:nvPr/>
          </p:nvSpPr>
          <p:spPr>
            <a:xfrm>
              <a:off x="8953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矩形 19"/>
            <p:cNvSpPr/>
            <p:nvPr/>
          </p:nvSpPr>
          <p:spPr>
            <a:xfrm>
              <a:off x="10188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文本框 15"/>
          <p:cNvSpPr/>
          <p:nvPr/>
        </p:nvSpPr>
        <p:spPr>
          <a:xfrm>
            <a:off x="0" y="27144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Arial"/>
                <a:ea typeface="微软雅黑"/>
              </a:rPr>
              <a:t>案     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 Box 11"/>
          <p:cNvSpPr/>
          <p:nvPr/>
        </p:nvSpPr>
        <p:spPr>
          <a:xfrm>
            <a:off x="1027080" y="2398680"/>
            <a:ext cx="10010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Arial"/>
                <a:ea typeface="微软雅黑"/>
              </a:rPr>
              <a:t>你能评估患者周某未能得到满足的需要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563c1"/>
                </a:solidFill>
                <a:latin typeface="Arial"/>
                <a:ea typeface="微软雅黑"/>
              </a:rPr>
              <a:t>　   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周某，女性，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8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。急诊心电图检查提示为急性前间壁、高侧壁心肌梗死，由平车推送入院。入病房监护室时，患者表情痛苦，面色苍白，四肢冰冷。家属述说患者发生持续心前区疼痛，同时伴有疼痛向后背及双肩放射的症状已约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组合 2"/>
          <p:cNvGrpSpPr/>
          <p:nvPr/>
        </p:nvGrpSpPr>
        <p:grpSpPr>
          <a:xfrm>
            <a:off x="895320" y="1677960"/>
            <a:ext cx="10426680" cy="3897360"/>
            <a:chOff x="895320" y="1677960"/>
            <a:chExt cx="10426680" cy="3897360"/>
          </a:xfrm>
        </p:grpSpPr>
        <p:sp>
          <p:nvSpPr>
            <p:cNvPr id="1347" name="矩形 16"/>
            <p:cNvSpPr/>
            <p:nvPr/>
          </p:nvSpPr>
          <p:spPr>
            <a:xfrm>
              <a:off x="8953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矩形 19"/>
            <p:cNvSpPr/>
            <p:nvPr/>
          </p:nvSpPr>
          <p:spPr>
            <a:xfrm>
              <a:off x="10188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9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文本框 15"/>
          <p:cNvSpPr/>
          <p:nvPr/>
        </p:nvSpPr>
        <p:spPr>
          <a:xfrm>
            <a:off x="0" y="27144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Arial"/>
                <a:ea typeface="微软雅黑"/>
              </a:rPr>
              <a:t>分    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Text Box 11"/>
          <p:cNvSpPr/>
          <p:nvPr/>
        </p:nvSpPr>
        <p:spPr>
          <a:xfrm>
            <a:off x="1428840" y="2198520"/>
            <a:ext cx="10661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周某未满足的需要和相应的护理措施有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生理需要和安全需要：应建立静脉通道、进行心电监护、配合医生采取溶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措施，维护有效循环及呼吸功能，取舒适体位，绝对卧床休息，保证患者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分的休息与睡眠，保持大便通畅，防止并发症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爱与归属的需要：应与患者建立良好的护患关系，病情稳定后允许亲友适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探视或陪护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 </a:t>
            </a: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自尊的需要：听取患者的意见，尊重患者的习惯和信仰，保护患者的隐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4. </a:t>
            </a: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自我实现的需要：制定活动的治疗方案，鼓励患者逐渐增加活动量，恢复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563c1"/>
                </a:solidFill>
                <a:latin typeface="微软雅黑"/>
                <a:ea typeface="微软雅黑"/>
              </a:rPr>
              <a:t>力，同时做好出院指导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1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1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任意多边形 15"/>
          <p:cNvSpPr/>
          <p:nvPr/>
        </p:nvSpPr>
        <p:spPr>
          <a:xfrm>
            <a:off x="257040" y="0"/>
            <a:ext cx="4572000" cy="6858000"/>
          </a:xfrm>
          <a:custGeom>
            <a:avLst/>
            <a:gdLst/>
            <a:ahLst/>
            <a:rect l="l" t="t" r="r" b="b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任意多边形 9"/>
          <p:cNvSpPr/>
          <p:nvPr/>
        </p:nvSpPr>
        <p:spPr>
          <a:xfrm>
            <a:off x="0" y="0"/>
            <a:ext cx="4572000" cy="6858000"/>
          </a:xfrm>
          <a:custGeom>
            <a:avLst/>
            <a:gdLst/>
            <a:ahLst/>
            <a:rect l="l" t="t" r="r" b="b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文本框 2"/>
          <p:cNvSpPr/>
          <p:nvPr/>
        </p:nvSpPr>
        <p:spPr>
          <a:xfrm>
            <a:off x="1235520" y="25210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护理学相关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椭圆 1"/>
          <p:cNvSpPr/>
          <p:nvPr/>
        </p:nvSpPr>
        <p:spPr>
          <a:xfrm>
            <a:off x="3270240" y="53640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椭圆 5"/>
          <p:cNvSpPr/>
          <p:nvPr/>
        </p:nvSpPr>
        <p:spPr>
          <a:xfrm>
            <a:off x="3994200" y="17971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椭圆 6"/>
          <p:cNvSpPr/>
          <p:nvPr/>
        </p:nvSpPr>
        <p:spPr>
          <a:xfrm>
            <a:off x="4137120" y="305748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7"/>
          <p:cNvSpPr/>
          <p:nvPr/>
        </p:nvSpPr>
        <p:spPr>
          <a:xfrm>
            <a:off x="4164120" y="62064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8"/>
          <p:cNvSpPr/>
          <p:nvPr/>
        </p:nvSpPr>
        <p:spPr>
          <a:xfrm>
            <a:off x="4834080" y="19242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需要层次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0"/>
          <p:cNvSpPr/>
          <p:nvPr/>
        </p:nvSpPr>
        <p:spPr>
          <a:xfrm>
            <a:off x="5003640" y="3129120"/>
            <a:ext cx="54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压力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椭圆 11"/>
          <p:cNvSpPr/>
          <p:nvPr/>
        </p:nvSpPr>
        <p:spPr>
          <a:xfrm>
            <a:off x="3992400" y="43369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椭圆 12"/>
          <p:cNvSpPr/>
          <p:nvPr/>
        </p:nvSpPr>
        <p:spPr>
          <a:xfrm>
            <a:off x="3268800" y="5597640"/>
            <a:ext cx="72360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文本框 13"/>
          <p:cNvSpPr/>
          <p:nvPr/>
        </p:nvSpPr>
        <p:spPr>
          <a:xfrm>
            <a:off x="4764240" y="44766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与发展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文本框 14"/>
          <p:cNvSpPr/>
          <p:nvPr/>
        </p:nvSpPr>
        <p:spPr>
          <a:xfrm>
            <a:off x="4110120" y="5778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339A-2014-401E-B9C3-1B4604A8DC68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目标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矩形 19"/>
          <p:cNvSpPr/>
          <p:nvPr/>
        </p:nvSpPr>
        <p:spPr>
          <a:xfrm>
            <a:off x="3292560" y="3083040"/>
            <a:ext cx="5587920" cy="3004920"/>
          </a:xfrm>
          <a:custGeom>
            <a:avLst/>
            <a:gdLst/>
            <a:ahLst/>
            <a:rect l="l" t="t" r="r" b="b"/>
            <a:pathLst>
              <a:path w="5589349" h="3006046">
                <a:moveTo>
                  <a:pt x="0" y="1765300"/>
                </a:moveTo>
                <a:lnTo>
                  <a:pt x="5567124" y="0"/>
                </a:lnTo>
                <a:lnTo>
                  <a:pt x="5589349" y="1247096"/>
                </a:lnTo>
                <a:lnTo>
                  <a:pt x="0" y="3006046"/>
                </a:lnTo>
                <a:lnTo>
                  <a:pt x="0" y="176530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矩形 19"/>
          <p:cNvSpPr/>
          <p:nvPr/>
        </p:nvSpPr>
        <p:spPr>
          <a:xfrm>
            <a:off x="3301920" y="1251000"/>
            <a:ext cx="5587920" cy="3083040"/>
          </a:xfrm>
          <a:custGeom>
            <a:avLst/>
            <a:gdLst/>
            <a:ahLst/>
            <a:rect l="l" t="t" r="r" b="b"/>
            <a:pathLst>
              <a:path w="5589349" h="3082246">
                <a:moveTo>
                  <a:pt x="0" y="1828800"/>
                </a:moveTo>
                <a:lnTo>
                  <a:pt x="5579824" y="0"/>
                </a:lnTo>
                <a:lnTo>
                  <a:pt x="5589349" y="1234396"/>
                </a:lnTo>
                <a:lnTo>
                  <a:pt x="0" y="3082246"/>
                </a:lnTo>
                <a:lnTo>
                  <a:pt x="0" y="1828800"/>
                </a:lnTo>
                <a:close/>
              </a:path>
            </a:pathLst>
          </a:custGeom>
          <a:solidFill>
            <a:srgbClr val="2a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juxing1"/>
          <p:cNvSpPr/>
          <p:nvPr/>
        </p:nvSpPr>
        <p:spPr>
          <a:xfrm>
            <a:off x="3200400" y="1222200"/>
            <a:ext cx="5597640" cy="1252800"/>
          </a:xfrm>
          <a:prstGeom prst="rect">
            <a:avLst/>
          </a:prstGeom>
          <a:solidFill>
            <a:srgbClr val="7eb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juxing2"/>
          <p:cNvSpPr/>
          <p:nvPr/>
        </p:nvSpPr>
        <p:spPr>
          <a:xfrm>
            <a:off x="3200400" y="3106800"/>
            <a:ext cx="5597640" cy="125424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juxing3"/>
          <p:cNvSpPr/>
          <p:nvPr/>
        </p:nvSpPr>
        <p:spPr>
          <a:xfrm>
            <a:off x="3297240" y="4848120"/>
            <a:ext cx="5597640" cy="1252800"/>
          </a:xfrm>
          <a:prstGeom prst="rect">
            <a:avLst/>
          </a:prstGeom>
          <a:solidFill>
            <a:srgbClr val="28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文本框 37"/>
          <p:cNvSpPr/>
          <p:nvPr/>
        </p:nvSpPr>
        <p:spPr>
          <a:xfrm>
            <a:off x="3513240" y="1646280"/>
            <a:ext cx="52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微软雅黑"/>
                <a:ea typeface="微软雅黑"/>
              </a:rPr>
              <a:t>了解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关压力的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文本框 38"/>
          <p:cNvSpPr/>
          <p:nvPr/>
        </p:nvSpPr>
        <p:spPr>
          <a:xfrm>
            <a:off x="3384720" y="3289320"/>
            <a:ext cx="52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压力的概念和压力理论在护理中的运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文本框 39"/>
          <p:cNvSpPr/>
          <p:nvPr/>
        </p:nvSpPr>
        <p:spPr>
          <a:xfrm>
            <a:off x="3441600" y="5226120"/>
            <a:ext cx="52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  <a:ea typeface="微软雅黑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对压力的防卫和适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等腰三角形 41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等腰三角形 42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5EA2-98DC-4742-A3A9-436322FC3670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压力理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等腰三角形 15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等腰三角形 24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矩形 1"/>
          <p:cNvSpPr/>
          <p:nvPr/>
        </p:nvSpPr>
        <p:spPr>
          <a:xfrm>
            <a:off x="4924440" y="2413080"/>
            <a:ext cx="1171440" cy="979560"/>
          </a:xfrm>
          <a:prstGeom prst="rect">
            <a:avLst/>
          </a:prstGeom>
          <a:solidFill>
            <a:srgbClr val="f7caac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矩形 14"/>
          <p:cNvSpPr/>
          <p:nvPr/>
        </p:nvSpPr>
        <p:spPr>
          <a:xfrm>
            <a:off x="6095880" y="1903320"/>
            <a:ext cx="1503360" cy="1489320"/>
          </a:xfrm>
          <a:prstGeom prst="rect">
            <a:avLst/>
          </a:prstGeom>
          <a:solidFill>
            <a:srgbClr val="ffe599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矩形 16"/>
          <p:cNvSpPr/>
          <p:nvPr/>
        </p:nvSpPr>
        <p:spPr>
          <a:xfrm>
            <a:off x="4592520" y="3392640"/>
            <a:ext cx="1503360" cy="1406520"/>
          </a:xfrm>
          <a:prstGeom prst="rect">
            <a:avLst/>
          </a:prstGeom>
          <a:solidFill>
            <a:srgbClr val="c4e0b2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矩形 19"/>
          <p:cNvSpPr/>
          <p:nvPr/>
        </p:nvSpPr>
        <p:spPr>
          <a:xfrm>
            <a:off x="6095880" y="3392640"/>
            <a:ext cx="1024200" cy="979200"/>
          </a:xfrm>
          <a:prstGeom prst="rect">
            <a:avLst/>
          </a:prstGeom>
          <a:solidFill>
            <a:srgbClr val="9cc2e5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文本框 2"/>
          <p:cNvSpPr/>
          <p:nvPr/>
        </p:nvSpPr>
        <p:spPr>
          <a:xfrm>
            <a:off x="1276200" y="2054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压力的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文本框 20"/>
          <p:cNvSpPr/>
          <p:nvPr/>
        </p:nvSpPr>
        <p:spPr>
          <a:xfrm>
            <a:off x="7977240" y="205416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塞里的压力适应综合征学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文本框 2"/>
          <p:cNvSpPr/>
          <p:nvPr/>
        </p:nvSpPr>
        <p:spPr>
          <a:xfrm>
            <a:off x="1131840" y="383544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对压力的适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文本框 2"/>
          <p:cNvSpPr/>
          <p:nvPr/>
        </p:nvSpPr>
        <p:spPr>
          <a:xfrm>
            <a:off x="8083440" y="38577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对压力的防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2"/>
          <p:cNvSpPr/>
          <p:nvPr/>
        </p:nvSpPr>
        <p:spPr>
          <a:xfrm>
            <a:off x="4600440" y="533412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9bd5"/>
                </a:solidFill>
                <a:latin typeface="微软雅黑"/>
                <a:ea typeface="微软雅黑"/>
              </a:rPr>
              <a:t>五、压力理论在护理中的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0" name="组合 2"/>
          <p:cNvGrpSpPr/>
          <p:nvPr/>
        </p:nvGrpSpPr>
        <p:grpSpPr>
          <a:xfrm>
            <a:off x="885960" y="1668600"/>
            <a:ext cx="10426680" cy="3897000"/>
            <a:chOff x="885960" y="1668600"/>
            <a:chExt cx="10426680" cy="3897000"/>
          </a:xfrm>
        </p:grpSpPr>
        <p:sp>
          <p:nvSpPr>
            <p:cNvPr id="1401" name="矩形 16"/>
            <p:cNvSpPr/>
            <p:nvPr/>
          </p:nvSpPr>
          <p:spPr>
            <a:xfrm>
              <a:off x="885960" y="1668600"/>
              <a:ext cx="10426680" cy="389700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矩形 19"/>
            <p:cNvSpPr/>
            <p:nvPr/>
          </p:nvSpPr>
          <p:spPr>
            <a:xfrm>
              <a:off x="1009440" y="1801800"/>
              <a:ext cx="10101240" cy="363060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3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文本框 15"/>
          <p:cNvSpPr/>
          <p:nvPr/>
        </p:nvSpPr>
        <p:spPr>
          <a:xfrm>
            <a:off x="0" y="27144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一、压力的概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7"/>
          <p:cNvSpPr/>
          <p:nvPr/>
        </p:nvSpPr>
        <p:spPr>
          <a:xfrm>
            <a:off x="1204920" y="1397160"/>
            <a:ext cx="753732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一）压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 Box 11"/>
          <p:cNvSpPr/>
          <p:nvPr/>
        </p:nvSpPr>
        <p:spPr>
          <a:xfrm>
            <a:off x="1071720" y="2370240"/>
            <a:ext cx="977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压力是指个体对作用于自身的内外环境刺激做出认知评价后，引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的一系列非特异性的生理及心理紧张性反应状态的过程。压力又称应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或紧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2" name="组合 2"/>
          <p:cNvGrpSpPr/>
          <p:nvPr/>
        </p:nvGrpSpPr>
        <p:grpSpPr>
          <a:xfrm>
            <a:off x="895320" y="1677960"/>
            <a:ext cx="10426680" cy="3897360"/>
            <a:chOff x="895320" y="1677960"/>
            <a:chExt cx="10426680" cy="3897360"/>
          </a:xfrm>
        </p:grpSpPr>
        <p:sp>
          <p:nvSpPr>
            <p:cNvPr id="1413" name="矩形 16"/>
            <p:cNvSpPr/>
            <p:nvPr/>
          </p:nvSpPr>
          <p:spPr>
            <a:xfrm>
              <a:off x="8953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矩形 19"/>
            <p:cNvSpPr/>
            <p:nvPr/>
          </p:nvSpPr>
          <p:spPr>
            <a:xfrm>
              <a:off x="10188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5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文本框 15"/>
          <p:cNvSpPr/>
          <p:nvPr/>
        </p:nvSpPr>
        <p:spPr>
          <a:xfrm>
            <a:off x="0" y="27144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一、压力的概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矩形 17"/>
          <p:cNvSpPr/>
          <p:nvPr/>
        </p:nvSpPr>
        <p:spPr>
          <a:xfrm>
            <a:off x="1204920" y="1397160"/>
            <a:ext cx="751032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压力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 Box 11"/>
          <p:cNvSpPr/>
          <p:nvPr/>
        </p:nvSpPr>
        <p:spPr>
          <a:xfrm>
            <a:off x="1239840" y="1981080"/>
            <a:ext cx="977436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压力源又称应激源或紧张源，指任何能使机体产生压力反应的内外环境的刺激。按性质分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躯体性压力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心理性压力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社会性压力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.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文化性压力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4" name="Picture 11" descr="u=2533631125,31163516&amp;fm=23&amp;gp=0"/>
          <p:cNvPicPr/>
          <p:nvPr/>
        </p:nvPicPr>
        <p:blipFill>
          <a:blip r:embed="rId1"/>
          <a:stretch/>
        </p:blipFill>
        <p:spPr>
          <a:xfrm>
            <a:off x="5435640" y="2887560"/>
            <a:ext cx="255600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目标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9"/>
          <p:cNvSpPr/>
          <p:nvPr/>
        </p:nvSpPr>
        <p:spPr>
          <a:xfrm>
            <a:off x="3292560" y="3083040"/>
            <a:ext cx="5587920" cy="3006720"/>
          </a:xfrm>
          <a:custGeom>
            <a:avLst/>
            <a:gdLst/>
            <a:ahLst/>
            <a:rect l="l" t="t" r="r" b="b"/>
            <a:pathLst>
              <a:path w="5589349" h="3006046">
                <a:moveTo>
                  <a:pt x="0" y="1765300"/>
                </a:moveTo>
                <a:lnTo>
                  <a:pt x="5567124" y="0"/>
                </a:lnTo>
                <a:lnTo>
                  <a:pt x="5589349" y="1247096"/>
                </a:lnTo>
                <a:lnTo>
                  <a:pt x="0" y="3006046"/>
                </a:lnTo>
                <a:lnTo>
                  <a:pt x="0" y="176530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19"/>
          <p:cNvSpPr/>
          <p:nvPr/>
        </p:nvSpPr>
        <p:spPr>
          <a:xfrm>
            <a:off x="3301920" y="1251000"/>
            <a:ext cx="5587920" cy="3083040"/>
          </a:xfrm>
          <a:custGeom>
            <a:avLst/>
            <a:gdLst/>
            <a:ahLst/>
            <a:rect l="l" t="t" r="r" b="b"/>
            <a:pathLst>
              <a:path w="5589349" h="3082246">
                <a:moveTo>
                  <a:pt x="0" y="1828800"/>
                </a:moveTo>
                <a:lnTo>
                  <a:pt x="5579824" y="0"/>
                </a:lnTo>
                <a:lnTo>
                  <a:pt x="5589349" y="1234396"/>
                </a:lnTo>
                <a:lnTo>
                  <a:pt x="0" y="3082246"/>
                </a:lnTo>
                <a:lnTo>
                  <a:pt x="0" y="1828800"/>
                </a:lnTo>
                <a:close/>
              </a:path>
            </a:pathLst>
          </a:custGeom>
          <a:solidFill>
            <a:srgbClr val="2a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juxing1"/>
          <p:cNvSpPr/>
          <p:nvPr/>
        </p:nvSpPr>
        <p:spPr>
          <a:xfrm>
            <a:off x="3268800" y="1236600"/>
            <a:ext cx="5599080" cy="1252440"/>
          </a:xfrm>
          <a:prstGeom prst="rect">
            <a:avLst/>
          </a:prstGeom>
          <a:solidFill>
            <a:srgbClr val="7eb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juxing2"/>
          <p:cNvSpPr/>
          <p:nvPr/>
        </p:nvSpPr>
        <p:spPr>
          <a:xfrm>
            <a:off x="3295800" y="3079800"/>
            <a:ext cx="5599080" cy="125424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juxing3"/>
          <p:cNvSpPr/>
          <p:nvPr/>
        </p:nvSpPr>
        <p:spPr>
          <a:xfrm>
            <a:off x="3295800" y="4848120"/>
            <a:ext cx="5599080" cy="1252800"/>
          </a:xfrm>
          <a:prstGeom prst="rect">
            <a:avLst/>
          </a:prstGeom>
          <a:solidFill>
            <a:srgbClr val="28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文本框 37"/>
          <p:cNvSpPr/>
          <p:nvPr/>
        </p:nvSpPr>
        <p:spPr>
          <a:xfrm>
            <a:off x="3540240" y="1576440"/>
            <a:ext cx="52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微软雅黑"/>
                <a:ea typeface="微软雅黑"/>
              </a:rPr>
              <a:t>了解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的基本属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38"/>
          <p:cNvSpPr/>
          <p:nvPr/>
        </p:nvSpPr>
        <p:spPr>
          <a:xfrm>
            <a:off x="3538440" y="5049720"/>
            <a:ext cx="526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论压力理论心理社会发展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在护理中的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9"/>
          <p:cNvSpPr/>
          <p:nvPr/>
        </p:nvSpPr>
        <p:spPr>
          <a:xfrm>
            <a:off x="3511440" y="338292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的基本概念、分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等腰三角形 41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等腰三角形 42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组合 2"/>
          <p:cNvGrpSpPr/>
          <p:nvPr/>
        </p:nvGrpSpPr>
        <p:grpSpPr>
          <a:xfrm>
            <a:off x="905040" y="1677960"/>
            <a:ext cx="10426680" cy="3897360"/>
            <a:chOff x="905040" y="1677960"/>
            <a:chExt cx="10426680" cy="3897360"/>
          </a:xfrm>
        </p:grpSpPr>
        <p:sp>
          <p:nvSpPr>
            <p:cNvPr id="1426" name="矩形 16"/>
            <p:cNvSpPr/>
            <p:nvPr/>
          </p:nvSpPr>
          <p:spPr>
            <a:xfrm>
              <a:off x="90504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矩形 19"/>
            <p:cNvSpPr/>
            <p:nvPr/>
          </p:nvSpPr>
          <p:spPr>
            <a:xfrm>
              <a:off x="102852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8" name="直角三角形 20"/>
          <p:cNvSpPr/>
          <p:nvPr/>
        </p:nvSpPr>
        <p:spPr>
          <a:xfrm flipH="1" flipV="1" rot="10800000">
            <a:off x="8671320" y="1398960"/>
            <a:ext cx="35748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文本框 15"/>
          <p:cNvSpPr/>
          <p:nvPr/>
        </p:nvSpPr>
        <p:spPr>
          <a:xfrm>
            <a:off x="0" y="27144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一、压力的概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矩形 17"/>
          <p:cNvSpPr/>
          <p:nvPr/>
        </p:nvSpPr>
        <p:spPr>
          <a:xfrm>
            <a:off x="12049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三）压力反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 Box 11"/>
          <p:cNvSpPr/>
          <p:nvPr/>
        </p:nvSpPr>
        <p:spPr>
          <a:xfrm>
            <a:off x="1514520" y="2463840"/>
            <a:ext cx="29019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生理反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心理反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7" name="Picture 15" descr="u=258264758,3046875349&amp;fm=21&amp;gp=0"/>
          <p:cNvPicPr/>
          <p:nvPr/>
        </p:nvPicPr>
        <p:blipFill>
          <a:blip r:embed="rId1"/>
          <a:stretch/>
        </p:blipFill>
        <p:spPr>
          <a:xfrm>
            <a:off x="5415120" y="2305080"/>
            <a:ext cx="2415960" cy="28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8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439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25"/>
          <p:cNvSpPr/>
          <p:nvPr/>
        </p:nvSpPr>
        <p:spPr>
          <a:xfrm>
            <a:off x="1400040" y="2558880"/>
            <a:ext cx="49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汉斯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塞利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Hans Selye)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是加拿大生理心理学家，被称为压力理论之父。人体长期处于压力状态会引起心身疾病。适当的压力有利于促进个人的成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文本框 15"/>
          <p:cNvSpPr/>
          <p:nvPr/>
        </p:nvSpPr>
        <p:spPr>
          <a:xfrm>
            <a:off x="192240" y="257040"/>
            <a:ext cx="579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塞里的压力适应综合征学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1" name="Group 10"/>
          <p:cNvGrpSpPr/>
          <p:nvPr/>
        </p:nvGrpSpPr>
        <p:grpSpPr>
          <a:xfrm>
            <a:off x="7162920" y="1900080"/>
            <a:ext cx="2302920" cy="3313080"/>
            <a:chOff x="7162920" y="1900080"/>
            <a:chExt cx="2302920" cy="3313080"/>
          </a:xfrm>
        </p:grpSpPr>
        <p:pic>
          <p:nvPicPr>
            <p:cNvPr id="1452" name="Picture 1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62920" y="1900080"/>
              <a:ext cx="230292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Picture 12" descr="汉斯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523280" y="2551680"/>
              <a:ext cx="1595880" cy="208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4" name="Text Box 13"/>
          <p:cNvSpPr/>
          <p:nvPr/>
        </p:nvSpPr>
        <p:spPr>
          <a:xfrm>
            <a:off x="7923240" y="50245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汉斯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·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塞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456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8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文本框 25"/>
          <p:cNvSpPr/>
          <p:nvPr/>
        </p:nvSpPr>
        <p:spPr>
          <a:xfrm>
            <a:off x="1009800" y="2519280"/>
            <a:ext cx="97977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塞里认为压力是机体对内外环境中的各种不同刺激所产生的一种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特异性反应（整个身体对任何作用于他的特殊因素所进行的反应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文本框 15"/>
          <p:cNvSpPr/>
          <p:nvPr/>
        </p:nvSpPr>
        <p:spPr>
          <a:xfrm>
            <a:off x="192240" y="257040"/>
            <a:ext cx="579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塞里的压力适应综合征学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矩形 17"/>
          <p:cNvSpPr/>
          <p:nvPr/>
        </p:nvSpPr>
        <p:spPr>
          <a:xfrm>
            <a:off x="1233360" y="1397160"/>
            <a:ext cx="75106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一）压力概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469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文本框 25"/>
          <p:cNvSpPr/>
          <p:nvPr/>
        </p:nvSpPr>
        <p:spPr>
          <a:xfrm>
            <a:off x="1009800" y="2519280"/>
            <a:ext cx="979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全身适应综合征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GAS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刺激侵犯机体产生的相同的反应群。如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重下降、疼痛、疲倦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局部适应综合征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LAS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：发生在身体某一器官或区域内的反应。如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部炎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文本框 15"/>
          <p:cNvSpPr/>
          <p:nvPr/>
        </p:nvSpPr>
        <p:spPr>
          <a:xfrm>
            <a:off x="192240" y="257040"/>
            <a:ext cx="579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塞里的压力适应综合征学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矩形 17"/>
          <p:cNvSpPr/>
          <p:nvPr/>
        </p:nvSpPr>
        <p:spPr>
          <a:xfrm>
            <a:off x="1233360" y="1397160"/>
            <a:ext cx="75088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压力反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1" name="组合 2"/>
          <p:cNvGrpSpPr/>
          <p:nvPr/>
        </p:nvGrpSpPr>
        <p:grpSpPr>
          <a:xfrm>
            <a:off x="882720" y="1665360"/>
            <a:ext cx="10426680" cy="5192640"/>
            <a:chOff x="882720" y="1665360"/>
            <a:chExt cx="10426680" cy="5192640"/>
          </a:xfrm>
        </p:grpSpPr>
        <p:sp>
          <p:nvSpPr>
            <p:cNvPr id="1482" name="矩形 16"/>
            <p:cNvSpPr/>
            <p:nvPr/>
          </p:nvSpPr>
          <p:spPr>
            <a:xfrm>
              <a:off x="882720" y="1665360"/>
              <a:ext cx="10426680" cy="519264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矩形 19"/>
            <p:cNvSpPr/>
            <p:nvPr/>
          </p:nvSpPr>
          <p:spPr>
            <a:xfrm>
              <a:off x="1006200" y="1842840"/>
              <a:ext cx="10101240" cy="483732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文本框 15"/>
          <p:cNvSpPr/>
          <p:nvPr/>
        </p:nvSpPr>
        <p:spPr>
          <a:xfrm>
            <a:off x="192240" y="257040"/>
            <a:ext cx="579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塞里的压力适应综合征学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矩形 17"/>
          <p:cNvSpPr/>
          <p:nvPr/>
        </p:nvSpPr>
        <p:spPr>
          <a:xfrm>
            <a:off x="1233360" y="1397160"/>
            <a:ext cx="75232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三）压力反应过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文本框 25"/>
          <p:cNvSpPr/>
          <p:nvPr/>
        </p:nvSpPr>
        <p:spPr>
          <a:xfrm>
            <a:off x="841320" y="2247840"/>
            <a:ext cx="10769760" cy="30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S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AS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均分为三个不同的阶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阶段（警觉期）：交感神经兴奋      肾上腺皮质激素分泌增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阶段（抵抗期）：人体与压力源对抗，对抗成功内环境稳定  ，反之进入第三阶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阶段（衰竭期）：适应性资源耗尽，抵抗力下降。体重减轻、    激素耗竭、淋巴功能紊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495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7" name="直角三角形 20"/>
          <p:cNvSpPr/>
          <p:nvPr/>
        </p:nvSpPr>
        <p:spPr>
          <a:xfrm flipH="1" flipV="1" rot="10800000">
            <a:off x="8712720" y="1397520"/>
            <a:ext cx="358920" cy="2826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文本框 25"/>
          <p:cNvSpPr/>
          <p:nvPr/>
        </p:nvSpPr>
        <p:spPr>
          <a:xfrm>
            <a:off x="1009800" y="2519280"/>
            <a:ext cx="97977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S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LAS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均分为三个不同的阶段：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阶段（警觉期）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阶段（抵抗期）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阶段（衰竭期）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等腰三角形 1"/>
          <p:cNvSpPr/>
          <p:nvPr/>
        </p:nvSpPr>
        <p:spPr>
          <a:xfrm rot="2741400">
            <a:off x="11346840" y="5740200"/>
            <a:ext cx="1511280" cy="130500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等腰三角形 3"/>
          <p:cNvSpPr/>
          <p:nvPr/>
        </p:nvSpPr>
        <p:spPr>
          <a:xfrm>
            <a:off x="10748880" y="6477120"/>
            <a:ext cx="44136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矩形 14"/>
          <p:cNvSpPr/>
          <p:nvPr/>
        </p:nvSpPr>
        <p:spPr>
          <a:xfrm>
            <a:off x="0" y="258840"/>
            <a:ext cx="5116680" cy="5680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文本框 15"/>
          <p:cNvSpPr/>
          <p:nvPr/>
        </p:nvSpPr>
        <p:spPr>
          <a:xfrm>
            <a:off x="192240" y="255600"/>
            <a:ext cx="580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塞里的压力适应综合征学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直角三角形 18"/>
          <p:cNvSpPr/>
          <p:nvPr/>
        </p:nvSpPr>
        <p:spPr>
          <a:xfrm flipV="1">
            <a:off x="4259160" y="826920"/>
            <a:ext cx="8575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矩形 17"/>
          <p:cNvSpPr/>
          <p:nvPr/>
        </p:nvSpPr>
        <p:spPr>
          <a:xfrm>
            <a:off x="1233360" y="1397160"/>
            <a:ext cx="75232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c000"/>
                </a:solidFill>
                <a:latin typeface="Arial"/>
                <a:ea typeface="微软雅黑"/>
              </a:rPr>
              <a:t>（三）压力反应过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文本框 21"/>
          <p:cNvSpPr/>
          <p:nvPr/>
        </p:nvSpPr>
        <p:spPr>
          <a:xfrm>
            <a:off x="1525680" y="1409760"/>
            <a:ext cx="69958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7" name="Picture 15" descr=""/>
          <p:cNvPicPr/>
          <p:nvPr/>
        </p:nvPicPr>
        <p:blipFill>
          <a:blip r:embed="rId1"/>
          <a:stretch/>
        </p:blipFill>
        <p:spPr>
          <a:xfrm>
            <a:off x="5892840" y="1905120"/>
            <a:ext cx="5486400" cy="35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1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8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509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文本框 25"/>
          <p:cNvSpPr/>
          <p:nvPr/>
        </p:nvSpPr>
        <p:spPr>
          <a:xfrm>
            <a:off x="1009800" y="2519280"/>
            <a:ext cx="97977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是生物体以各种方式调整自己以适应环境的一种生存能力及过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适应是所有生物的特征，是应对的最终目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对压力的适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矩形 17"/>
          <p:cNvSpPr/>
          <p:nvPr/>
        </p:nvSpPr>
        <p:spPr>
          <a:xfrm>
            <a:off x="1233360" y="1397160"/>
            <a:ext cx="749484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一）适应的概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1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522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对压力的适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矩形 17"/>
          <p:cNvSpPr/>
          <p:nvPr/>
        </p:nvSpPr>
        <p:spPr>
          <a:xfrm>
            <a:off x="1233360" y="1397160"/>
            <a:ext cx="74818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适应的层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文本框 21"/>
          <p:cNvSpPr/>
          <p:nvPr/>
        </p:nvSpPr>
        <p:spPr>
          <a:xfrm>
            <a:off x="2212920" y="1928880"/>
            <a:ext cx="5246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Picture 15" descr=""/>
          <p:cNvPicPr/>
          <p:nvPr/>
        </p:nvPicPr>
        <p:blipFill>
          <a:blip r:embed="rId1"/>
          <a:stretch/>
        </p:blipFill>
        <p:spPr>
          <a:xfrm>
            <a:off x="1389240" y="2590920"/>
            <a:ext cx="3962160" cy="2666880"/>
          </a:xfrm>
          <a:prstGeom prst="rect">
            <a:avLst/>
          </a:prstGeom>
          <a:ln w="0">
            <a:noFill/>
          </a:ln>
        </p:spPr>
      </p:pic>
      <p:sp>
        <p:nvSpPr>
          <p:cNvPr id="1535" name="TextBox 14"/>
          <p:cNvSpPr/>
          <p:nvPr/>
        </p:nvSpPr>
        <p:spPr>
          <a:xfrm>
            <a:off x="4954680" y="2793960"/>
            <a:ext cx="749124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体温、血压、血糖等随昼夜节律性改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例：初学跑步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特定情况：适应表现为感觉灵敏度降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TextBox 15"/>
          <p:cNvSpPr/>
          <p:nvPr/>
        </p:nvSpPr>
        <p:spPr>
          <a:xfrm>
            <a:off x="3201840" y="4890960"/>
            <a:ext cx="6323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科学技术改善生存环境：日本房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线形标注 2 18"/>
          <p:cNvSpPr/>
          <p:nvPr/>
        </p:nvSpPr>
        <p:spPr>
          <a:xfrm>
            <a:off x="7850160" y="1268280"/>
            <a:ext cx="4595760" cy="10670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77481"/>
              <a:gd name="adj6" fmla="val -126611"/>
            </a:avLst>
          </a:prstGeom>
          <a:solidFill>
            <a:srgbClr val="ffff00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体通过机体生理功能的调整去适应外界环境的变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TextBox 15"/>
          <p:cNvSpPr/>
          <p:nvPr/>
        </p:nvSpPr>
        <p:spPr>
          <a:xfrm>
            <a:off x="3583080" y="4394160"/>
            <a:ext cx="71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通过改变行为来适应法规、习俗和道德规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9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540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2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文本框 25"/>
          <p:cNvSpPr/>
          <p:nvPr/>
        </p:nvSpPr>
        <p:spPr>
          <a:xfrm>
            <a:off x="1009800" y="2519280"/>
            <a:ext cx="9797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生理防卫：包括遗传因素、营养状况、免疫机制等在内的生理状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心理防卫：是指心理上对压力作出适当反应的过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对压力的防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矩形 17"/>
          <p:cNvSpPr/>
          <p:nvPr/>
        </p:nvSpPr>
        <p:spPr>
          <a:xfrm>
            <a:off x="1233360" y="1397160"/>
            <a:ext cx="74962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一）第一线防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2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553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5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文本框 25"/>
          <p:cNvSpPr/>
          <p:nvPr/>
        </p:nvSpPr>
        <p:spPr>
          <a:xfrm>
            <a:off x="968400" y="2130480"/>
            <a:ext cx="979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自力救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方法四种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正确对待问题（评估压力源，采取应对措施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正确对待情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利于可能的支持力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减少压力的生理影响</a:t>
            </a:r>
            <a:r>
              <a:rPr b="0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对压力的防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矩形 17"/>
          <p:cNvSpPr/>
          <p:nvPr/>
        </p:nvSpPr>
        <p:spPr>
          <a:xfrm>
            <a:off x="1233360" y="1397160"/>
            <a:ext cx="75232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第二线防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1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1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1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1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等腰三角形 15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等腰三角形 24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1"/>
          <p:cNvSpPr/>
          <p:nvPr/>
        </p:nvSpPr>
        <p:spPr>
          <a:xfrm>
            <a:off x="4924440" y="2413080"/>
            <a:ext cx="1171440" cy="979560"/>
          </a:xfrm>
          <a:prstGeom prst="rect">
            <a:avLst/>
          </a:prstGeom>
          <a:solidFill>
            <a:srgbClr val="f7caac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矩形 14"/>
          <p:cNvSpPr/>
          <p:nvPr/>
        </p:nvSpPr>
        <p:spPr>
          <a:xfrm>
            <a:off x="6095880" y="1903320"/>
            <a:ext cx="1503360" cy="1489320"/>
          </a:xfrm>
          <a:prstGeom prst="rect">
            <a:avLst/>
          </a:prstGeom>
          <a:solidFill>
            <a:srgbClr val="ffe599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矩形 16"/>
          <p:cNvSpPr/>
          <p:nvPr/>
        </p:nvSpPr>
        <p:spPr>
          <a:xfrm>
            <a:off x="4592520" y="3392640"/>
            <a:ext cx="1503360" cy="1406520"/>
          </a:xfrm>
          <a:prstGeom prst="rect">
            <a:avLst/>
          </a:prstGeom>
          <a:solidFill>
            <a:srgbClr val="c4e0b2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矩形 19"/>
          <p:cNvSpPr/>
          <p:nvPr/>
        </p:nvSpPr>
        <p:spPr>
          <a:xfrm>
            <a:off x="6095880" y="3392640"/>
            <a:ext cx="1024200" cy="979200"/>
          </a:xfrm>
          <a:prstGeom prst="rect">
            <a:avLst/>
          </a:prstGeom>
          <a:solidFill>
            <a:srgbClr val="9cc2e5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2"/>
          <p:cNvSpPr/>
          <p:nvPr/>
        </p:nvSpPr>
        <p:spPr>
          <a:xfrm>
            <a:off x="1276200" y="2054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、系统的基本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20"/>
          <p:cNvSpPr/>
          <p:nvPr/>
        </p:nvSpPr>
        <p:spPr>
          <a:xfrm>
            <a:off x="7977240" y="205416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二、系统的分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文本框 2"/>
          <p:cNvSpPr/>
          <p:nvPr/>
        </p:nvSpPr>
        <p:spPr>
          <a:xfrm>
            <a:off x="1173240" y="39607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三、系统的基本属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文本框 2"/>
          <p:cNvSpPr/>
          <p:nvPr/>
        </p:nvSpPr>
        <p:spPr>
          <a:xfrm>
            <a:off x="7610400" y="3968640"/>
            <a:ext cx="34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四、系统论与护理程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5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566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8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文本框 25"/>
          <p:cNvSpPr/>
          <p:nvPr/>
        </p:nvSpPr>
        <p:spPr>
          <a:xfrm>
            <a:off x="1077840" y="2602080"/>
            <a:ext cx="9798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专业辅导</a:t>
            </a:r>
            <a:r>
              <a:rPr b="0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：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当压力源突破了个体的第一、第二防线后导致个体出现身心疾病时，就必须及时寻求医护人员的帮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对压力的防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矩形 17"/>
          <p:cNvSpPr/>
          <p:nvPr/>
        </p:nvSpPr>
        <p:spPr>
          <a:xfrm>
            <a:off x="1233360" y="1397160"/>
            <a:ext cx="75088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三）第三线防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579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压力理论在护理中的应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矩形 17"/>
          <p:cNvSpPr/>
          <p:nvPr/>
        </p:nvSpPr>
        <p:spPr>
          <a:xfrm>
            <a:off x="1233360" y="1397160"/>
            <a:ext cx="749484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一）医院中常见的压力源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0" name="Picture 15" descr=""/>
          <p:cNvPicPr/>
          <p:nvPr/>
        </p:nvPicPr>
        <p:blipFill>
          <a:blip r:embed="rId1"/>
          <a:stretch/>
        </p:blipFill>
        <p:spPr>
          <a:xfrm>
            <a:off x="1889280" y="2313000"/>
            <a:ext cx="806760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1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592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文本框 25"/>
          <p:cNvSpPr/>
          <p:nvPr/>
        </p:nvSpPr>
        <p:spPr>
          <a:xfrm>
            <a:off x="1392120" y="2171880"/>
            <a:ext cx="97981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士不全面了解患者的需要（生理、心理、社会方面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士的工作能力差，不能及时发现病情变化及处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士忽略了环境对患者刺激，如噪音、光线、温度不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理工作中未重视建立相互信任的护患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5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理工作得不到家属支持与配合，使患者产生不安全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压力理论在护理中的应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矩形 17"/>
          <p:cNvSpPr/>
          <p:nvPr/>
        </p:nvSpPr>
        <p:spPr>
          <a:xfrm>
            <a:off x="1233360" y="1397160"/>
            <a:ext cx="75232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与护理工作有关的压力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1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1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605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文本框 25"/>
          <p:cNvSpPr/>
          <p:nvPr/>
        </p:nvSpPr>
        <p:spPr>
          <a:xfrm>
            <a:off x="1108080" y="2360520"/>
            <a:ext cx="45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评估分析压力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创作良好的住院环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针对实际情况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指导患者运用恰当应对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5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调动患者的社会支持系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压力理论在护理中的应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矩形 17"/>
          <p:cNvSpPr/>
          <p:nvPr/>
        </p:nvSpPr>
        <p:spPr>
          <a:xfrm>
            <a:off x="1233360" y="1397160"/>
            <a:ext cx="74962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三）帮助患者应对压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7" name="图片 219150" descr="IMG_0553"/>
          <p:cNvPicPr/>
          <p:nvPr/>
        </p:nvPicPr>
        <p:blipFill>
          <a:blip r:embed="rId1"/>
          <a:stretch/>
        </p:blipFill>
        <p:spPr>
          <a:xfrm>
            <a:off x="5664240" y="2101680"/>
            <a:ext cx="402444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1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1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1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1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8" name="组合 2"/>
          <p:cNvGrpSpPr/>
          <p:nvPr/>
        </p:nvGrpSpPr>
        <p:grpSpPr>
          <a:xfrm>
            <a:off x="882720" y="1855800"/>
            <a:ext cx="10426680" cy="3897360"/>
            <a:chOff x="882720" y="1855800"/>
            <a:chExt cx="10426680" cy="3897360"/>
          </a:xfrm>
        </p:grpSpPr>
        <p:sp>
          <p:nvSpPr>
            <p:cNvPr id="1619" name="矩形 16"/>
            <p:cNvSpPr/>
            <p:nvPr/>
          </p:nvSpPr>
          <p:spPr>
            <a:xfrm>
              <a:off x="882720" y="185580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矩形 19"/>
            <p:cNvSpPr/>
            <p:nvPr/>
          </p:nvSpPr>
          <p:spPr>
            <a:xfrm>
              <a:off x="1006200" y="198900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文本框 25"/>
          <p:cNvSpPr/>
          <p:nvPr/>
        </p:nvSpPr>
        <p:spPr>
          <a:xfrm>
            <a:off x="1738440" y="2190600"/>
            <a:ext cx="351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紧张忙碌的工作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超负荷的工作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工作时间不固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复杂的人际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高风险的工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不良的工作环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压力理论在护理中的应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矩形 17"/>
          <p:cNvSpPr/>
          <p:nvPr/>
        </p:nvSpPr>
        <p:spPr>
          <a:xfrm>
            <a:off x="1233360" y="1397160"/>
            <a:ext cx="75088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66"/>
                </a:solidFill>
                <a:latin typeface="Arial"/>
                <a:ea typeface="微软雅黑"/>
              </a:rPr>
              <a:t>（四）护士的职业压力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  <a:ea typeface="微软雅黑"/>
              </a:rPr>
              <a:t>—</a:t>
            </a:r>
            <a:r>
              <a:rPr b="1" lang="zh-CN" sz="2600" spc="-1" strike="noStrike">
                <a:solidFill>
                  <a:srgbClr val="ffff66"/>
                </a:solidFill>
                <a:latin typeface="Arial"/>
                <a:ea typeface="微软雅黑"/>
              </a:rPr>
              <a:t>护理工作所承受的压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1" name="Picture 10" descr="20130510093211508"/>
          <p:cNvPicPr/>
          <p:nvPr/>
        </p:nvPicPr>
        <p:blipFill>
          <a:blip r:embed="rId1"/>
          <a:stretch/>
        </p:blipFill>
        <p:spPr>
          <a:xfrm>
            <a:off x="6454800" y="2193840"/>
            <a:ext cx="4176720" cy="29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1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1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6" dur="2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2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633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5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文本框 25"/>
          <p:cNvSpPr/>
          <p:nvPr/>
        </p:nvSpPr>
        <p:spPr>
          <a:xfrm>
            <a:off x="3268800" y="2384280"/>
            <a:ext cx="6470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妥善处理人际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提高自身业务素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调动社会支持系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应用恰当的应对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压力理论在护理中的应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矩形 17"/>
          <p:cNvSpPr/>
          <p:nvPr/>
        </p:nvSpPr>
        <p:spPr>
          <a:xfrm>
            <a:off x="1233360" y="1397160"/>
            <a:ext cx="74962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66"/>
                </a:solidFill>
                <a:latin typeface="Arial"/>
                <a:ea typeface="微软雅黑"/>
              </a:rPr>
              <a:t> </a:t>
            </a:r>
            <a:r>
              <a:rPr b="1" lang="zh-CN" sz="2600" spc="-1" strike="noStrike">
                <a:solidFill>
                  <a:srgbClr val="ffff66"/>
                </a:solidFill>
                <a:latin typeface="Arial"/>
                <a:ea typeface="微软雅黑"/>
              </a:rPr>
              <a:t>（五）护士的职业压力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  <a:ea typeface="微软雅黑"/>
              </a:rPr>
              <a:t>—</a:t>
            </a:r>
            <a:r>
              <a:rPr b="1" lang="zh-CN" sz="2600" spc="-1" strike="noStrike">
                <a:solidFill>
                  <a:srgbClr val="ffff66"/>
                </a:solidFill>
                <a:latin typeface="Arial"/>
                <a:ea typeface="微软雅黑"/>
              </a:rPr>
              <a:t>护理工作压力的应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1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1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1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组合 2"/>
          <p:cNvGrpSpPr/>
          <p:nvPr/>
        </p:nvGrpSpPr>
        <p:grpSpPr>
          <a:xfrm>
            <a:off x="909720" y="1736640"/>
            <a:ext cx="10426680" cy="3897360"/>
            <a:chOff x="909720" y="1736640"/>
            <a:chExt cx="10426680" cy="3897360"/>
          </a:xfrm>
        </p:grpSpPr>
        <p:sp>
          <p:nvSpPr>
            <p:cNvPr id="1646" name="矩形 16"/>
            <p:cNvSpPr/>
            <p:nvPr/>
          </p:nvSpPr>
          <p:spPr>
            <a:xfrm>
              <a:off x="909720" y="173664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矩形 19"/>
            <p:cNvSpPr/>
            <p:nvPr/>
          </p:nvSpPr>
          <p:spPr>
            <a:xfrm>
              <a:off x="1033200" y="186984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8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文本框 25"/>
          <p:cNvSpPr/>
          <p:nvPr/>
        </p:nvSpPr>
        <p:spPr>
          <a:xfrm>
            <a:off x="996840" y="2338560"/>
            <a:ext cx="97981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你能找出患者李某有哪些主要的压力源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　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患者李某，男，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2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，右下腹痛半天来院急诊，经检查诊断为“急性阑尾炎”需立即住院手术治疗。陈某是一公司总经理，工作很忙，故担心很多，希望尽快康复出院工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矩形 17"/>
          <p:cNvSpPr/>
          <p:nvPr/>
        </p:nvSpPr>
        <p:spPr>
          <a:xfrm>
            <a:off x="1233360" y="1397160"/>
            <a:ext cx="75376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66"/>
                </a:solidFill>
                <a:latin typeface="Arial"/>
                <a:ea typeface="微软雅黑"/>
              </a:rPr>
              <a:t>案    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组合 2"/>
          <p:cNvGrpSpPr/>
          <p:nvPr/>
        </p:nvGrpSpPr>
        <p:grpSpPr>
          <a:xfrm>
            <a:off x="909720" y="1736640"/>
            <a:ext cx="10426680" cy="3897360"/>
            <a:chOff x="909720" y="1736640"/>
            <a:chExt cx="10426680" cy="3897360"/>
          </a:xfrm>
        </p:grpSpPr>
        <p:sp>
          <p:nvSpPr>
            <p:cNvPr id="1659" name="矩形 16"/>
            <p:cNvSpPr/>
            <p:nvPr/>
          </p:nvSpPr>
          <p:spPr>
            <a:xfrm>
              <a:off x="909720" y="173664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矩形 19"/>
            <p:cNvSpPr/>
            <p:nvPr/>
          </p:nvSpPr>
          <p:spPr>
            <a:xfrm>
              <a:off x="1033200" y="186984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文本框 25"/>
          <p:cNvSpPr/>
          <p:nvPr/>
        </p:nvSpPr>
        <p:spPr>
          <a:xfrm>
            <a:off x="1120680" y="2089080"/>
            <a:ext cx="99666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李某主要的压力源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对病室的环境陌生：包括物理环境和心理社会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缺乏相关的知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疾病威胁：手术对身体功能和形象的影响，担心手术存在并发症和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险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4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疾病对工作带来的影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5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住院与家人分开，失去部分自由，社交受限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6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经济有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矩形 17"/>
          <p:cNvSpPr/>
          <p:nvPr/>
        </p:nvSpPr>
        <p:spPr>
          <a:xfrm>
            <a:off x="1233360" y="1397160"/>
            <a:ext cx="75088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66"/>
                </a:solidFill>
                <a:latin typeface="Arial"/>
                <a:ea typeface="微软雅黑"/>
              </a:rPr>
              <a:t>分    析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1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1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1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00"/>
                                        <p:tgtEl>
                                          <p:spTgt spid="1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1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1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1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1" name="组合 2"/>
          <p:cNvGrpSpPr/>
          <p:nvPr/>
        </p:nvGrpSpPr>
        <p:grpSpPr>
          <a:xfrm>
            <a:off x="909720" y="1736640"/>
            <a:ext cx="10426680" cy="3897360"/>
            <a:chOff x="909720" y="1736640"/>
            <a:chExt cx="10426680" cy="3897360"/>
          </a:xfrm>
        </p:grpSpPr>
        <p:sp>
          <p:nvSpPr>
            <p:cNvPr id="1672" name="矩形 16"/>
            <p:cNvSpPr/>
            <p:nvPr/>
          </p:nvSpPr>
          <p:spPr>
            <a:xfrm>
              <a:off x="909720" y="173664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矩形 19"/>
            <p:cNvSpPr/>
            <p:nvPr/>
          </p:nvSpPr>
          <p:spPr>
            <a:xfrm>
              <a:off x="1033200" y="186984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文本框 25"/>
          <p:cNvSpPr/>
          <p:nvPr/>
        </p:nvSpPr>
        <p:spPr>
          <a:xfrm>
            <a:off x="1370160" y="2541600"/>
            <a:ext cx="9966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根据李某的情况帮助他制定应对压力的方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心理疏导，进行健康教育，提供有关信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调动患者的各种社会支持系统，正确对待问题和情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创造一个安静整洁舒适的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4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自我心理保健训练和放松训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文本框 15"/>
          <p:cNvSpPr/>
          <p:nvPr/>
        </p:nvSpPr>
        <p:spPr>
          <a:xfrm>
            <a:off x="192240" y="257040"/>
            <a:ext cx="57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矩形 17"/>
          <p:cNvSpPr/>
          <p:nvPr/>
        </p:nvSpPr>
        <p:spPr>
          <a:xfrm>
            <a:off x="1233360" y="1397160"/>
            <a:ext cx="74818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66"/>
                </a:solidFill>
                <a:latin typeface="Arial"/>
                <a:ea typeface="微软雅黑"/>
              </a:rPr>
              <a:t>分    析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1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1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1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1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任意多边形 15"/>
          <p:cNvSpPr/>
          <p:nvPr/>
        </p:nvSpPr>
        <p:spPr>
          <a:xfrm>
            <a:off x="257040" y="0"/>
            <a:ext cx="4572000" cy="6858000"/>
          </a:xfrm>
          <a:custGeom>
            <a:avLst/>
            <a:gdLst/>
            <a:ahLst/>
            <a:rect l="l" t="t" r="r" b="b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任意多边形 9"/>
          <p:cNvSpPr/>
          <p:nvPr/>
        </p:nvSpPr>
        <p:spPr>
          <a:xfrm>
            <a:off x="0" y="0"/>
            <a:ext cx="4572000" cy="6858000"/>
          </a:xfrm>
          <a:custGeom>
            <a:avLst/>
            <a:gdLst/>
            <a:ahLst/>
            <a:rect l="l" t="t" r="r" b="b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文本框 2"/>
          <p:cNvSpPr/>
          <p:nvPr/>
        </p:nvSpPr>
        <p:spPr>
          <a:xfrm>
            <a:off x="1235520" y="25210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护理学相关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椭圆 1"/>
          <p:cNvSpPr/>
          <p:nvPr/>
        </p:nvSpPr>
        <p:spPr>
          <a:xfrm>
            <a:off x="3270240" y="53640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椭圆 5"/>
          <p:cNvSpPr/>
          <p:nvPr/>
        </p:nvSpPr>
        <p:spPr>
          <a:xfrm>
            <a:off x="3994200" y="17971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椭圆 6"/>
          <p:cNvSpPr/>
          <p:nvPr/>
        </p:nvSpPr>
        <p:spPr>
          <a:xfrm>
            <a:off x="4137120" y="305748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文本框 7"/>
          <p:cNvSpPr/>
          <p:nvPr/>
        </p:nvSpPr>
        <p:spPr>
          <a:xfrm>
            <a:off x="4164120" y="62064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文本框 8"/>
          <p:cNvSpPr/>
          <p:nvPr/>
        </p:nvSpPr>
        <p:spPr>
          <a:xfrm>
            <a:off x="4834080" y="19242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需要层次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文本框 10"/>
          <p:cNvSpPr/>
          <p:nvPr/>
        </p:nvSpPr>
        <p:spPr>
          <a:xfrm>
            <a:off x="5003640" y="3129120"/>
            <a:ext cx="54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力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椭圆 11"/>
          <p:cNvSpPr/>
          <p:nvPr/>
        </p:nvSpPr>
        <p:spPr>
          <a:xfrm>
            <a:off x="3992400" y="43369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椭圆 12"/>
          <p:cNvSpPr/>
          <p:nvPr/>
        </p:nvSpPr>
        <p:spPr>
          <a:xfrm>
            <a:off x="3268800" y="5597640"/>
            <a:ext cx="72360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文本框 13"/>
          <p:cNvSpPr/>
          <p:nvPr/>
        </p:nvSpPr>
        <p:spPr>
          <a:xfrm>
            <a:off x="4764240" y="44766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长与发展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文本框 14"/>
          <p:cNvSpPr/>
          <p:nvPr/>
        </p:nvSpPr>
        <p:spPr>
          <a:xfrm>
            <a:off x="4110120" y="5778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4E8F-294D-4B94-84BF-53087ADD3400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044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6" name="直角三角形 20"/>
          <p:cNvSpPr/>
          <p:nvPr/>
        </p:nvSpPr>
        <p:spPr>
          <a:xfrm flipH="1" flipV="1" rot="10800000">
            <a:off x="4986720" y="139716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文本框 25"/>
          <p:cNvSpPr/>
          <p:nvPr/>
        </p:nvSpPr>
        <p:spPr>
          <a:xfrm>
            <a:off x="1351080" y="2266920"/>
            <a:ext cx="524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微软雅黑"/>
              </a:rPr>
              <a:t>系统理论的创始人是美籍奥地利生物学家贝塔朗菲</a:t>
            </a:r>
            <a:r>
              <a:rPr b="1" lang="en-US" sz="2800" spc="-1" strike="noStrike">
                <a:solidFill>
                  <a:srgbClr val="0563c1"/>
                </a:solidFill>
                <a:latin typeface="Arial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微软雅黑"/>
              </a:rPr>
              <a:t>他于</a:t>
            </a:r>
            <a:r>
              <a:rPr b="1" lang="en-US" sz="2800" spc="-1" strike="noStrike">
                <a:solidFill>
                  <a:srgbClr val="0563c1"/>
                </a:solidFill>
                <a:latin typeface="Arial"/>
                <a:ea typeface="微软雅黑"/>
              </a:rPr>
              <a:t>20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微软雅黑"/>
              </a:rPr>
              <a:t>世纪</a:t>
            </a:r>
            <a:r>
              <a:rPr b="1" lang="en-US" sz="2800" spc="-1" strike="noStrike">
                <a:solidFill>
                  <a:srgbClr val="0563c1"/>
                </a:solidFill>
                <a:latin typeface="Arial"/>
                <a:ea typeface="微软雅黑"/>
              </a:rPr>
              <a:t>20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微软雅黑"/>
              </a:rPr>
              <a:t>年代提出将有机当作一个整体或系统来考虑的观点，</a:t>
            </a:r>
            <a:r>
              <a:rPr b="1" lang="en-US" sz="2800" spc="-1" strike="noStrike">
                <a:solidFill>
                  <a:srgbClr val="0563c1"/>
                </a:solidFill>
                <a:latin typeface="Arial"/>
                <a:ea typeface="微软雅黑"/>
              </a:rPr>
              <a:t>1937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微软雅黑"/>
              </a:rPr>
              <a:t>年他首次提出“一般系统论”的概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矩形 17"/>
          <p:cNvSpPr/>
          <p:nvPr/>
        </p:nvSpPr>
        <p:spPr>
          <a:xfrm>
            <a:off x="1246320" y="1397160"/>
            <a:ext cx="3741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5" name="Group 9"/>
          <p:cNvGrpSpPr/>
          <p:nvPr/>
        </p:nvGrpSpPr>
        <p:grpSpPr>
          <a:xfrm>
            <a:off x="7311960" y="1717560"/>
            <a:ext cx="3435120" cy="3773520"/>
            <a:chOff x="7311960" y="1717560"/>
            <a:chExt cx="3435120" cy="3773520"/>
          </a:xfrm>
        </p:grpSpPr>
        <p:pic>
          <p:nvPicPr>
            <p:cNvPr id="1056" name="Picture 10" descr=""/>
            <p:cNvPicPr/>
            <p:nvPr/>
          </p:nvPicPr>
          <p:blipFill>
            <a:blip r:embed="rId1"/>
            <a:stretch/>
          </p:blipFill>
          <p:spPr>
            <a:xfrm>
              <a:off x="7835400" y="1717560"/>
              <a:ext cx="2031120" cy="28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Text Box 11"/>
            <p:cNvSpPr/>
            <p:nvPr/>
          </p:nvSpPr>
          <p:spPr>
            <a:xfrm>
              <a:off x="7311960" y="4665600"/>
              <a:ext cx="343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楷体"/>
                  <a:ea typeface="楷体"/>
                </a:rPr>
                <a:t>德维希</a:t>
              </a:r>
              <a:r>
                <a:rPr b="1" lang="en-US" sz="2400" spc="-1" strike="noStrike">
                  <a:solidFill>
                    <a:srgbClr val="ffcc00"/>
                  </a:solidFill>
                  <a:latin typeface="楷体"/>
                  <a:ea typeface="楷体"/>
                </a:rPr>
                <a:t>·</a:t>
              </a:r>
              <a:r>
                <a:rPr b="1" lang="zh-CN" sz="2400" spc="-1" strike="noStrike">
                  <a:solidFill>
                    <a:srgbClr val="ffcc00"/>
                  </a:solidFill>
                  <a:latin typeface="楷体"/>
                  <a:ea typeface="楷体"/>
                </a:rPr>
                <a:t>路</a:t>
              </a:r>
              <a:r>
                <a:rPr b="1" lang="en-US" sz="2400" spc="-1" strike="noStrike">
                  <a:solidFill>
                    <a:srgbClr val="ffcc00"/>
                  </a:solidFill>
                  <a:latin typeface="楷体"/>
                  <a:ea typeface="楷体"/>
                </a:rPr>
                <a:t>·</a:t>
              </a:r>
              <a:r>
                <a:rPr b="1" lang="zh-CN" sz="2400" spc="-1" strike="noStrike">
                  <a:solidFill>
                    <a:srgbClr val="ffcc00"/>
                  </a:solidFill>
                  <a:latin typeface="楷体"/>
                  <a:ea typeface="楷体"/>
                </a:rPr>
                <a:t>贝塔朗菲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8" name="Picture 12" descr="德维希"/>
            <p:cNvPicPr/>
            <p:nvPr/>
          </p:nvPicPr>
          <p:blipFill>
            <a:blip r:embed="rId2"/>
            <a:stretch/>
          </p:blipFill>
          <p:spPr>
            <a:xfrm>
              <a:off x="8130240" y="2380680"/>
              <a:ext cx="1435320" cy="1629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目标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矩形 19"/>
          <p:cNvSpPr/>
          <p:nvPr/>
        </p:nvSpPr>
        <p:spPr>
          <a:xfrm>
            <a:off x="3191040" y="2013120"/>
            <a:ext cx="5587920" cy="3082680"/>
          </a:xfrm>
          <a:custGeom>
            <a:avLst/>
            <a:gdLst/>
            <a:ahLst/>
            <a:rect l="l" t="t" r="r" b="b"/>
            <a:pathLst>
              <a:path w="5589349" h="3082246">
                <a:moveTo>
                  <a:pt x="0" y="1828800"/>
                </a:moveTo>
                <a:lnTo>
                  <a:pt x="5579824" y="0"/>
                </a:lnTo>
                <a:lnTo>
                  <a:pt x="5589349" y="1234396"/>
                </a:lnTo>
                <a:lnTo>
                  <a:pt x="0" y="3082246"/>
                </a:lnTo>
                <a:lnTo>
                  <a:pt x="0" y="1828800"/>
                </a:lnTo>
                <a:close/>
              </a:path>
            </a:pathLst>
          </a:custGeom>
          <a:solidFill>
            <a:srgbClr val="2a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juxing1"/>
          <p:cNvSpPr/>
          <p:nvPr/>
        </p:nvSpPr>
        <p:spPr>
          <a:xfrm>
            <a:off x="3186000" y="1969920"/>
            <a:ext cx="5597640" cy="1252800"/>
          </a:xfrm>
          <a:prstGeom prst="rect">
            <a:avLst/>
          </a:prstGeom>
          <a:solidFill>
            <a:srgbClr val="7eb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juxing2"/>
          <p:cNvSpPr/>
          <p:nvPr/>
        </p:nvSpPr>
        <p:spPr>
          <a:xfrm>
            <a:off x="3173400" y="3854520"/>
            <a:ext cx="5597640" cy="125388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文本框 37"/>
          <p:cNvSpPr/>
          <p:nvPr/>
        </p:nvSpPr>
        <p:spPr>
          <a:xfrm>
            <a:off x="3375000" y="2352600"/>
            <a:ext cx="52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微软雅黑"/>
                <a:ea typeface="微软雅黑"/>
              </a:rPr>
              <a:t>了解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与发展的概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文本框 38"/>
          <p:cNvSpPr/>
          <p:nvPr/>
        </p:nvSpPr>
        <p:spPr>
          <a:xfrm>
            <a:off x="3370320" y="4092480"/>
            <a:ext cx="52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心理社会发展理论及其在护理中的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等腰三角形 41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等腰三角形 42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B946-188E-4BA8-9D15-0CEA93421012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与发展理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等腰三角形 15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矩形 1"/>
          <p:cNvSpPr/>
          <p:nvPr/>
        </p:nvSpPr>
        <p:spPr>
          <a:xfrm>
            <a:off x="0" y="2376360"/>
            <a:ext cx="1866960" cy="101628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矩形 16"/>
          <p:cNvSpPr/>
          <p:nvPr/>
        </p:nvSpPr>
        <p:spPr>
          <a:xfrm>
            <a:off x="0" y="3392640"/>
            <a:ext cx="1866960" cy="1015920"/>
          </a:xfrm>
          <a:prstGeom prst="rect">
            <a:avLst/>
          </a:prstGeom>
          <a:solidFill>
            <a:srgbClr val="28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矩形 17"/>
          <p:cNvSpPr/>
          <p:nvPr/>
        </p:nvSpPr>
        <p:spPr>
          <a:xfrm>
            <a:off x="1866960" y="1982880"/>
            <a:ext cx="2031840" cy="1409760"/>
          </a:xfrm>
          <a:custGeom>
            <a:avLst/>
            <a:gdLst/>
            <a:ahLst/>
            <a:rect l="l" t="t" r="r" b="b"/>
            <a:pathLst>
              <a:path w="2146300" h="1409700">
                <a:moveTo>
                  <a:pt x="0" y="393700"/>
                </a:moveTo>
                <a:lnTo>
                  <a:pt x="2146300" y="0"/>
                </a:lnTo>
                <a:lnTo>
                  <a:pt x="2146300" y="1409700"/>
                </a:lnTo>
                <a:lnTo>
                  <a:pt x="0" y="1409700"/>
                </a:lnTo>
                <a:lnTo>
                  <a:pt x="0" y="393700"/>
                </a:lnTo>
                <a:close/>
              </a:path>
            </a:pathLst>
          </a:custGeom>
          <a:solidFill>
            <a:srgbClr val="307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矩形 18"/>
          <p:cNvSpPr/>
          <p:nvPr/>
        </p:nvSpPr>
        <p:spPr>
          <a:xfrm>
            <a:off x="1866960" y="3392640"/>
            <a:ext cx="2036880" cy="1527120"/>
          </a:xfrm>
          <a:custGeom>
            <a:avLst/>
            <a:gdLst/>
            <a:ahLst/>
            <a:rect l="l" t="t" r="r" b="b"/>
            <a:pathLst>
              <a:path w="2152006" h="1527175">
                <a:moveTo>
                  <a:pt x="0" y="0"/>
                </a:moveTo>
                <a:lnTo>
                  <a:pt x="2146300" y="0"/>
                </a:lnTo>
                <a:lnTo>
                  <a:pt x="2152006" y="1527175"/>
                </a:lnTo>
                <a:lnTo>
                  <a:pt x="0" y="1016000"/>
                </a:lnTo>
                <a:lnTo>
                  <a:pt x="0" y="0"/>
                </a:lnTo>
                <a:close/>
              </a:path>
            </a:pathLst>
          </a:custGeom>
          <a:solidFill>
            <a:srgbClr val="205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矩形 19"/>
          <p:cNvSpPr/>
          <p:nvPr/>
        </p:nvSpPr>
        <p:spPr>
          <a:xfrm>
            <a:off x="3898800" y="1982880"/>
            <a:ext cx="7291440" cy="140976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矩形 20"/>
          <p:cNvSpPr/>
          <p:nvPr/>
        </p:nvSpPr>
        <p:spPr>
          <a:xfrm>
            <a:off x="3898800" y="3392640"/>
            <a:ext cx="7291440" cy="1523880"/>
          </a:xfrm>
          <a:prstGeom prst="rect">
            <a:avLst/>
          </a:prstGeom>
          <a:solidFill>
            <a:srgbClr val="28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文本框 2"/>
          <p:cNvSpPr/>
          <p:nvPr/>
        </p:nvSpPr>
        <p:spPr>
          <a:xfrm>
            <a:off x="4229280" y="36511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心理社会发展理论及其在护理中的应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文本框 21"/>
          <p:cNvSpPr/>
          <p:nvPr/>
        </p:nvSpPr>
        <p:spPr>
          <a:xfrm>
            <a:off x="4311720" y="23432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成长与发展概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文本框 3"/>
          <p:cNvSpPr/>
          <p:nvPr/>
        </p:nvSpPr>
        <p:spPr>
          <a:xfrm>
            <a:off x="2025720" y="24987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一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文本框 23"/>
          <p:cNvSpPr/>
          <p:nvPr/>
        </p:nvSpPr>
        <p:spPr>
          <a:xfrm>
            <a:off x="2025720" y="36385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二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等腰三角形 24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0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4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725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文本框 25"/>
          <p:cNvSpPr/>
          <p:nvPr/>
        </p:nvSpPr>
        <p:spPr>
          <a:xfrm>
            <a:off x="1079640" y="2228760"/>
            <a:ext cx="1024092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成长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成长又称生长是指个体在生理方面的改变，是细胞增殖的结果，可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量化的指标来测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843c0b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如身高、体重及年龄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发展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发展又称发育，是个体随年龄增长及与环境间的互动而产生的身心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化过程，它是生命中有顺序的、可预测的变化，是学习的结果和成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的象征。发展是质的变化，不易通过量化的指标来测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333f50"/>
                </a:solidFill>
                <a:latin typeface="微软雅黑"/>
                <a:ea typeface="微软雅黑"/>
              </a:rPr>
              <a:t>如行为改变，技能增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成长与发展概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概念及组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1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1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1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1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1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7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738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0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文本框 25"/>
          <p:cNvSpPr/>
          <p:nvPr/>
        </p:nvSpPr>
        <p:spPr>
          <a:xfrm>
            <a:off x="1079640" y="2228760"/>
            <a:ext cx="102409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规律：预测性和顺序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连续性和阶段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不平衡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个体差异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关键时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影响因素：遗传和环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成长与发展概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规律及影响因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1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751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3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文本框 25"/>
          <p:cNvSpPr/>
          <p:nvPr/>
        </p:nvSpPr>
        <p:spPr>
          <a:xfrm>
            <a:off x="1079640" y="2228760"/>
            <a:ext cx="1024092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63c1"/>
                </a:solidFill>
                <a:latin typeface="Arial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弗洛伊德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Sigmund Freud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，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856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－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939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是奥地利著名的精神病学家，被誉为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现代心理学之父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性心理学说包括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意识层次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人格结构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人格发展（性心理发展）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矩形 14"/>
          <p:cNvSpPr/>
          <p:nvPr/>
        </p:nvSpPr>
        <p:spPr>
          <a:xfrm>
            <a:off x="0" y="257040"/>
            <a:ext cx="852156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文本框 15"/>
          <p:cNvSpPr/>
          <p:nvPr/>
        </p:nvSpPr>
        <p:spPr>
          <a:xfrm>
            <a:off x="192240" y="257040"/>
            <a:ext cx="81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心理社会发展理论及其在护理中的应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直角三角形 18"/>
          <p:cNvSpPr/>
          <p:nvPr/>
        </p:nvSpPr>
        <p:spPr>
          <a:xfrm flipV="1">
            <a:off x="766620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一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) 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弗洛伊德的性心理发展学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1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1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1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1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3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764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6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文本框 25"/>
          <p:cNvSpPr/>
          <p:nvPr/>
        </p:nvSpPr>
        <p:spPr>
          <a:xfrm>
            <a:off x="1079640" y="2228760"/>
            <a:ext cx="989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意识层次理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意识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个体直接感知的心理活动部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潜意识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个体无法直接感知到的深层的心理活动部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前意识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介于意识与潜意识之间，包括目前未被注意到或者不在意识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中 ，但通过自己关注或经他人提醒又能被带到意识区域的心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一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) 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弗洛伊德的性心理发展学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矩形 14"/>
          <p:cNvSpPr/>
          <p:nvPr/>
        </p:nvSpPr>
        <p:spPr>
          <a:xfrm>
            <a:off x="0" y="257040"/>
            <a:ext cx="852156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文本框 15"/>
          <p:cNvSpPr/>
          <p:nvPr/>
        </p:nvSpPr>
        <p:spPr>
          <a:xfrm>
            <a:off x="192240" y="257040"/>
            <a:ext cx="81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心理社会发展理论及其在护理中的应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直角三角形 18"/>
          <p:cNvSpPr/>
          <p:nvPr/>
        </p:nvSpPr>
        <p:spPr>
          <a:xfrm flipV="1">
            <a:off x="766620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1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17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7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777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9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一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) 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弗洛伊德的性心理发展学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5" name="Object 4"/>
          <p:cNvGraphicFramePr/>
          <p:nvPr/>
        </p:nvGraphicFramePr>
        <p:xfrm>
          <a:off x="1355760" y="1989000"/>
          <a:ext cx="9391680" cy="35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989000"/>
                    <a:ext cx="93916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7" name="矩形 234511"/>
          <p:cNvSpPr/>
          <p:nvPr/>
        </p:nvSpPr>
        <p:spPr>
          <a:xfrm>
            <a:off x="5394960" y="2090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人格结构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矩形 14"/>
          <p:cNvSpPr/>
          <p:nvPr/>
        </p:nvSpPr>
        <p:spPr>
          <a:xfrm>
            <a:off x="0" y="257040"/>
            <a:ext cx="852156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文本框 15"/>
          <p:cNvSpPr/>
          <p:nvPr/>
        </p:nvSpPr>
        <p:spPr>
          <a:xfrm>
            <a:off x="192240" y="257040"/>
            <a:ext cx="81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心理社会发展理论及其在护理中的应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直角三角形 18"/>
          <p:cNvSpPr/>
          <p:nvPr/>
        </p:nvSpPr>
        <p:spPr>
          <a:xfrm flipV="1">
            <a:off x="766620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1" name="组合 2"/>
          <p:cNvGrpSpPr/>
          <p:nvPr/>
        </p:nvGrpSpPr>
        <p:grpSpPr>
          <a:xfrm>
            <a:off x="882720" y="1692360"/>
            <a:ext cx="10426680" cy="4525920"/>
            <a:chOff x="882720" y="1692360"/>
            <a:chExt cx="10426680" cy="4525920"/>
          </a:xfrm>
        </p:grpSpPr>
        <p:sp>
          <p:nvSpPr>
            <p:cNvPr id="1792" name="矩形 16"/>
            <p:cNvSpPr/>
            <p:nvPr/>
          </p:nvSpPr>
          <p:spPr>
            <a:xfrm>
              <a:off x="882720" y="1692360"/>
              <a:ext cx="10426680" cy="452592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矩形 19"/>
            <p:cNvSpPr/>
            <p:nvPr/>
          </p:nvSpPr>
          <p:spPr>
            <a:xfrm>
              <a:off x="1006200" y="1847160"/>
              <a:ext cx="10101240" cy="421632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文本框 25"/>
          <p:cNvSpPr/>
          <p:nvPr/>
        </p:nvSpPr>
        <p:spPr>
          <a:xfrm>
            <a:off x="1066680" y="2062080"/>
            <a:ext cx="102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Arial"/>
                <a:ea typeface="微软雅黑"/>
              </a:rPr>
              <a:t>人格发展各阶段特点及护理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一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) 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弗洛伊德的性心理发展学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1" name=""/>
          <p:cNvGraphicFramePr/>
          <p:nvPr/>
        </p:nvGraphicFramePr>
        <p:xfrm>
          <a:off x="914400" y="2529000"/>
          <a:ext cx="10390320" cy="3276360"/>
        </p:xfrm>
        <a:graphic>
          <a:graphicData uri="http://schemas.openxmlformats.org/drawingml/2006/table">
            <a:tbl>
              <a:tblPr/>
              <a:tblGrid>
                <a:gridCol w="2025720"/>
                <a:gridCol w="2608200"/>
                <a:gridCol w="5756400"/>
              </a:tblGrid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护理应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口欲期</a:t>
                      </a:r>
                      <a:r>
                        <a:rPr b="1" lang="en-US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0~1</a:t>
                      </a: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原欲集中在口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满足婴幼儿口部的欲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肛欲期</a:t>
                      </a:r>
                      <a:r>
                        <a:rPr b="1" lang="en-US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1~3</a:t>
                      </a: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原欲集中在肛门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进行恰当排便训练，培养自我控制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性蕾期</a:t>
                      </a:r>
                      <a:r>
                        <a:rPr b="1" lang="en-US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3~6</a:t>
                      </a: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原欲集中在生殖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引导儿童对性别的认同，帮助其解决恋母或恋父情结的矛盾冲突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潜伏期</a:t>
                      </a:r>
                      <a:r>
                        <a:rPr b="1" lang="en-US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6~12</a:t>
                      </a: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早期的性冲动被压抑到潜意识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为儿童提供各种活动的机会，鼓励追求知识，认真学习，积极锻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生殖期</a:t>
                      </a:r>
                      <a:r>
                        <a:rPr b="1" lang="en-US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岁以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原欲重新回到生殖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563c1"/>
                          </a:solidFill>
                          <a:latin typeface="微软雅黑"/>
                          <a:ea typeface="微软雅黑"/>
                        </a:rPr>
                        <a:t>尊重青少年的自主意识，正确引导青少年与异性的交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2" name="矩形 14"/>
          <p:cNvSpPr/>
          <p:nvPr/>
        </p:nvSpPr>
        <p:spPr>
          <a:xfrm>
            <a:off x="0" y="257040"/>
            <a:ext cx="852156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文本框 15"/>
          <p:cNvSpPr/>
          <p:nvPr/>
        </p:nvSpPr>
        <p:spPr>
          <a:xfrm>
            <a:off x="192240" y="257040"/>
            <a:ext cx="81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心理社会发展理论及其在护理中的应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直角三角形 18"/>
          <p:cNvSpPr/>
          <p:nvPr/>
        </p:nvSpPr>
        <p:spPr>
          <a:xfrm flipV="1">
            <a:off x="766620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500"/>
                                        <p:tgtEl>
                                          <p:spTgt spid="1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5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806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8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文本框 25"/>
          <p:cNvSpPr/>
          <p:nvPr/>
        </p:nvSpPr>
        <p:spPr>
          <a:xfrm>
            <a:off x="1255680" y="2465280"/>
            <a:ext cx="97138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艾瑞克森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Erik Erikson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，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902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－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994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是美国哈佛大学的一位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理分析学家，他在弗洛伊德的性心理发展学说基础上提出了解释整个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命历程的心理社会发展理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二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) 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艾瑞克森的心理社会发展理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矩形 14"/>
          <p:cNvSpPr/>
          <p:nvPr/>
        </p:nvSpPr>
        <p:spPr>
          <a:xfrm>
            <a:off x="0" y="257040"/>
            <a:ext cx="852156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文本框 15"/>
          <p:cNvSpPr/>
          <p:nvPr/>
        </p:nvSpPr>
        <p:spPr>
          <a:xfrm>
            <a:off x="192240" y="257040"/>
            <a:ext cx="81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心理社会发展理论及其在护理中的应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直角三角形 18"/>
          <p:cNvSpPr/>
          <p:nvPr/>
        </p:nvSpPr>
        <p:spPr>
          <a:xfrm flipV="1">
            <a:off x="766620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1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1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1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8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819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文本框 25"/>
          <p:cNvSpPr/>
          <p:nvPr/>
        </p:nvSpPr>
        <p:spPr>
          <a:xfrm>
            <a:off x="1914480" y="2070000"/>
            <a:ext cx="8375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563c1"/>
                </a:solidFill>
                <a:latin typeface="Arial"/>
                <a:ea typeface="微软雅黑"/>
              </a:rPr>
              <a:t>                        </a:t>
            </a:r>
            <a:r>
              <a:rPr b="1" lang="zh-CN" sz="2200" spc="-1" strike="noStrike">
                <a:solidFill>
                  <a:srgbClr val="0563c1"/>
                </a:solidFill>
                <a:latin typeface="Arial"/>
                <a:ea typeface="微软雅黑"/>
              </a:rPr>
              <a:t>心理社会发展理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分期               年龄                主要危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1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婴儿期       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0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18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个月       信任对不信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幼儿期      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18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个月至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3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     自主对羞愧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3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学龄前期      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3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6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           主动对内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4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学龄期       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6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12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           勤奋对自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5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青春期      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12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18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          自我认同对角色紊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6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青年期      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18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35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          亲密对孤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7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中年期      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35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65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          繁殖对停滞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8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老年期      </a:t>
            </a:r>
            <a:r>
              <a:rPr b="1" lang="en-US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65</a:t>
            </a:r>
            <a:r>
              <a:rPr b="1" lang="zh-CN" sz="22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以上           完善对失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二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) 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艾瑞克森的心理社会发展理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矩形 14"/>
          <p:cNvSpPr/>
          <p:nvPr/>
        </p:nvSpPr>
        <p:spPr>
          <a:xfrm>
            <a:off x="0" y="257040"/>
            <a:ext cx="852156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文本框 15"/>
          <p:cNvSpPr/>
          <p:nvPr/>
        </p:nvSpPr>
        <p:spPr>
          <a:xfrm>
            <a:off x="192240" y="257040"/>
            <a:ext cx="81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心理社会发展理论及其在护理中的应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直角三角形 18"/>
          <p:cNvSpPr/>
          <p:nvPr/>
        </p:nvSpPr>
        <p:spPr>
          <a:xfrm flipV="1">
            <a:off x="766620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060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2" name="直角三角形 20"/>
          <p:cNvSpPr/>
          <p:nvPr/>
        </p:nvSpPr>
        <p:spPr>
          <a:xfrm flipH="1" flipV="1" rot="10800000">
            <a:off x="4986720" y="139716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25"/>
          <p:cNvSpPr/>
          <p:nvPr/>
        </p:nvSpPr>
        <p:spPr>
          <a:xfrm>
            <a:off x="1130400" y="2170080"/>
            <a:ext cx="950904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概念：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系统是指由若干相互联系、相互作用的要素所组成的具有特定结构和功能的整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包含两层涵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sz="2400" spc="-1" strike="noStrike">
                <a:solidFill>
                  <a:srgbClr val="0563c1"/>
                </a:solidFill>
                <a:latin typeface="Arial"/>
                <a:ea typeface="微软雅黑"/>
              </a:rPr>
              <a:t>◆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组成系统的各要素相互联系、相互作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◆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组成系统的各要素都有自己独特的结构和功能，但组成一个整体后，就具有了各孤立要素所不具备的整体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矩形 17"/>
          <p:cNvSpPr/>
          <p:nvPr/>
        </p:nvSpPr>
        <p:spPr>
          <a:xfrm>
            <a:off x="1246320" y="1397160"/>
            <a:ext cx="3741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文本框 15"/>
          <p:cNvSpPr/>
          <p:nvPr/>
        </p:nvSpPr>
        <p:spPr>
          <a:xfrm>
            <a:off x="1239840" y="139716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系统的基本概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1" name="组合 2"/>
          <p:cNvGrpSpPr/>
          <p:nvPr/>
        </p:nvGrpSpPr>
        <p:grpSpPr>
          <a:xfrm>
            <a:off x="863640" y="1677960"/>
            <a:ext cx="10426680" cy="3897360"/>
            <a:chOff x="863640" y="1677960"/>
            <a:chExt cx="10426680" cy="3897360"/>
          </a:xfrm>
        </p:grpSpPr>
        <p:sp>
          <p:nvSpPr>
            <p:cNvPr id="1832" name="矩形 16"/>
            <p:cNvSpPr/>
            <p:nvPr/>
          </p:nvSpPr>
          <p:spPr>
            <a:xfrm>
              <a:off x="86364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矩形 19"/>
            <p:cNvSpPr/>
            <p:nvPr/>
          </p:nvSpPr>
          <p:spPr>
            <a:xfrm>
              <a:off x="98712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文本框 25"/>
          <p:cNvSpPr/>
          <p:nvPr/>
        </p:nvSpPr>
        <p:spPr>
          <a:xfrm>
            <a:off x="1009800" y="2270160"/>
            <a:ext cx="103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皮亚杰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Jean Piaget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，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1996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1980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）是瑞士一位杰出的心理学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他通过对儿童行为的详细观察发展了认知发展学说。他认为儿童思维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发展是通过自身与环境相互作用，经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同化和顺应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两个基本认知过程而形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三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) 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皮亚杰的认知发展理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矩形 14"/>
          <p:cNvSpPr/>
          <p:nvPr/>
        </p:nvSpPr>
        <p:spPr>
          <a:xfrm>
            <a:off x="0" y="257040"/>
            <a:ext cx="852156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文本框 15"/>
          <p:cNvSpPr/>
          <p:nvPr/>
        </p:nvSpPr>
        <p:spPr>
          <a:xfrm>
            <a:off x="192240" y="257040"/>
            <a:ext cx="81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心理社会发展理论及其在护理中的应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直角三角形 18"/>
          <p:cNvSpPr/>
          <p:nvPr/>
        </p:nvSpPr>
        <p:spPr>
          <a:xfrm flipV="1">
            <a:off x="766620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4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845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文本框 25"/>
          <p:cNvSpPr/>
          <p:nvPr/>
        </p:nvSpPr>
        <p:spPr>
          <a:xfrm>
            <a:off x="1216080" y="1994040"/>
            <a:ext cx="97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认知发展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三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) 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皮亚杰的认知发展理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矩形 238606"/>
          <p:cNvSpPr/>
          <p:nvPr/>
        </p:nvSpPr>
        <p:spPr>
          <a:xfrm>
            <a:off x="996840" y="2563920"/>
            <a:ext cx="1012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感觉运动期：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0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   通过身体的动作与感觉来认识周围的世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前运思期 ：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   开始使用语言来表达自己的需要，但思维缺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系统性和逻辑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具体运思期：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1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  摆脱以自我为中心， 能同时考虑问题的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个方面或更多方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形式运思期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:12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以后 能抽象思维和假设推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矩形 14"/>
          <p:cNvSpPr/>
          <p:nvPr/>
        </p:nvSpPr>
        <p:spPr>
          <a:xfrm>
            <a:off x="0" y="257040"/>
            <a:ext cx="852156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文本框 15"/>
          <p:cNvSpPr/>
          <p:nvPr/>
        </p:nvSpPr>
        <p:spPr>
          <a:xfrm>
            <a:off x="192240" y="257040"/>
            <a:ext cx="81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心理社会发展理论及其在护理中的应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直角三角形 18"/>
          <p:cNvSpPr/>
          <p:nvPr/>
        </p:nvSpPr>
        <p:spPr>
          <a:xfrm flipV="1">
            <a:off x="7666200" y="826920"/>
            <a:ext cx="85536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0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1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1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1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1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1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1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任意多边形 15"/>
          <p:cNvSpPr/>
          <p:nvPr/>
        </p:nvSpPr>
        <p:spPr>
          <a:xfrm>
            <a:off x="257040" y="0"/>
            <a:ext cx="4572000" cy="6858000"/>
          </a:xfrm>
          <a:custGeom>
            <a:avLst/>
            <a:gdLst/>
            <a:ahLst/>
            <a:rect l="l" t="t" r="r" b="b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任意多边形 9"/>
          <p:cNvSpPr/>
          <p:nvPr/>
        </p:nvSpPr>
        <p:spPr>
          <a:xfrm>
            <a:off x="0" y="0"/>
            <a:ext cx="4572000" cy="6858000"/>
          </a:xfrm>
          <a:custGeom>
            <a:avLst/>
            <a:gdLst/>
            <a:ahLst/>
            <a:rect l="l" t="t" r="r" b="b"/>
            <a:pathLst>
              <a:path w="4572000" h="6858000">
                <a:moveTo>
                  <a:pt x="0" y="0"/>
                </a:moveTo>
                <a:lnTo>
                  <a:pt x="2934436" y="0"/>
                </a:lnTo>
                <a:lnTo>
                  <a:pt x="2981810" y="39873"/>
                </a:lnTo>
                <a:cubicBezTo>
                  <a:pt x="3964311" y="907226"/>
                  <a:pt x="4572000" y="2105464"/>
                  <a:pt x="4572000" y="3429000"/>
                </a:cubicBezTo>
                <a:cubicBezTo>
                  <a:pt x="4572000" y="4752537"/>
                  <a:pt x="3964311" y="5950774"/>
                  <a:pt x="2981810" y="6818127"/>
                </a:cubicBezTo>
                <a:lnTo>
                  <a:pt x="293443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文本框 2"/>
          <p:cNvSpPr/>
          <p:nvPr/>
        </p:nvSpPr>
        <p:spPr>
          <a:xfrm>
            <a:off x="1235520" y="25210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护理学相关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椭圆 1"/>
          <p:cNvSpPr/>
          <p:nvPr/>
        </p:nvSpPr>
        <p:spPr>
          <a:xfrm>
            <a:off x="3270240" y="53640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椭圆 5"/>
          <p:cNvSpPr/>
          <p:nvPr/>
        </p:nvSpPr>
        <p:spPr>
          <a:xfrm>
            <a:off x="3994200" y="17971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椭圆 6"/>
          <p:cNvSpPr/>
          <p:nvPr/>
        </p:nvSpPr>
        <p:spPr>
          <a:xfrm>
            <a:off x="4137120" y="305748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文本框 7"/>
          <p:cNvSpPr/>
          <p:nvPr/>
        </p:nvSpPr>
        <p:spPr>
          <a:xfrm>
            <a:off x="4164120" y="62064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文本框 8"/>
          <p:cNvSpPr/>
          <p:nvPr/>
        </p:nvSpPr>
        <p:spPr>
          <a:xfrm>
            <a:off x="4834080" y="19242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需要层次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文本框 10"/>
          <p:cNvSpPr/>
          <p:nvPr/>
        </p:nvSpPr>
        <p:spPr>
          <a:xfrm>
            <a:off x="5003640" y="3129120"/>
            <a:ext cx="54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力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椭圆 11"/>
          <p:cNvSpPr/>
          <p:nvPr/>
        </p:nvSpPr>
        <p:spPr>
          <a:xfrm>
            <a:off x="3992400" y="4336920"/>
            <a:ext cx="72396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椭圆 12"/>
          <p:cNvSpPr/>
          <p:nvPr/>
        </p:nvSpPr>
        <p:spPr>
          <a:xfrm>
            <a:off x="3268800" y="5597640"/>
            <a:ext cx="723600" cy="723960"/>
          </a:xfrm>
          <a:prstGeom prst="ellipse">
            <a:avLst/>
          </a:prstGeom>
          <a:solidFill>
            <a:srgbClr val="00b0f0"/>
          </a:solidFill>
          <a:ln w="63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文本框 13"/>
          <p:cNvSpPr/>
          <p:nvPr/>
        </p:nvSpPr>
        <p:spPr>
          <a:xfrm>
            <a:off x="4764240" y="447660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与发展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文本框 14"/>
          <p:cNvSpPr/>
          <p:nvPr/>
        </p:nvSpPr>
        <p:spPr>
          <a:xfrm>
            <a:off x="4110120" y="5778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沟通理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C171-0472-4632-8B54-E45013C35099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目标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矩形 19"/>
          <p:cNvSpPr/>
          <p:nvPr/>
        </p:nvSpPr>
        <p:spPr>
          <a:xfrm>
            <a:off x="3292560" y="3083040"/>
            <a:ext cx="5587920" cy="3004920"/>
          </a:xfrm>
          <a:custGeom>
            <a:avLst/>
            <a:gdLst/>
            <a:ahLst/>
            <a:rect l="l" t="t" r="r" b="b"/>
            <a:pathLst>
              <a:path w="5589349" h="3006046">
                <a:moveTo>
                  <a:pt x="0" y="1765300"/>
                </a:moveTo>
                <a:lnTo>
                  <a:pt x="5567124" y="0"/>
                </a:lnTo>
                <a:lnTo>
                  <a:pt x="5589349" y="1247096"/>
                </a:lnTo>
                <a:lnTo>
                  <a:pt x="0" y="3006046"/>
                </a:lnTo>
                <a:lnTo>
                  <a:pt x="0" y="176530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矩形 19"/>
          <p:cNvSpPr/>
          <p:nvPr/>
        </p:nvSpPr>
        <p:spPr>
          <a:xfrm>
            <a:off x="3301920" y="1251000"/>
            <a:ext cx="5587920" cy="3083040"/>
          </a:xfrm>
          <a:custGeom>
            <a:avLst/>
            <a:gdLst/>
            <a:ahLst/>
            <a:rect l="l" t="t" r="r" b="b"/>
            <a:pathLst>
              <a:path w="5589349" h="3082246">
                <a:moveTo>
                  <a:pt x="0" y="1828800"/>
                </a:moveTo>
                <a:lnTo>
                  <a:pt x="5579824" y="0"/>
                </a:lnTo>
                <a:lnTo>
                  <a:pt x="5589349" y="1234396"/>
                </a:lnTo>
                <a:lnTo>
                  <a:pt x="0" y="3082246"/>
                </a:lnTo>
                <a:lnTo>
                  <a:pt x="0" y="1828800"/>
                </a:lnTo>
                <a:close/>
              </a:path>
            </a:pathLst>
          </a:custGeom>
          <a:solidFill>
            <a:srgbClr val="2a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juxing1"/>
          <p:cNvSpPr/>
          <p:nvPr/>
        </p:nvSpPr>
        <p:spPr>
          <a:xfrm>
            <a:off x="3282840" y="1236600"/>
            <a:ext cx="5597640" cy="1252440"/>
          </a:xfrm>
          <a:prstGeom prst="rect">
            <a:avLst/>
          </a:prstGeom>
          <a:solidFill>
            <a:srgbClr val="7eb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juxing2"/>
          <p:cNvSpPr/>
          <p:nvPr/>
        </p:nvSpPr>
        <p:spPr>
          <a:xfrm>
            <a:off x="3297240" y="3106800"/>
            <a:ext cx="5597640" cy="1254240"/>
          </a:xfrm>
          <a:prstGeom prst="rect">
            <a:avLst/>
          </a:prstGeom>
          <a:solidFill>
            <a:srgbClr val="37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juxing3"/>
          <p:cNvSpPr/>
          <p:nvPr/>
        </p:nvSpPr>
        <p:spPr>
          <a:xfrm>
            <a:off x="3297240" y="4848120"/>
            <a:ext cx="5597640" cy="1252800"/>
          </a:xfrm>
          <a:prstGeom prst="rect">
            <a:avLst/>
          </a:prstGeom>
          <a:solidFill>
            <a:srgbClr val="286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文本框 37"/>
          <p:cNvSpPr/>
          <p:nvPr/>
        </p:nvSpPr>
        <p:spPr>
          <a:xfrm>
            <a:off x="3513240" y="1646280"/>
            <a:ext cx="52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微软雅黑"/>
                <a:ea typeface="微软雅黑"/>
              </a:rPr>
              <a:t>了解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际沟通的概念和构成要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文本框 38"/>
          <p:cNvSpPr/>
          <p:nvPr/>
        </p:nvSpPr>
        <p:spPr>
          <a:xfrm>
            <a:off x="3384720" y="3289320"/>
            <a:ext cx="52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际沟通的种类和影响人际沟通的要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文本框 39"/>
          <p:cNvSpPr/>
          <p:nvPr/>
        </p:nvSpPr>
        <p:spPr>
          <a:xfrm>
            <a:off x="3441600" y="5226120"/>
            <a:ext cx="52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掌握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常用的人际沟通技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等腰三角形 41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等腰三角形 42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316D-6CB6-4CCE-8FB5-2D9D50BBA565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理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等腰三角形 15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等腰三角形 24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矩形 1"/>
          <p:cNvSpPr/>
          <p:nvPr/>
        </p:nvSpPr>
        <p:spPr>
          <a:xfrm>
            <a:off x="4924440" y="2413080"/>
            <a:ext cx="1171440" cy="979560"/>
          </a:xfrm>
          <a:prstGeom prst="rect">
            <a:avLst/>
          </a:prstGeom>
          <a:solidFill>
            <a:srgbClr val="f7caac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矩形 14"/>
          <p:cNvSpPr/>
          <p:nvPr/>
        </p:nvSpPr>
        <p:spPr>
          <a:xfrm>
            <a:off x="6095880" y="1903320"/>
            <a:ext cx="1503360" cy="1489320"/>
          </a:xfrm>
          <a:prstGeom prst="rect">
            <a:avLst/>
          </a:prstGeom>
          <a:solidFill>
            <a:srgbClr val="ffe599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矩形 16"/>
          <p:cNvSpPr/>
          <p:nvPr/>
        </p:nvSpPr>
        <p:spPr>
          <a:xfrm>
            <a:off x="4592520" y="3392640"/>
            <a:ext cx="1503360" cy="1406520"/>
          </a:xfrm>
          <a:prstGeom prst="rect">
            <a:avLst/>
          </a:prstGeom>
          <a:solidFill>
            <a:srgbClr val="c4e0b2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矩形 19"/>
          <p:cNvSpPr/>
          <p:nvPr/>
        </p:nvSpPr>
        <p:spPr>
          <a:xfrm>
            <a:off x="6095880" y="3392640"/>
            <a:ext cx="1024200" cy="979200"/>
          </a:xfrm>
          <a:prstGeom prst="rect">
            <a:avLst/>
          </a:prstGeom>
          <a:solidFill>
            <a:srgbClr val="9cc2e5"/>
          </a:solidFill>
          <a:ln w="1260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文本框 2"/>
          <p:cNvSpPr/>
          <p:nvPr/>
        </p:nvSpPr>
        <p:spPr>
          <a:xfrm>
            <a:off x="1276200" y="2054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人际沟通的概念和构成要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文本框 20"/>
          <p:cNvSpPr/>
          <p:nvPr/>
        </p:nvSpPr>
        <p:spPr>
          <a:xfrm>
            <a:off x="7962840" y="208116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人际沟通的种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文本框 2"/>
          <p:cNvSpPr/>
          <p:nvPr/>
        </p:nvSpPr>
        <p:spPr>
          <a:xfrm>
            <a:off x="1212840" y="371016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影响有效人际沟通的因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文本框 2"/>
          <p:cNvSpPr/>
          <p:nvPr/>
        </p:nvSpPr>
        <p:spPr>
          <a:xfrm>
            <a:off x="7969320" y="383076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常用的人际沟通技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nodeType="clickEffect" fill="hold">
                      <p:stCondLst>
                        <p:cond delay="0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9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1900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1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2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文本框 25"/>
          <p:cNvSpPr/>
          <p:nvPr/>
        </p:nvSpPr>
        <p:spPr>
          <a:xfrm>
            <a:off x="1079640" y="2228760"/>
            <a:ext cx="102409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沟通是信息发送者遵循一系列共同规则，凭借一定渠道（又称媒介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通道），将信息发送给接收者以到达互通信息的过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沟通是建立人际关系的基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人际沟通是指人们运用语言或非语言符号系统进行信息（思想、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、动作等）交流沟通的过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文本框 15"/>
          <p:cNvSpPr/>
          <p:nvPr/>
        </p:nvSpPr>
        <p:spPr>
          <a:xfrm>
            <a:off x="192240" y="257040"/>
            <a:ext cx="47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人际沟通的概念和构成要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概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2" name="组合 2"/>
          <p:cNvGrpSpPr/>
          <p:nvPr/>
        </p:nvGrpSpPr>
        <p:grpSpPr>
          <a:xfrm>
            <a:off x="882720" y="1677960"/>
            <a:ext cx="10426680" cy="4103640"/>
            <a:chOff x="882720" y="1677960"/>
            <a:chExt cx="10426680" cy="4103640"/>
          </a:xfrm>
        </p:grpSpPr>
        <p:sp>
          <p:nvSpPr>
            <p:cNvPr id="1913" name="矩形 16"/>
            <p:cNvSpPr/>
            <p:nvPr/>
          </p:nvSpPr>
          <p:spPr>
            <a:xfrm>
              <a:off x="882720" y="1677960"/>
              <a:ext cx="10426680" cy="410364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矩形 19"/>
            <p:cNvSpPr/>
            <p:nvPr/>
          </p:nvSpPr>
          <p:spPr>
            <a:xfrm>
              <a:off x="1006200" y="1818360"/>
              <a:ext cx="10101240" cy="382284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5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文本框 25"/>
          <p:cNvSpPr/>
          <p:nvPr/>
        </p:nvSpPr>
        <p:spPr>
          <a:xfrm>
            <a:off x="2540160" y="2224080"/>
            <a:ext cx="671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信息背景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信息发出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信息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信息传递途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信息接受者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反馈过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文本框 15"/>
          <p:cNvSpPr/>
          <p:nvPr/>
        </p:nvSpPr>
        <p:spPr>
          <a:xfrm>
            <a:off x="192240" y="257040"/>
            <a:ext cx="47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人际沟通的概念和构成要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人际沟通的构成要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5" name="组合 2"/>
          <p:cNvGrpSpPr/>
          <p:nvPr/>
        </p:nvGrpSpPr>
        <p:grpSpPr>
          <a:xfrm>
            <a:off x="826920" y="1677960"/>
            <a:ext cx="10427040" cy="3897360"/>
            <a:chOff x="826920" y="1677960"/>
            <a:chExt cx="10427040" cy="3897360"/>
          </a:xfrm>
        </p:grpSpPr>
        <p:sp>
          <p:nvSpPr>
            <p:cNvPr id="1926" name="矩形 16"/>
            <p:cNvSpPr/>
            <p:nvPr/>
          </p:nvSpPr>
          <p:spPr>
            <a:xfrm>
              <a:off x="826920" y="1677960"/>
              <a:ext cx="1042704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矩形 19"/>
            <p:cNvSpPr/>
            <p:nvPr/>
          </p:nvSpPr>
          <p:spPr>
            <a:xfrm>
              <a:off x="950400" y="1811160"/>
              <a:ext cx="1010160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8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文本框 25"/>
          <p:cNvSpPr/>
          <p:nvPr/>
        </p:nvSpPr>
        <p:spPr>
          <a:xfrm>
            <a:off x="1344600" y="2709720"/>
            <a:ext cx="82789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是指使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语言、文字或符号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的形式进行沟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为了与服务对象之间进行有效沟通，护士应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评估服务对象的语种及对语言的运用能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2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尽量避免使用医学术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人际沟通的种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一）语言性沟通（占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35%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1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8" dur="500"/>
                                        <p:tgtEl>
                                          <p:spTgt spid="1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1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8" name="组合 2"/>
          <p:cNvGrpSpPr/>
          <p:nvPr/>
        </p:nvGrpSpPr>
        <p:grpSpPr>
          <a:xfrm>
            <a:off x="826920" y="1677960"/>
            <a:ext cx="10427040" cy="3897360"/>
            <a:chOff x="826920" y="1677960"/>
            <a:chExt cx="10427040" cy="3897360"/>
          </a:xfrm>
        </p:grpSpPr>
        <p:sp>
          <p:nvSpPr>
            <p:cNvPr id="1939" name="矩形 16"/>
            <p:cNvSpPr/>
            <p:nvPr/>
          </p:nvSpPr>
          <p:spPr>
            <a:xfrm>
              <a:off x="826920" y="1677960"/>
              <a:ext cx="1042704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矩形 19"/>
            <p:cNvSpPr/>
            <p:nvPr/>
          </p:nvSpPr>
          <p:spPr>
            <a:xfrm>
              <a:off x="950400" y="1811160"/>
              <a:ext cx="1010160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文本框 25"/>
          <p:cNvSpPr/>
          <p:nvPr/>
        </p:nvSpPr>
        <p:spPr>
          <a:xfrm>
            <a:off x="938160" y="2117880"/>
            <a:ext cx="1024416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是指信息传递是通过身体姿势、面部表情、手势、眼神、空间距离等方式</a:t>
            </a:r>
            <a:r>
              <a:rPr b="0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特点：          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1)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真实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广泛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持续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4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情境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人际沟通的种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非语言性沟通（占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65%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1" name="组合 2"/>
          <p:cNvGrpSpPr/>
          <p:nvPr/>
        </p:nvGrpSpPr>
        <p:grpSpPr>
          <a:xfrm>
            <a:off x="841320" y="1665360"/>
            <a:ext cx="10426680" cy="3897360"/>
            <a:chOff x="841320" y="1665360"/>
            <a:chExt cx="10426680" cy="3897360"/>
          </a:xfrm>
        </p:grpSpPr>
        <p:sp>
          <p:nvSpPr>
            <p:cNvPr id="1952" name="矩形 16"/>
            <p:cNvSpPr/>
            <p:nvPr/>
          </p:nvSpPr>
          <p:spPr>
            <a:xfrm>
              <a:off x="8413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矩形 19"/>
            <p:cNvSpPr/>
            <p:nvPr/>
          </p:nvSpPr>
          <p:spPr>
            <a:xfrm>
              <a:off x="9648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文本框 25"/>
          <p:cNvSpPr/>
          <p:nvPr/>
        </p:nvSpPr>
        <p:spPr>
          <a:xfrm>
            <a:off x="1312920" y="2228760"/>
            <a:ext cx="932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非语言性沟通形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仪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包括相貌、身材、衣着、装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在护理工作中，患者的仪表可以为护士提供一些与患者健康状况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关的信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士整洁、美观、朴实、大方的仪表对建立良好护患关系能起到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极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人际沟通的种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非语言性沟通（占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65%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073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直角三角形 20"/>
          <p:cNvSpPr/>
          <p:nvPr/>
        </p:nvSpPr>
        <p:spPr>
          <a:xfrm flipH="1" flipV="1" rot="10800000">
            <a:off x="4986720" y="139716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文本框 25"/>
          <p:cNvSpPr/>
          <p:nvPr/>
        </p:nvSpPr>
        <p:spPr>
          <a:xfrm>
            <a:off x="1130400" y="2170080"/>
            <a:ext cx="950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按系统与环境的关系分类：    开放系统与闭合系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按组成系统的要素性质分类</a:t>
            </a:r>
            <a:r>
              <a:rPr b="1" lang="en-US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: 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然系统与人造系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按系统的运动状态分类</a:t>
            </a:r>
            <a:r>
              <a:rPr b="1" lang="en-US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:        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动态系统与静态系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按组成系统的要素性质</a:t>
            </a:r>
            <a:r>
              <a:rPr b="1" lang="en-US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:        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实体系统和概念系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矩形 17"/>
          <p:cNvSpPr/>
          <p:nvPr/>
        </p:nvSpPr>
        <p:spPr>
          <a:xfrm>
            <a:off x="1246320" y="1397160"/>
            <a:ext cx="3741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文本框 15"/>
          <p:cNvSpPr/>
          <p:nvPr/>
        </p:nvSpPr>
        <p:spPr>
          <a:xfrm>
            <a:off x="1622520" y="1460520"/>
            <a:ext cx="32036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系统的分类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4" name="组合 2"/>
          <p:cNvGrpSpPr/>
          <p:nvPr/>
        </p:nvGrpSpPr>
        <p:grpSpPr>
          <a:xfrm>
            <a:off x="841320" y="1665360"/>
            <a:ext cx="10426680" cy="3897360"/>
            <a:chOff x="841320" y="1665360"/>
            <a:chExt cx="10426680" cy="3897360"/>
          </a:xfrm>
        </p:grpSpPr>
        <p:sp>
          <p:nvSpPr>
            <p:cNvPr id="1965" name="矩形 16"/>
            <p:cNvSpPr/>
            <p:nvPr/>
          </p:nvSpPr>
          <p:spPr>
            <a:xfrm>
              <a:off x="8413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矩形 19"/>
            <p:cNvSpPr/>
            <p:nvPr/>
          </p:nvSpPr>
          <p:spPr>
            <a:xfrm>
              <a:off x="9648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文本框 25"/>
          <p:cNvSpPr/>
          <p:nvPr/>
        </p:nvSpPr>
        <p:spPr>
          <a:xfrm>
            <a:off x="1263600" y="2114640"/>
            <a:ext cx="638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非语言性沟通形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面部表情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是常用的非语言沟通方式，是沟通中最丰富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内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士应注意患者的面部表情，从中寻找信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士面部表情的基本功是“职业微笑”， 它是美的象征、爱的体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人际沟通的种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非语言性沟通（占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65%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7" name="图片 248847" descr="IMG_0566"/>
          <p:cNvPicPr/>
          <p:nvPr/>
        </p:nvPicPr>
        <p:blipFill>
          <a:blip r:embed="rId1"/>
          <a:stretch/>
        </p:blipFill>
        <p:spPr>
          <a:xfrm>
            <a:off x="7869240" y="2066760"/>
            <a:ext cx="271152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8" name="组合 2"/>
          <p:cNvGrpSpPr/>
          <p:nvPr/>
        </p:nvGrpSpPr>
        <p:grpSpPr>
          <a:xfrm>
            <a:off x="841320" y="1665360"/>
            <a:ext cx="10426680" cy="3897360"/>
            <a:chOff x="841320" y="1665360"/>
            <a:chExt cx="10426680" cy="3897360"/>
          </a:xfrm>
        </p:grpSpPr>
        <p:sp>
          <p:nvSpPr>
            <p:cNvPr id="1979" name="矩形 16"/>
            <p:cNvSpPr/>
            <p:nvPr/>
          </p:nvSpPr>
          <p:spPr>
            <a:xfrm>
              <a:off x="8413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矩形 19"/>
            <p:cNvSpPr/>
            <p:nvPr/>
          </p:nvSpPr>
          <p:spPr>
            <a:xfrm>
              <a:off x="9648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文本框 25"/>
          <p:cNvSpPr/>
          <p:nvPr/>
        </p:nvSpPr>
        <p:spPr>
          <a:xfrm>
            <a:off x="1009800" y="2228760"/>
            <a:ext cx="96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.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非语言性沟通形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3)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目光接触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目光既可表达和传递情感，又可显示个性的某些特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只有相互注视对方才能彼此沟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注视角度：平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注视部位：社交凝视区域，即以双眼为上线、唇心为下顶角所形成的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三角区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注视的时间：谈话时间的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0%-60%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，每次不超过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0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人际沟通的种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非语言性沟通（占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65%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1" name="组合 2"/>
          <p:cNvGrpSpPr/>
          <p:nvPr/>
        </p:nvGrpSpPr>
        <p:grpSpPr>
          <a:xfrm>
            <a:off x="841320" y="1665360"/>
            <a:ext cx="10426680" cy="3897360"/>
            <a:chOff x="841320" y="1665360"/>
            <a:chExt cx="10426680" cy="3897360"/>
          </a:xfrm>
        </p:grpSpPr>
        <p:sp>
          <p:nvSpPr>
            <p:cNvPr id="1992" name="矩形 16"/>
            <p:cNvSpPr/>
            <p:nvPr/>
          </p:nvSpPr>
          <p:spPr>
            <a:xfrm>
              <a:off x="8413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3" name="矩形 19"/>
            <p:cNvSpPr/>
            <p:nvPr/>
          </p:nvSpPr>
          <p:spPr>
            <a:xfrm>
              <a:off x="9648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文本框 25"/>
          <p:cNvSpPr/>
          <p:nvPr/>
        </p:nvSpPr>
        <p:spPr>
          <a:xfrm>
            <a:off x="1138320" y="2228760"/>
            <a:ext cx="956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非语言性沟通形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4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身体姿势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包括手势及其他的身体姿势，可反映人的精神状态、身体健康情况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自我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护士可以通过观察患者的身体姿态，收集有关病情信息，为诊断治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和护理提供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人际沟通的种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非语言性沟通（占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65%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组合 2"/>
          <p:cNvGrpSpPr/>
          <p:nvPr/>
        </p:nvGrpSpPr>
        <p:grpSpPr>
          <a:xfrm>
            <a:off x="841320" y="1665360"/>
            <a:ext cx="10426680" cy="3897360"/>
            <a:chOff x="841320" y="1665360"/>
            <a:chExt cx="10426680" cy="3897360"/>
          </a:xfrm>
        </p:grpSpPr>
        <p:sp>
          <p:nvSpPr>
            <p:cNvPr id="2005" name="矩形 16"/>
            <p:cNvSpPr/>
            <p:nvPr/>
          </p:nvSpPr>
          <p:spPr>
            <a:xfrm>
              <a:off x="8413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6" name="矩形 19"/>
            <p:cNvSpPr/>
            <p:nvPr/>
          </p:nvSpPr>
          <p:spPr>
            <a:xfrm>
              <a:off x="9648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文本框 25"/>
          <p:cNvSpPr/>
          <p:nvPr/>
        </p:nvSpPr>
        <p:spPr>
          <a:xfrm>
            <a:off x="1649520" y="2314440"/>
            <a:ext cx="457992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非语言性沟通形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5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触摸：又称专业性皮肤接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生理作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心理作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微软雅黑"/>
              </a:rPr>
              <a:t>在护理中的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人际沟通的种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非语言性沟通（占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65%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7" name="图片 251918" descr="IMG_0572"/>
          <p:cNvPicPr/>
          <p:nvPr/>
        </p:nvPicPr>
        <p:blipFill>
          <a:blip r:embed="rId1"/>
          <a:stretch/>
        </p:blipFill>
        <p:spPr>
          <a:xfrm>
            <a:off x="7051680" y="2197080"/>
            <a:ext cx="3200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8" name="组合 2"/>
          <p:cNvGrpSpPr/>
          <p:nvPr/>
        </p:nvGrpSpPr>
        <p:grpSpPr>
          <a:xfrm>
            <a:off x="841320" y="1679400"/>
            <a:ext cx="10426680" cy="3897360"/>
            <a:chOff x="841320" y="1679400"/>
            <a:chExt cx="10426680" cy="3897360"/>
          </a:xfrm>
        </p:grpSpPr>
        <p:sp>
          <p:nvSpPr>
            <p:cNvPr id="2019" name="矩形 16"/>
            <p:cNvSpPr/>
            <p:nvPr/>
          </p:nvSpPr>
          <p:spPr>
            <a:xfrm>
              <a:off x="841320" y="167940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0" name="矩形 19"/>
            <p:cNvSpPr/>
            <p:nvPr/>
          </p:nvSpPr>
          <p:spPr>
            <a:xfrm>
              <a:off x="964800" y="181260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文本框 25"/>
          <p:cNvSpPr/>
          <p:nvPr/>
        </p:nvSpPr>
        <p:spPr>
          <a:xfrm>
            <a:off x="1009800" y="2228760"/>
            <a:ext cx="1005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非语言性沟通形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(6)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空间距离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亲密距离：距离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＜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0.5m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适用于较亲密的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个人距离：双方距离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0.5-1.2m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适合于亲朋好友交谈，是护患双方进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有效沟通的理想距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社交距离：双方相距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2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7m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适用于工作性或一般性社会交往活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公众距离：双方相距在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.7m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以上   适用于护理健康讲座、课堂教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人际沟通的种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文本框 21"/>
          <p:cNvSpPr/>
          <p:nvPr/>
        </p:nvSpPr>
        <p:spPr>
          <a:xfrm>
            <a:off x="1525680" y="140976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二）非语言性沟通（占</a:t>
            </a:r>
            <a:r>
              <a:rPr b="0" lang="en-US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65%</a:t>
            </a:r>
            <a:r>
              <a:rPr b="0" lang="zh-CN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1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2032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3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4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文本框 25"/>
          <p:cNvSpPr/>
          <p:nvPr/>
        </p:nvSpPr>
        <p:spPr>
          <a:xfrm>
            <a:off x="1079640" y="2228760"/>
            <a:ext cx="1024092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一）个人因素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信息发出者和接受者生理因素、情绪状态、知识水平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    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社会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二）信息因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三）环境因素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物理和社会环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四）沟通技巧因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         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改变话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         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主观判断或匆忙下结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             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虚假、不当的安慰及针对性不强的解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影响有效沟通的因素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3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2044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6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文本框 25"/>
          <p:cNvSpPr/>
          <p:nvPr/>
        </p:nvSpPr>
        <p:spPr>
          <a:xfrm>
            <a:off x="1246320" y="2852640"/>
            <a:ext cx="100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认真倾听，适当反应，获取信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四、常用的人际沟通技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一）倾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2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5" name="组合 2"/>
          <p:cNvGrpSpPr/>
          <p:nvPr/>
        </p:nvGrpSpPr>
        <p:grpSpPr>
          <a:xfrm>
            <a:off x="882720" y="1692360"/>
            <a:ext cx="10426680" cy="3897360"/>
            <a:chOff x="882720" y="1692360"/>
            <a:chExt cx="10426680" cy="3897360"/>
          </a:xfrm>
        </p:grpSpPr>
        <p:sp>
          <p:nvSpPr>
            <p:cNvPr id="2056" name="矩形 16"/>
            <p:cNvSpPr/>
            <p:nvPr/>
          </p:nvSpPr>
          <p:spPr>
            <a:xfrm>
              <a:off x="882720" y="1692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7" name="矩形 19"/>
            <p:cNvSpPr/>
            <p:nvPr/>
          </p:nvSpPr>
          <p:spPr>
            <a:xfrm>
              <a:off x="1006200" y="1825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8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文本框 25"/>
          <p:cNvSpPr/>
          <p:nvPr/>
        </p:nvSpPr>
        <p:spPr>
          <a:xfrm>
            <a:off x="1214280" y="2575080"/>
            <a:ext cx="907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正确运用有关表达情感的词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适时应用引导性谈话，鼓励患者表达自己的情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恰当运用移情，建立护患间的信任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四、常用的人际沟通技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矩形 17"/>
          <p:cNvSpPr/>
          <p:nvPr/>
        </p:nvSpPr>
        <p:spPr>
          <a:xfrm>
            <a:off x="1246320" y="139716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二）反映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微软雅黑"/>
              </a:rPr>
              <a:t>—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核实信息的方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2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2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2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7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2068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9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0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文本框 25"/>
          <p:cNvSpPr/>
          <p:nvPr/>
        </p:nvSpPr>
        <p:spPr>
          <a:xfrm>
            <a:off x="1176480" y="2311560"/>
            <a:ext cx="90756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提问的方式：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封闭式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开放式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提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提问的技巧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善于组织提问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注意把握提问的时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注意提问的语气、语调和句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避免诱导式提问和不愉快的提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四、常用的人际沟通技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矩形 17"/>
          <p:cNvSpPr/>
          <p:nvPr/>
        </p:nvSpPr>
        <p:spPr>
          <a:xfrm>
            <a:off x="1260360" y="1424160"/>
            <a:ext cx="746784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微软雅黑"/>
              </a:rPr>
              <a:t>（三）提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2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2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2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2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2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20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9" name="组合 2"/>
          <p:cNvGrpSpPr/>
          <p:nvPr/>
        </p:nvGrpSpPr>
        <p:grpSpPr>
          <a:xfrm>
            <a:off x="882720" y="1677960"/>
            <a:ext cx="10426680" cy="3897360"/>
            <a:chOff x="882720" y="1677960"/>
            <a:chExt cx="10426680" cy="3897360"/>
          </a:xfrm>
        </p:grpSpPr>
        <p:sp>
          <p:nvSpPr>
            <p:cNvPr id="2080" name="矩形 16"/>
            <p:cNvSpPr/>
            <p:nvPr/>
          </p:nvSpPr>
          <p:spPr>
            <a:xfrm>
              <a:off x="882720" y="16779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矩形 19"/>
            <p:cNvSpPr/>
            <p:nvPr/>
          </p:nvSpPr>
          <p:spPr>
            <a:xfrm>
              <a:off x="1006200" y="18111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2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文本框 25"/>
          <p:cNvSpPr/>
          <p:nvPr/>
        </p:nvSpPr>
        <p:spPr>
          <a:xfrm>
            <a:off x="1844640" y="2490840"/>
            <a:ext cx="907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r>
              <a:rPr b="1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四）重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r>
              <a:rPr b="1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五）澄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 </a:t>
            </a:r>
            <a:r>
              <a:rPr b="1" sz="2800" spc="-1" strike="noStrike">
                <a:solidFill>
                  <a:srgbClr val="ffff66"/>
                </a:solidFill>
                <a:latin typeface="微软雅黑"/>
                <a:ea typeface="微软雅黑"/>
              </a:rPr>
              <a:t>（六）沉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四、常用的人际沟通技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矩形 17"/>
          <p:cNvSpPr/>
          <p:nvPr/>
        </p:nvSpPr>
        <p:spPr>
          <a:xfrm>
            <a:off x="1231920" y="1411200"/>
            <a:ext cx="7494480" cy="66060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2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6" dur="500"/>
                                        <p:tgtEl>
                                          <p:spTgt spid="2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086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8" name="直角三角形 20"/>
          <p:cNvSpPr/>
          <p:nvPr/>
        </p:nvSpPr>
        <p:spPr>
          <a:xfrm flipH="1" flipV="1" rot="10800000">
            <a:off x="4986720" y="139716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矩形 17"/>
          <p:cNvSpPr/>
          <p:nvPr/>
        </p:nvSpPr>
        <p:spPr>
          <a:xfrm>
            <a:off x="1246320" y="1397160"/>
            <a:ext cx="3741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5" name="Picture 4" descr="系统功能"/>
          <p:cNvPicPr/>
          <p:nvPr/>
        </p:nvPicPr>
        <p:blipFill>
          <a:blip r:embed="rId1"/>
          <a:stretch/>
        </p:blipFill>
        <p:spPr>
          <a:xfrm>
            <a:off x="1384200" y="2054160"/>
            <a:ext cx="9068040" cy="3341880"/>
          </a:xfrm>
          <a:prstGeom prst="rect">
            <a:avLst/>
          </a:prstGeom>
          <a:ln w="0">
            <a:noFill/>
          </a:ln>
        </p:spPr>
      </p:pic>
      <p:sp>
        <p:nvSpPr>
          <p:cNvPr id="1096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文本框 15"/>
          <p:cNvSpPr/>
          <p:nvPr/>
        </p:nvSpPr>
        <p:spPr>
          <a:xfrm>
            <a:off x="1622520" y="1460520"/>
            <a:ext cx="32036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系统的分类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1" name="组合 2"/>
          <p:cNvGrpSpPr/>
          <p:nvPr/>
        </p:nvGrpSpPr>
        <p:grpSpPr>
          <a:xfrm>
            <a:off x="882720" y="1689120"/>
            <a:ext cx="10426680" cy="3897360"/>
            <a:chOff x="882720" y="1689120"/>
            <a:chExt cx="10426680" cy="3897360"/>
          </a:xfrm>
        </p:grpSpPr>
        <p:sp>
          <p:nvSpPr>
            <p:cNvPr id="2092" name="矩形 16"/>
            <p:cNvSpPr/>
            <p:nvPr/>
          </p:nvSpPr>
          <p:spPr>
            <a:xfrm>
              <a:off x="882720" y="168912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3" name="矩形 19"/>
            <p:cNvSpPr/>
            <p:nvPr/>
          </p:nvSpPr>
          <p:spPr>
            <a:xfrm>
              <a:off x="1006200" y="182232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4" name="直角三角形 20"/>
          <p:cNvSpPr/>
          <p:nvPr/>
        </p:nvSpPr>
        <p:spPr>
          <a:xfrm flipH="1" flipV="1" rot="10800000">
            <a:off x="8658360" y="1316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文本框 25"/>
          <p:cNvSpPr/>
          <p:nvPr/>
        </p:nvSpPr>
        <p:spPr>
          <a:xfrm>
            <a:off x="996840" y="1967040"/>
            <a:ext cx="1021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微软雅黑"/>
              </a:rPr>
              <a:t>  ◆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系统论是有若干相互联系、相互作用和相互制约的要素组成的具有一定结构和功能的有机整体。开发系统与环境通过输入、输出、反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个环节进行物质、能量、信息的交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 ◆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基本需要层次论（马斯洛）的内容有生理需要、安全需要、爱与归属的需要、尊重的需要、自我实现的需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 ◆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对压力的防卫有生理与心理的防卫、自力救助和专业辅助。适应是应对的最终目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直角三角形 27"/>
          <p:cNvSpPr/>
          <p:nvPr/>
        </p:nvSpPr>
        <p:spPr>
          <a:xfrm flipV="1" rot="10800000">
            <a:off x="911160" y="129744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相关理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矩形 17"/>
          <p:cNvSpPr/>
          <p:nvPr/>
        </p:nvSpPr>
        <p:spPr>
          <a:xfrm>
            <a:off x="1219320" y="1312920"/>
            <a:ext cx="7467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3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2104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5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6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文本框 25"/>
          <p:cNvSpPr/>
          <p:nvPr/>
        </p:nvSpPr>
        <p:spPr>
          <a:xfrm>
            <a:off x="871560" y="2382840"/>
            <a:ext cx="1021248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◆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成长和发展的基本概念。弗洛伊德人格结构的</a:t>
            </a:r>
            <a:r>
              <a:rPr b="1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个部分，心理发展的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个阶段；艾瑞克森心理社会发展过程（</a:t>
            </a:r>
            <a:r>
              <a:rPr b="1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个阶段）；皮亚杰认知发展过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程（</a:t>
            </a:r>
            <a:r>
              <a:rPr b="1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个阶段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◆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沟通是人与人之间的思想和信息的交换。沟通有语言和非语言沟通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文本框 15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护理学相关理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矩形 17"/>
          <p:cNvSpPr/>
          <p:nvPr/>
        </p:nvSpPr>
        <p:spPr>
          <a:xfrm>
            <a:off x="1231920" y="1382760"/>
            <a:ext cx="74818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微软雅黑"/>
              </a:rPr>
              <a:t>课堂小结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文本框 12"/>
          <p:cNvSpPr/>
          <p:nvPr/>
        </p:nvSpPr>
        <p:spPr>
          <a:xfrm>
            <a:off x="192240" y="257040"/>
            <a:ext cx="47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护理学相关理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8" name="图片 14" descr=""/>
          <p:cNvPicPr/>
          <p:nvPr/>
        </p:nvPicPr>
        <p:blipFill>
          <a:blip r:embed="rId1"/>
          <a:stretch/>
        </p:blipFill>
        <p:spPr>
          <a:xfrm>
            <a:off x="4146480" y="1692360"/>
            <a:ext cx="3897360" cy="3897360"/>
          </a:xfrm>
          <a:prstGeom prst="rect">
            <a:avLst/>
          </a:prstGeom>
          <a:ln w="0">
            <a:noFill/>
          </a:ln>
        </p:spPr>
      </p:pic>
      <p:sp>
        <p:nvSpPr>
          <p:cNvPr id="2119" name="矩形 15"/>
          <p:cNvSpPr/>
          <p:nvPr/>
        </p:nvSpPr>
        <p:spPr>
          <a:xfrm>
            <a:off x="8045280" y="1692360"/>
            <a:ext cx="3384720" cy="3897360"/>
          </a:xfrm>
          <a:prstGeom prst="rect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矩形 16"/>
          <p:cNvSpPr/>
          <p:nvPr/>
        </p:nvSpPr>
        <p:spPr>
          <a:xfrm>
            <a:off x="762120" y="1692360"/>
            <a:ext cx="3384360" cy="3897360"/>
          </a:xfrm>
          <a:prstGeom prst="rect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矩形 17"/>
          <p:cNvSpPr/>
          <p:nvPr/>
        </p:nvSpPr>
        <p:spPr>
          <a:xfrm>
            <a:off x="404640" y="1692360"/>
            <a:ext cx="3743640" cy="6620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矩形 18"/>
          <p:cNvSpPr/>
          <p:nvPr/>
        </p:nvSpPr>
        <p:spPr>
          <a:xfrm>
            <a:off x="8045280" y="4927680"/>
            <a:ext cx="3740400" cy="6620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直角三角形 19"/>
          <p:cNvSpPr/>
          <p:nvPr/>
        </p:nvSpPr>
        <p:spPr>
          <a:xfrm>
            <a:off x="11430000" y="4646520"/>
            <a:ext cx="35568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直角三角形 20"/>
          <p:cNvSpPr/>
          <p:nvPr/>
        </p:nvSpPr>
        <p:spPr>
          <a:xfrm rot="10800000">
            <a:off x="404280" y="235440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文本框 21"/>
          <p:cNvSpPr/>
          <p:nvPr/>
        </p:nvSpPr>
        <p:spPr>
          <a:xfrm>
            <a:off x="1512720" y="173052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文本框 22"/>
          <p:cNvSpPr/>
          <p:nvPr/>
        </p:nvSpPr>
        <p:spPr>
          <a:xfrm>
            <a:off x="9099720" y="4965840"/>
            <a:ext cx="16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直角三角形 23"/>
          <p:cNvSpPr/>
          <p:nvPr/>
        </p:nvSpPr>
        <p:spPr>
          <a:xfrm rot="16200000">
            <a:off x="7377120" y="4922640"/>
            <a:ext cx="662040" cy="671400"/>
          </a:xfrm>
          <a:prstGeom prst="rtTriangle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直角三角形 24"/>
          <p:cNvSpPr/>
          <p:nvPr/>
        </p:nvSpPr>
        <p:spPr>
          <a:xfrm rot="5400000">
            <a:off x="4150440" y="1684800"/>
            <a:ext cx="662040" cy="673200"/>
          </a:xfrm>
          <a:prstGeom prst="rtTriangle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文本框 25"/>
          <p:cNvSpPr/>
          <p:nvPr/>
        </p:nvSpPr>
        <p:spPr>
          <a:xfrm>
            <a:off x="1035000" y="2535120"/>
            <a:ext cx="283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王某，男性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，因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尿管结石急诊入院，入院时腰部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腹部剧烈疼痛，展转不安，焦虑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烦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文本框 26"/>
          <p:cNvSpPr/>
          <p:nvPr/>
        </p:nvSpPr>
        <p:spPr>
          <a:xfrm>
            <a:off x="8318520" y="1881360"/>
            <a:ext cx="2838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护士小张应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首先给予病人哪方面的需要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了解此时威胁病人的压力源有哪些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）怎样帮助病人应对此时的压力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EB6D-B38F-4BBE-B1BA-CDBD1CB7A5B1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4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2135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6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文本框 25"/>
          <p:cNvSpPr/>
          <p:nvPr/>
        </p:nvSpPr>
        <p:spPr>
          <a:xfrm>
            <a:off x="996840" y="1967040"/>
            <a:ext cx="1018404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A3/A4</a:t>
            </a:r>
            <a:r>
              <a:rPr b="1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型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（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1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～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3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题共用题干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患者女性，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8</a:t>
            </a:r>
            <a:r>
              <a:rPr b="1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，出租车司机，因长期熬夜劳累致“心绞痛”发作而急诊入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1. </a:t>
            </a:r>
            <a:r>
              <a:rPr b="1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患者目前需要满足那一层次的需要（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</a:t>
            </a:r>
            <a:r>
              <a:rPr b="1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A. </a:t>
            </a:r>
            <a:r>
              <a:rPr b="1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安全          </a:t>
            </a:r>
            <a:r>
              <a:rPr b="1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B.</a:t>
            </a:r>
            <a:r>
              <a:rPr b="1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生理           </a:t>
            </a:r>
            <a:r>
              <a:rPr b="1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C.</a:t>
            </a:r>
            <a:r>
              <a:rPr b="1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爱与归属     </a:t>
            </a:r>
            <a:r>
              <a:rPr b="1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D.</a:t>
            </a:r>
            <a:r>
              <a:rPr b="1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尊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文本框 15"/>
          <p:cNvSpPr/>
          <p:nvPr/>
        </p:nvSpPr>
        <p:spPr>
          <a:xfrm>
            <a:off x="192240" y="257040"/>
            <a:ext cx="47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护理学相关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矩形 17"/>
          <p:cNvSpPr/>
          <p:nvPr/>
        </p:nvSpPr>
        <p:spPr>
          <a:xfrm>
            <a:off x="1246320" y="1380960"/>
            <a:ext cx="7467480" cy="66060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文本框 21"/>
          <p:cNvSpPr/>
          <p:nvPr/>
        </p:nvSpPr>
        <p:spPr>
          <a:xfrm>
            <a:off x="1496880" y="1353960"/>
            <a:ext cx="69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评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Text Box 5"/>
          <p:cNvSpPr/>
          <p:nvPr/>
        </p:nvSpPr>
        <p:spPr>
          <a:xfrm>
            <a:off x="6311880" y="3975120"/>
            <a:ext cx="43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8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2149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0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1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文本框 25"/>
          <p:cNvSpPr/>
          <p:nvPr/>
        </p:nvSpPr>
        <p:spPr>
          <a:xfrm>
            <a:off x="996840" y="1967040"/>
            <a:ext cx="1021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患者病情稳定后，请求护士将同病室的患者介绍与她认识，这属于满足（   ）</a:t>
            </a: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生理的需要           </a:t>
            </a: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安全的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</a:t>
            </a: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爱与归属的需要     </a:t>
            </a: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尊重的需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文本框 15"/>
          <p:cNvSpPr/>
          <p:nvPr/>
        </p:nvSpPr>
        <p:spPr>
          <a:xfrm>
            <a:off x="192240" y="257040"/>
            <a:ext cx="47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护理学相关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矩形 17"/>
          <p:cNvSpPr/>
          <p:nvPr/>
        </p:nvSpPr>
        <p:spPr>
          <a:xfrm>
            <a:off x="1247760" y="1353960"/>
            <a:ext cx="7467480" cy="66060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文本框 21"/>
          <p:cNvSpPr/>
          <p:nvPr/>
        </p:nvSpPr>
        <p:spPr>
          <a:xfrm>
            <a:off x="1525680" y="140976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评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Text Box 5"/>
          <p:cNvSpPr/>
          <p:nvPr/>
        </p:nvSpPr>
        <p:spPr>
          <a:xfrm>
            <a:off x="7610400" y="3397320"/>
            <a:ext cx="376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Text Box 10"/>
          <p:cNvSpPr/>
          <p:nvPr/>
        </p:nvSpPr>
        <p:spPr>
          <a:xfrm>
            <a:off x="1050840" y="3583080"/>
            <a:ext cx="959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在与患者交谈过程中，可引起沟通障碍的是（   ）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与患者交谈经常保持目光接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交谈过程中适当沉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适时轻轻抚摸患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3b3838"/>
                </a:solidFill>
                <a:latin typeface="微软雅黑"/>
                <a:ea typeface="微软雅黑"/>
              </a:rPr>
              <a:t>交谈过程中随意改变话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Text Box 5"/>
          <p:cNvSpPr/>
          <p:nvPr/>
        </p:nvSpPr>
        <p:spPr>
          <a:xfrm>
            <a:off x="1727280" y="2111400"/>
            <a:ext cx="43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10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4" name="组合 2"/>
          <p:cNvGrpSpPr/>
          <p:nvPr/>
        </p:nvGrpSpPr>
        <p:grpSpPr>
          <a:xfrm>
            <a:off x="882720" y="1690560"/>
            <a:ext cx="10426680" cy="3897360"/>
            <a:chOff x="882720" y="1690560"/>
            <a:chExt cx="10426680" cy="3897360"/>
          </a:xfrm>
        </p:grpSpPr>
        <p:sp>
          <p:nvSpPr>
            <p:cNvPr id="2165" name="矩形 16"/>
            <p:cNvSpPr/>
            <p:nvPr/>
          </p:nvSpPr>
          <p:spPr>
            <a:xfrm>
              <a:off x="882720" y="16905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矩形 19"/>
            <p:cNvSpPr/>
            <p:nvPr/>
          </p:nvSpPr>
          <p:spPr>
            <a:xfrm>
              <a:off x="1006200" y="18237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7" name="直角三角形 20"/>
          <p:cNvSpPr/>
          <p:nvPr/>
        </p:nvSpPr>
        <p:spPr>
          <a:xfrm flipH="1" flipV="1" rot="10800000">
            <a:off x="8713800" y="1398960"/>
            <a:ext cx="357120" cy="2811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文本框 25"/>
          <p:cNvSpPr/>
          <p:nvPr/>
        </p:nvSpPr>
        <p:spPr>
          <a:xfrm>
            <a:off x="990720" y="2189160"/>
            <a:ext cx="1021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李某，女，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43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岁，诊断为宫颈癌期，得知病情后沉默不语不愿与任何人交流。你作为护士应用沟通技巧，对该患者进行护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学生分组进行角色扮演，每</a:t>
            </a:r>
            <a:r>
              <a:rPr b="1" lang="en-US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2-3</a:t>
            </a: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人一组，分别轮流扮演护士、患者和家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文本框 15"/>
          <p:cNvSpPr/>
          <p:nvPr/>
        </p:nvSpPr>
        <p:spPr>
          <a:xfrm>
            <a:off x="192240" y="257040"/>
            <a:ext cx="47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护理学相关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矩形 17"/>
          <p:cNvSpPr/>
          <p:nvPr/>
        </p:nvSpPr>
        <p:spPr>
          <a:xfrm>
            <a:off x="1249200" y="1395360"/>
            <a:ext cx="7467840" cy="66060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文本框 21"/>
          <p:cNvSpPr/>
          <p:nvPr/>
        </p:nvSpPr>
        <p:spPr>
          <a:xfrm>
            <a:off x="1387440" y="1353960"/>
            <a:ext cx="69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角色扮演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矩形 11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文本框 12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微软雅黑"/>
              </a:rPr>
              <a:t>护理学相关理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直角三角形 13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等腰三角形 24">
            <a:hlinkClick r:id="rId1" action="ppaction://hlinksldjump"/>
          </p:cNvPr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文本框 1"/>
          <p:cNvSpPr/>
          <p:nvPr/>
        </p:nvSpPr>
        <p:spPr>
          <a:xfrm>
            <a:off x="3987000" y="2552760"/>
            <a:ext cx="421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微软雅黑"/>
                <a:ea typeface="微软雅黑"/>
              </a:rPr>
              <a:t>Thank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等腰三角形 17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组合 2"/>
          <p:cNvGrpSpPr/>
          <p:nvPr/>
        </p:nvGrpSpPr>
        <p:grpSpPr>
          <a:xfrm>
            <a:off x="882720" y="1665360"/>
            <a:ext cx="10426680" cy="3897360"/>
            <a:chOff x="882720" y="1665360"/>
            <a:chExt cx="10426680" cy="3897360"/>
          </a:xfrm>
        </p:grpSpPr>
        <p:sp>
          <p:nvSpPr>
            <p:cNvPr id="1099" name="矩形 16"/>
            <p:cNvSpPr/>
            <p:nvPr/>
          </p:nvSpPr>
          <p:spPr>
            <a:xfrm>
              <a:off x="882720" y="1665360"/>
              <a:ext cx="10426680" cy="3897360"/>
            </a:xfrm>
            <a:prstGeom prst="rect">
              <a:avLst/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矩形 19"/>
            <p:cNvSpPr/>
            <p:nvPr/>
          </p:nvSpPr>
          <p:spPr>
            <a:xfrm>
              <a:off x="1006200" y="1798560"/>
              <a:ext cx="10101240" cy="363096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直角三角形 20"/>
          <p:cNvSpPr/>
          <p:nvPr/>
        </p:nvSpPr>
        <p:spPr>
          <a:xfrm flipH="1" flipV="1" rot="10800000">
            <a:off x="4986720" y="1397160"/>
            <a:ext cx="35748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25"/>
          <p:cNvSpPr/>
          <p:nvPr/>
        </p:nvSpPr>
        <p:spPr>
          <a:xfrm>
            <a:off x="2309760" y="2066760"/>
            <a:ext cx="279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整体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相关性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层次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动态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微软雅黑"/>
                <a:ea typeface="微软雅黑"/>
              </a:rPr>
              <a:t>目的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等腰三角形 1"/>
          <p:cNvSpPr/>
          <p:nvPr/>
        </p:nvSpPr>
        <p:spPr>
          <a:xfrm rot="2741400">
            <a:off x="11346120" y="5741280"/>
            <a:ext cx="1511280" cy="1303560"/>
          </a:xfrm>
          <a:prstGeom prst="triangle">
            <a:avLst>
              <a:gd name="adj" fmla="val 50000"/>
            </a:avLst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等腰三角形 3"/>
          <p:cNvSpPr/>
          <p:nvPr/>
        </p:nvSpPr>
        <p:spPr>
          <a:xfrm>
            <a:off x="10747440" y="6477120"/>
            <a:ext cx="442800" cy="380880"/>
          </a:xfrm>
          <a:prstGeom prst="triangle">
            <a:avLst>
              <a:gd name="adj" fmla="val 50000"/>
            </a:avLst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角三角形 27"/>
          <p:cNvSpPr/>
          <p:nvPr/>
        </p:nvSpPr>
        <p:spPr>
          <a:xfrm flipV="1" rot="10800000">
            <a:off x="882720" y="1397160"/>
            <a:ext cx="357120" cy="28080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14"/>
          <p:cNvSpPr/>
          <p:nvPr/>
        </p:nvSpPr>
        <p:spPr>
          <a:xfrm>
            <a:off x="0" y="257040"/>
            <a:ext cx="5114880" cy="5698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角三角形 18"/>
          <p:cNvSpPr/>
          <p:nvPr/>
        </p:nvSpPr>
        <p:spPr>
          <a:xfrm flipV="1">
            <a:off x="4259160" y="826920"/>
            <a:ext cx="855720" cy="174960"/>
          </a:xfrm>
          <a:prstGeom prst="rtTriangl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矩形 17"/>
          <p:cNvSpPr/>
          <p:nvPr/>
        </p:nvSpPr>
        <p:spPr>
          <a:xfrm>
            <a:off x="1246320" y="1397160"/>
            <a:ext cx="3741480" cy="660240"/>
          </a:xfrm>
          <a:prstGeom prst="rect">
            <a:avLst/>
          </a:prstGeom>
          <a:solidFill>
            <a:srgbClr val="33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9" name="Picture 11" descr="系统层次"/>
          <p:cNvPicPr/>
          <p:nvPr/>
        </p:nvPicPr>
        <p:blipFill>
          <a:blip r:embed="rId1"/>
          <a:stretch/>
        </p:blipFill>
        <p:spPr>
          <a:xfrm>
            <a:off x="5627520" y="2048040"/>
            <a:ext cx="4896000" cy="3333600"/>
          </a:xfrm>
          <a:prstGeom prst="rect">
            <a:avLst/>
          </a:prstGeom>
          <a:ln w="0">
            <a:noFill/>
          </a:ln>
        </p:spPr>
      </p:pic>
      <p:sp>
        <p:nvSpPr>
          <p:cNvPr id="1110" name="文本框 15"/>
          <p:cNvSpPr/>
          <p:nvPr/>
        </p:nvSpPr>
        <p:spPr>
          <a:xfrm>
            <a:off x="1246320" y="144468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系统的基本属性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文本框 15"/>
          <p:cNvSpPr/>
          <p:nvPr/>
        </p:nvSpPr>
        <p:spPr>
          <a:xfrm>
            <a:off x="192240" y="257040"/>
            <a:ext cx="473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02:36:00Z</dcterms:created>
  <dc:creator>nj</dc:creator>
  <dc:description/>
  <cp:keywords/>
  <dc:language>en-US</dc:language>
  <cp:lastModifiedBy>崔 博</cp:lastModifiedBy>
  <dcterms:modified xsi:type="dcterms:W3CDTF">2019-12-31T02:58:06Z</dcterms:modified>
  <cp:revision>27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